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D43E4BC-F9A3-4FF0-BC0C-9F5E9206AD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D17B0BF-FA2B-469C-AADF-043AB96446A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73DF6D9-58C1-4CC4-9919-91236808B61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8F5E410-696F-4326-B3CF-B4B11DB6026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E2D105E-2BF3-42F5-A357-1D0C3299876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F2BDB5E-07B2-4BFC-94E6-00F1587E1BF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0D12893-C8D5-4895-99CB-59805351331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D1C627D-E6EB-4C31-8D5D-DA4F4FA3CE0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6006A80-F8E5-4701-85D8-DB8263D22F8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F4B5D50-6918-4FC2-B1DB-23AFE3EF1C5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91E2E5-4848-4A56-8348-85A0450074C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78A090-CEE0-45F6-9F56-CF5DA58598C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0F556C0-B0BD-46BB-A3B2-7CA71D0E712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4A17014-2A6B-4851-8328-70C4C5471DC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CF883CC-DDCF-433B-A39B-E10EA5A06A2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7E1978A-A15A-45F0-BF2F-8D1BA2640D3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C3DDDD2-2596-47C2-866D-B5A9CC6802E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E4ED9DE-417A-46F8-A5A4-FB0544CE5A1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5545D5-BABA-4102-BADF-6E1615C6F18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5FD6671-3324-4B0C-85E2-776530EAB52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6AC032-A8E1-496C-8F15-8F4945D66BD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8D2BD68-0C60-47A1-9B23-8380C3B51BC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E83F8A-027C-496D-975E-D902A22E57E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387-3CE2-4738-BFC6-AC9F55CF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349-405E-45BD-8A94-45C8E254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AE1-EEDB-4B81-BDA1-357C5F40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AB0-7434-4988-9C4B-39D540CC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3FFD-6321-4943-926D-E463202B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42BA-193D-4103-83AA-EEF059C7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2A57-3DB0-4245-A659-71B69A33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CC2D-ADFF-4337-9985-2A629752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C4D5-F318-4081-B6E5-FE5DEEA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CC35-9B41-4DA8-9805-F290DF63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AC1-DE96-4B1E-B6F4-652E18E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599-93A7-4265-96C4-F33C171E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228-CC00-459B-B9BE-D2EB442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76A2-6706-4954-8569-A2B9E9B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071D-4592-48BB-AFE3-53D7FA2D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88CD-2952-455D-BBE9-893B7C69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512E-6BFC-489D-A817-2C57DBC2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D6C-2482-4285-B467-B5644E96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6B8-B06C-44B3-9F43-6C8E060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AFC-8B17-42D0-A3D3-E7D3E213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92D-49AF-4B30-B334-3F8CE4AB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1F1-1D74-49F1-A861-27750EB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57B-4DD4-4051-8A04-BD634715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D3C-A872-434B-9C13-115B7DD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7B70-A4ED-481A-9DA9-63D71D287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FB96-5EE7-4996-A991-075B5A966BE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8FE-ECF9-4B3F-A232-11FF7258B51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C9E8-9C76-4960-A915-8A59E6D2AB2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ting, pacchetti e ho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outing: Processo di inoltro di un pacchetto attraverso reti interconnesse, da un host di origine a un host di destinazione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Host: Computer che esegue un programma o servizio server utilizzato da client di rete o remoti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acchetto: Unità di trasmissione del livello di rete OSI (Open Systems Interconnection) costituito da informazioni binarie che rappresentano sia i dati che un'intestazione contenente un numero di identificazione, indirizzi di origine e destinazione e dati di controllo degli errori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8928-E4D8-4217-A30C-54FB4C0070A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chitettura di TCP/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tocollo TCP/IP (Transmission Control Protocol/Internet Protocol) è il protocollo di rete più diffuso ed è alla base di tutte le comunicazioni Internet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funzioni di instradamento di TCP/IP garantiscono la massima flessibilità in una ret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una rete TCP/IP è necessario fornire gli indirizzi IP ai client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612-4A53-4047-ACDD-99D33FF0D30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dirizzi 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rizzo a 32 bit utilizzato per identificare un nodo in un sistema di reti interconnesse I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ogni nodo nella reti interconnesse IP deve essere assegnato un indirizzo IP univoco, composto dall'ID di rete e dall'ID univoco dell'host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Questo tipo di indirizzo è in genere rappresentato dal valore decimale di ogni ottetto separato da un punto, ad esempio 157.27.192.1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È possibile configurare l'indirizzo IP in modo statico o dinamico tramite DHC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0A86-0DD9-45CC-9E84-A3214C907E7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DHC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tocollo di servizio TCP/IP che consente la configurazione dinamica degli indirizzi IP host e la distribuzione di altri parametri di configurazione ai client appropriati sulla ret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tocollo DHCP utilizza un modello client/server nel quale il server DHCP gestisce in modo centralizzato gli indirizzi IP utilizzati nella rete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client che supportano il protocollo DHCP possono quindi richiedere e ottenere il lease per un indirizzo IP dal server DHCP durante il processo di avvio in ret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64EB-5F78-464D-B8C0-5B64121DF76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opologie di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opologie per architetture distribui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d anell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line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opologie per architetture centralizzate (client-server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stell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3707-EF64-4C61-8A34-32400A863C6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architettura C/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9" name="Picture 4" descr="BD06908_"/>
          <p:cNvPicPr/>
          <p:nvPr/>
        </p:nvPicPr>
        <p:blipFill>
          <a:blip r:embed="rId1"/>
          <a:stretch/>
        </p:blipFill>
        <p:spPr>
          <a:xfrm>
            <a:off x="1447920" y="5867280"/>
            <a:ext cx="506160" cy="56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BD06908_"/>
          <p:cNvPicPr/>
          <p:nvPr/>
        </p:nvPicPr>
        <p:blipFill>
          <a:blip r:embed="rId2"/>
          <a:stretch/>
        </p:blipFill>
        <p:spPr>
          <a:xfrm>
            <a:off x="7924680" y="4648320"/>
            <a:ext cx="507960" cy="56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BD06908_"/>
          <p:cNvPicPr/>
          <p:nvPr/>
        </p:nvPicPr>
        <p:blipFill>
          <a:blip r:embed="rId3"/>
          <a:stretch/>
        </p:blipFill>
        <p:spPr>
          <a:xfrm>
            <a:off x="533520" y="2819520"/>
            <a:ext cx="507960" cy="565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BD06908_"/>
          <p:cNvPicPr/>
          <p:nvPr/>
        </p:nvPicPr>
        <p:blipFill>
          <a:blip r:embed="rId4"/>
          <a:stretch/>
        </p:blipFill>
        <p:spPr>
          <a:xfrm>
            <a:off x="7620120" y="2481120"/>
            <a:ext cx="507960" cy="56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BD06908_"/>
          <p:cNvPicPr/>
          <p:nvPr/>
        </p:nvPicPr>
        <p:blipFill>
          <a:blip r:embed="rId5"/>
          <a:stretch/>
        </p:blipFill>
        <p:spPr>
          <a:xfrm>
            <a:off x="5867280" y="1600200"/>
            <a:ext cx="507960" cy="56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BD06740_"/>
          <p:cNvPicPr/>
          <p:nvPr/>
        </p:nvPicPr>
        <p:blipFill>
          <a:blip r:embed="rId6"/>
          <a:stretch/>
        </p:blipFill>
        <p:spPr>
          <a:xfrm>
            <a:off x="4648320" y="4157640"/>
            <a:ext cx="841320" cy="4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HH02126_"/>
          <p:cNvPicPr/>
          <p:nvPr/>
        </p:nvPicPr>
        <p:blipFill>
          <a:blip r:embed="rId7"/>
          <a:stretch/>
        </p:blipFill>
        <p:spPr>
          <a:xfrm>
            <a:off x="2362320" y="3624120"/>
            <a:ext cx="1207800" cy="1233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5029200" y="23623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1905120" y="217656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2666880" y="55627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7315200" y="347184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7010280" y="4495680"/>
            <a:ext cx="15264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151" name="AutoShape 23"/>
          <p:cNvCxnSpPr>
            <a:stCxn id="147" idx="3"/>
            <a:endCxn id="146" idx="1"/>
          </p:cNvCxnSpPr>
          <p:nvPr/>
        </p:nvCxnSpPr>
        <p:spPr>
          <a:xfrm>
            <a:off x="2057040" y="2252520"/>
            <a:ext cx="2972520" cy="186480"/>
          </a:xfrm>
          <a:prstGeom prst="curvedConnector5">
            <a:avLst>
              <a:gd name="adj1" fmla="val 50000"/>
              <a:gd name="adj2" fmla="val 4990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2" name="AutoShape 24"/>
          <p:cNvCxnSpPr>
            <a:stCxn id="147" idx="2"/>
            <a:endCxn id="148" idx="1"/>
          </p:cNvCxnSpPr>
          <p:nvPr/>
        </p:nvCxnSpPr>
        <p:spPr>
          <a:xfrm flipH="1" rot="16200000">
            <a:off x="668160" y="3640680"/>
            <a:ext cx="33105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AutoShape 25"/>
          <p:cNvCxnSpPr>
            <a:stCxn id="148" idx="3"/>
            <a:endCxn id="150" idx="2"/>
          </p:cNvCxnSpPr>
          <p:nvPr/>
        </p:nvCxnSpPr>
        <p:spPr>
          <a:xfrm flipV="1">
            <a:off x="2819160" y="4647600"/>
            <a:ext cx="4267800" cy="99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AutoShape 26"/>
          <p:cNvCxnSpPr>
            <a:stCxn id="150" idx="1"/>
            <a:endCxn id="149" idx="2"/>
          </p:cNvCxnSpPr>
          <p:nvPr/>
        </p:nvCxnSpPr>
        <p:spPr>
          <a:xfrm flipH="1" rot="10800000">
            <a:off x="7009200" y="3623400"/>
            <a:ext cx="381960" cy="948600"/>
          </a:xfrm>
          <a:prstGeom prst="curvedConnector5">
            <a:avLst>
              <a:gd name="adj1" fmla="val -60000"/>
              <a:gd name="adj2" fmla="val 26955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AutoShape 27"/>
          <p:cNvCxnSpPr>
            <a:stCxn id="149" idx="0"/>
            <a:endCxn id="146" idx="3"/>
          </p:cNvCxnSpPr>
          <p:nvPr/>
        </p:nvCxnSpPr>
        <p:spPr>
          <a:xfrm flipV="1" rot="16200000">
            <a:off x="5769360" y="1849320"/>
            <a:ext cx="1033920" cy="22107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32"/>
          <p:cNvCxnSpPr>
            <a:endCxn id="147" idx="1"/>
          </p:cNvCxnSpPr>
          <p:nvPr/>
        </p:nvCxnSpPr>
        <p:spPr>
          <a:xfrm flipV="1">
            <a:off x="1041120" y="2252160"/>
            <a:ext cx="864360" cy="850320"/>
          </a:xfrm>
          <a:prstGeom prst="bentConnector3">
            <a:avLst>
              <a:gd name="adj1" fmla="val 50000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7" name="AutoShape 33"/>
          <p:cNvCxnSpPr>
            <a:endCxn id="148" idx="2"/>
          </p:cNvCxnSpPr>
          <p:nvPr/>
        </p:nvCxnSpPr>
        <p:spPr>
          <a:xfrm flipV="1">
            <a:off x="1954080" y="5714280"/>
            <a:ext cx="789840" cy="43740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AutoShape 34"/>
          <p:cNvCxnSpPr>
            <a:endCxn id="146" idx="0"/>
          </p:cNvCxnSpPr>
          <p:nvPr/>
        </p:nvCxnSpPr>
        <p:spPr>
          <a:xfrm flipV="1" rot="10800000">
            <a:off x="5104800" y="1883880"/>
            <a:ext cx="762480" cy="47880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AutoShape 35"/>
          <p:cNvCxnSpPr>
            <a:endCxn id="149" idx="3"/>
          </p:cNvCxnSpPr>
          <p:nvPr/>
        </p:nvCxnSpPr>
        <p:spPr>
          <a:xfrm rot="5400000">
            <a:off x="7419960" y="3094560"/>
            <a:ext cx="500760" cy="40716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0" name="AutoShape 36"/>
          <p:cNvCxnSpPr>
            <a:endCxn id="150" idx="3"/>
          </p:cNvCxnSpPr>
          <p:nvPr/>
        </p:nvCxnSpPr>
        <p:spPr>
          <a:xfrm rot="10800000">
            <a:off x="7162200" y="4571280"/>
            <a:ext cx="762480" cy="361080"/>
          </a:xfrm>
          <a:prstGeom prst="bentConnector3">
            <a:avLst>
              <a:gd name="adj1" fmla="val 49976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1" name="AutoShape 37"/>
          <p:cNvCxnSpPr>
            <a:stCxn id="147" idx="3"/>
          </p:cNvCxnSpPr>
          <p:nvPr/>
        </p:nvCxnSpPr>
        <p:spPr>
          <a:xfrm>
            <a:off x="2057040" y="2252520"/>
            <a:ext cx="3012120" cy="190584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62" name="AutoShape 38"/>
          <p:cNvCxnSpPr>
            <a:endCxn id="148" idx="0"/>
          </p:cNvCxnSpPr>
          <p:nvPr/>
        </p:nvCxnSpPr>
        <p:spPr>
          <a:xfrm rot="5400000">
            <a:off x="3413160" y="3907800"/>
            <a:ext cx="984960" cy="2326320"/>
          </a:xfrm>
          <a:prstGeom prst="curvedConnector5">
            <a:avLst>
              <a:gd name="adj1" fmla="val 49981"/>
              <a:gd name="adj2" fmla="val 49992"/>
              <a:gd name="adj3" fmla="val 49981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3" name="AutoShape 39"/>
          <p:cNvCxnSpPr>
            <a:stCxn id="146" idx="2"/>
          </p:cNvCxnSpPr>
          <p:nvPr/>
        </p:nvCxnSpPr>
        <p:spPr>
          <a:xfrm rot="5400000">
            <a:off x="4264920" y="3317760"/>
            <a:ext cx="1643760" cy="37440"/>
          </a:xfrm>
          <a:prstGeom prst="curvedConnector5">
            <a:avLst>
              <a:gd name="adj1" fmla="val 49945"/>
              <a:gd name="adj2" fmla="val 49514"/>
              <a:gd name="adj3" fmla="val 49945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4" name="AutoShape 41"/>
          <p:cNvCxnSpPr>
            <a:endCxn id="149" idx="1"/>
          </p:cNvCxnSpPr>
          <p:nvPr/>
        </p:nvCxnSpPr>
        <p:spPr>
          <a:xfrm flipH="1" flipV="1" rot="5400000">
            <a:off x="5887080" y="2729160"/>
            <a:ext cx="610200" cy="224712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5" name="AutoShape 42"/>
          <p:cNvCxnSpPr>
            <a:stCxn id="150" idx="2"/>
          </p:cNvCxnSpPr>
          <p:nvPr/>
        </p:nvCxnSpPr>
        <p:spPr>
          <a:xfrm flipV="1" rot="16200000">
            <a:off x="6042240" y="3604320"/>
            <a:ext cx="70200" cy="2018160"/>
          </a:xfrm>
          <a:prstGeom prst="curvedConnector5">
            <a:avLst>
              <a:gd name="adj1" fmla="val -328865"/>
              <a:gd name="adj2" fmla="val 49991"/>
              <a:gd name="adj3" fmla="val -328865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66" name="AutoShape 43"/>
          <p:cNvSpPr/>
          <p:nvPr/>
        </p:nvSpPr>
        <p:spPr>
          <a:xfrm>
            <a:off x="3886200" y="400536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CB12-CA60-4D14-91DB-016E56A1DFD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mponenti di una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lient: una macchina che accede ai servizi di rete ma non ne erog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: una macchina che eroga servizi di re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HUB: Punto di connessione comune per le periferiche in una rete. Viene generalmente utilizzato per connettere i segmenti di una rete locale (LAN, Local Area Network) ed è dotato di molteplici porte di connessione. Quando i dati arrivano su una porta, vengono copiati sulle altre porte in modo che tutti i segmenti della LAN siano in grado di vedere tutti i dati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ccess point: luogo dove la rete viene connessa da un cli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2780-87C9-449F-9962-A80490E6D3E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ternet: struttur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: eroga servizi di rete geografica supportati da TCP/I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rasferimento file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vio posta elettron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etodo di trasfer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tocollo specif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TP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diret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HTTP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e interpretazione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come ipertes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MTP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e interpretazione come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messaggio di posta elettron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4220-D623-41B6-B7C1-21992E12C6D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File Transfer Protocol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lemento del gruppo di protocolli TCP/IP utilizzato per copiare file tra due computer su Internet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ntrambi i computer devono supportare i rispettivi ruoli FT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lient FTP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 FT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4C46-E53B-4130-AA06-322AC9694A6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HT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Hypertext Transfer Protoco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tocollo utilizzato per il trasferimento di informazioni sul Web. Gli indirizzi HTTP, che rappresentano un tipo specifico di URL (Uniform Resource Locator), vengono indicati nel formato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http://www.sci.univr.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1C60-8C29-4EFE-A7CE-550901A969A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i informa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N, WA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e telefonica e computer (PSDN, ISDN, ADSL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chitettura TCP/IP, Internet e posta elettron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402-42D0-4197-B199-8899409A9EC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R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Uniform Resource Locator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rizzo che identifica in modo univoco una posizione in Internet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'URL di un sito Web è preceduto da http://, come nell'indirizzo URL http://www.sci.univr.i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dirizzo URL può includere informazioni più dettagliate, ad esempio il nome di una pagina con contenuti ipertestuali, in genere identificata dall'estensione del nome di file html o htm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83B9-40C5-405B-A301-81AF35AD471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M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lemento del gruppo di protocolli TCP/IP che effettua lo scambio di messaggi tra agenti di trasfer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messaggio è trasferito in un pacchetto di tre parti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formazioni sul mittente ed il destinatario, in particolare indirizzi di posta, data e orario della spedizione, indirizzo del destinatario (HEADER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corpo del messaggio (BOD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traccia del percorso che occorre per consegnare il mess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0386-569B-4EB4-8458-18963FBDC61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cc"/>
                </a:solidFill>
                <a:latin typeface="Times New Roman"/>
              </a:rPr>
              <a:t>Caratteristiche di una rete con  server Web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rvizi di rete lo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HC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NS (Domain Name Solver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rasforma un indirizzo simbolico in un indirizzo fis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 di appogg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HT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F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SM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0777-9689-4C1B-8551-38ED3329A3D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di calcolato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insieme di calcolatori si definiscono in rete se e solo se pos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cambiare informa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tra loro mediante u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istema di comunic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eti si distinguono i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tabil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d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estemporane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8864-5F8F-4EEF-BB77-F834EE8B450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ruttura di una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definire una rete s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anale di comunic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metodo di accesso al canale da parte dei calcolato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tecniche di scambio dei dati (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rotocol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13BD-6388-44D0-9EA5-CB7BA92BBED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loc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rete locale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Local Area Network – LA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è definita sulla base dell’esistenza di una connessione stabile o estemporanea di dimensioni mode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dimensione tipica è un edific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entro un singolo edificio si trovano anche molte re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E0FE-AD49-46E8-93C8-A60FD56A5EE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geografi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rete geografic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World Area Network - WA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è distribuita sul territo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differenza essenziale tra una LAN ed una WAN è nel metodo di accesso alla re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il metodo di accesso è diretto, ovvero se non si deve procedere alla connessione alla rete in forma indiretta, mediante servizio, la rete è lo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FA53-56C9-4CC1-ADE8-DD9CD0AB873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telefonico ad una W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telefonica ordinari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SDN – Peer Service Digital Networ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integrata (ISDN –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ntegrated Service Digital Networ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ad alta velocità (ADSL –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synchronous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igital Subscriber Li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E355-C499-4613-A453-ABC69FF01CD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ADSL: Caratteristiche tecnologiche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o di connessione Internet ad alta velocità che utilizza cavi telefonici standard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esto tipo di connessione viene anche denominata connessione a banda larga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2208-7E72-462A-9547-DB1C41BE9C8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Transmission Control Protocol/Internet Protocol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sieme di protocolli di rete ampiamente utilizzato su Internet, che consente le comunicazioni tra reti interconnesse costituite da computer con architetture hardware e sistemi operativi di tipo diverso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CP/IP include gli standard di comunicazione tra computer e le convenzioni per la connessione di reti e traffico di routin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33Z</dcterms:modified>
  <cp:revision>24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