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973888" cy="10112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73200" cy="101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38160" y="29880"/>
            <a:ext cx="2967120" cy="4712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67200" y="29880"/>
            <a:ext cx="2967120" cy="4712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8440" y="742680"/>
            <a:ext cx="5111640" cy="38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3816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834512E-3D2B-4B31-956D-90D3C60F4C8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087B5A3-DB43-423E-8122-D4F88A79FDA1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0FD72A4-756A-4EC5-AFA0-EE3A60580936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B0C0CB8-7021-471E-9FA6-295EB0F3C7D9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0D22632-5188-4EFD-9958-B4E6A2E1F0AE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FA2AF0A-8D47-47A1-B1AF-08FC4205D1A3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1A3E01D-E369-46FB-9641-8926C3300DE1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448B7AB-BEAA-4D2C-ADA9-11C4A7774FC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582D1C7-1961-4725-A0BC-B0110396160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B6257B2-43F0-46C1-A575-3D6178519082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3C23294-A388-4164-9A87-F31AFDC145B3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99C7720-3D13-4CB4-A3D8-44AA77B66577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510CB7E-98A0-47F5-815D-AA48DF1C9B89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D340F47-646B-4613-8006-7D34D6E9938B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61D9B76-EE92-4DC5-AA7B-3795CCC24BB9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8F6170A-38D4-4895-9225-4927F5E13E80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67B9AEA-8C15-4F97-9358-04897CC56C68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F658AA0-8F38-40CE-8A38-57D3E748945D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EC4FD2D-A96E-4D56-A11F-F7A569DE21DC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4DB14A8-C792-4046-A86D-48195A1435DA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9CE2289-1533-4072-82AE-BE38AABDFD0D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8C1A95C-69EA-46FF-98DA-8DF2E750B52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27AD11D-99AC-4F06-B1E3-4E653654B39C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2119B22-AF46-448F-B62F-06CA60790473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9EF770E-700E-4FE1-9BE1-1634FAB35E86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3B8DAE5-555B-4E4C-A244-0572830C8466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CED5-DCCF-472B-B51A-0B99F6D0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3DBD-FC2A-4867-856C-C5694E57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A67A-4DC2-4803-818B-85A7355C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7CFA-3776-4FC4-B5D7-CC04A0E1A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4968-B1FB-4F53-85B8-9CAAB27C3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751A-94E4-4790-A433-60A31F8A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AA92-8C5D-402D-8CD2-AD6FC1C3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5F3D-197A-4EE4-9A59-A91C221E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15DD-09EB-4922-8071-C7C40EE7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DE3A-0F88-45CB-97F1-0E5B63D5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7F3B-D7BD-460B-85C7-C7690778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C7EA-35E3-4793-9CD9-CA40BC8C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6D62-6030-424B-BA63-74C0E282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A285-F83B-41F1-B68E-7FBACEC3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33E9-EE61-4EC8-946E-BD03BE9D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3B88-D360-44CD-98AA-A1F55EB0F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8BDB-FB9C-47E8-83C3-58708A03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E455-757B-4E30-911D-2FD0DF83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3981-BC15-468A-99F6-C2B7CF4F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80B0-3B9B-48AF-931C-FEB6398F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5EAD-9BD5-4DB2-B741-9481FDA6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6CEB-E401-49BE-BB16-E3C6FA39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BBE9-EC91-4A6A-B5EF-8EB2D64B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EEA1-4382-495D-B4DF-053DD519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12920"/>
            <a:ext cx="9131400" cy="968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cccc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1492200"/>
            <a:ext cx="9131400" cy="316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9999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782A-5EDA-485A-99C9-428D7FBC5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6" descr="logouni"/>
          <p:cNvPicPr/>
          <p:nvPr/>
        </p:nvPicPr>
        <p:blipFill>
          <a:blip r:embed="rId2"/>
          <a:stretch/>
        </p:blipFill>
        <p:spPr>
          <a:xfrm>
            <a:off x="114480" y="336600"/>
            <a:ext cx="954000" cy="96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3327480"/>
            <a:ext cx="91314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cccc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3606840"/>
            <a:ext cx="9131400" cy="507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9999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46" name="Picture 16" descr="logouni"/>
          <p:cNvPicPr/>
          <p:nvPr/>
        </p:nvPicPr>
        <p:blipFill>
          <a:blip r:embed="rId2"/>
          <a:stretch/>
        </p:blipFill>
        <p:spPr>
          <a:xfrm>
            <a:off x="0" y="1670040"/>
            <a:ext cx="1576440" cy="1590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66D8-D682-42F9-883D-9853F38D5E8A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4"/>
          <p:cNvSpPr/>
          <p:nvPr/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3D82-F751-4CD6-905E-A8C229C04F41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6" name="Text Box 1027"/>
          <p:cNvSpPr/>
          <p:nvPr/>
        </p:nvSpPr>
        <p:spPr>
          <a:xfrm>
            <a:off x="2682360" y="3692880"/>
            <a:ext cx="4196520" cy="28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ff"/>
                </a:solidFill>
                <a:latin typeface="Times New Roman"/>
              </a:rPr>
              <a:t>Matteo Cristani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Dipartimento di Informatica</a:t>
            </a:r>
            <a:br>
              <a:rPr sz="2400"/>
            </a:b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Facoltà di Scienze MM. FF. NN.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Università degli Studi di Verona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ff"/>
                </a:solidFill>
                <a:latin typeface="Times New Roman"/>
              </a:rPr>
              <a:t>http://www.sci.univr.it/~cristani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82680" y="1447920"/>
            <a:ext cx="7709040" cy="167616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rso di Informatica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53EE-0EB6-433A-9563-4AEAEDDABC2F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oftware applicativ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l nome applicazione deriva dal fatto che tale software è utilizzato per ottenere certi scop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pplicazioni di lettura e scrittura di dati o applicazioni di sola lettur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pplicazioni general-purpose o specifiche, dipendenti o indipendenti dal sistema operativo, dipendenti o indipendenti dalla piattaform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8A23-6BF8-4143-9D95-A2740A03E639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Fasi di sviluppo del softwa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Fasi fondamental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pecifiche dei requisit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pecifiche funzional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pecifiche di disegn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pecifiche di architettur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pecifiche dei tes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vilupp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Tes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Manutenzion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F5AA-6286-46D5-9C5A-3BAB4517A968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cccc"/>
                </a:solidFill>
                <a:latin typeface="Times New Roman"/>
              </a:rPr>
              <a:t>Tipi di software dal punto di vista dello sviluppo</a:t>
            </a:r>
            <a:endParaRPr b="0" lang="en-US" sz="28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oftware commercial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Nessun committent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Requisiti tagliati su committenti virtual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oftware su commess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Richiesto da un cliente o utent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oftware di ricerc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oftware sviluppato per operare con problemi al limite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0422-3FAB-4288-9ABE-C8405D0138A8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pecifiche dei requisit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Fase cooperativ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Titolare: il committent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l committente descrive ciò che desidera per il software richiest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er il software non su commessa la fase di specifiche dei requisiti è sostituita da un brainstorming (in alcuni casi anche da discussioni strutturate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5E8F-B831-4213-8398-432BBA8D08FC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pecifiche funzional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Fase cooperativ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Titolare: lo sviluppator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o sviluppatore descrive le funzioni ipotizzate per il software al committent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Riceve conferma dal committent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er il software non su commessa la fase di specifiche funzionale è sostituita da discussioni strutturat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1476-BE7C-4050-8E89-A6F0FB01DC4E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pecifiche di disegn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Fase decisional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Titolare: lo sviluppator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i decide come implementare le funzioni dal punto di vista delle loro relazion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l Disegno di un Software è il documento di riferimento per migrazioni del software in altri linguaggi di programmazione, su altri sistemi operativi o piattaforme (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porting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8F07-F19D-4DA3-990D-FB1B319D1E7C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pecifiche di architettur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Fase decisional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Titolare: lo sviluppator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i decide come implementare le funzioni definendo le scelte di architettur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Linguaggi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istema operativ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Piattaform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Tecniche e metodologia di svilupp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trumenti CASE (Computer Aided Software dEvelopment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62C5-A8F0-4210-BB6E-2AF969A648E8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pecifiche dei tes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Fase operativ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Titolare: lo sviluppator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Vengono scritti i test che saranno impiegati per validare il softwar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Fase delicatissima perché test poco efficaci provvederanno sistemi con fault, mentre test troppo raffinati rallenteranno la consegn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E273-4566-436A-9F51-886B04A44C3D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vilupp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Fase operativ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Titolare: lo sviluppator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Divisa in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Implementazion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Assemblaggi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C22C-19E4-468D-83BC-A5E6D645E518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esting</a:t>
            </a: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Fase di prova delle funzion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ontrollo della correttezza ed operatività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ontrollo della risposta al sovraccaric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ontrollo della risposta all’eccesso di richiest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45F3-80BF-4CCB-9486-52970BD5CF61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oftwar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ipi di softwar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stema operativ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oftware applicativ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asi di sviluppo del softwar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9EB0-DA6B-4F77-9EB1-60BEB1503930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Manutenzio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orrezione dei bach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ntegrazione delle funzion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Miglioramento delle rispost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ggiunte funzionali ed operativ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6111-8A21-468A-AC77-BCEBEC9EC1C1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cccc"/>
                </a:solidFill>
                <a:latin typeface="Times New Roman"/>
              </a:rPr>
              <a:t>Distribuzione temporale delle fasi (auspicabile)</a:t>
            </a:r>
            <a:endParaRPr b="0" lang="en-US" sz="2800" spc="-1" strike="noStrike">
              <a:solidFill>
                <a:srgbClr val="00cccc"/>
              </a:solidFill>
              <a:latin typeface="Times New Roman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609480" y="1981080"/>
          <a:ext cx="775656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81080"/>
                    <a:ext cx="775656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D034-EA1C-4B37-9091-82714F01D7E6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cccc"/>
                </a:solidFill>
                <a:latin typeface="Times New Roman"/>
              </a:rPr>
              <a:t>Distribuzione temporale delle fasi (effettiva)</a:t>
            </a:r>
            <a:endParaRPr b="0" lang="en-US" sz="2800" spc="-1" strike="noStrike">
              <a:solidFill>
                <a:srgbClr val="00cccc"/>
              </a:solidFill>
              <a:latin typeface="Times New Roman"/>
            </a:endParaRPr>
          </a:p>
        </p:txBody>
      </p:sp>
      <p:graphicFrame>
        <p:nvGraphicFramePr>
          <p:cNvPr id="163" name="Object 3"/>
          <p:cNvGraphicFramePr/>
          <p:nvPr/>
        </p:nvGraphicFramePr>
        <p:xfrm>
          <a:off x="609480" y="1981080"/>
          <a:ext cx="775656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81080"/>
                    <a:ext cx="775656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3642-F5E1-4C43-B69F-45402D9F5F9F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aratteristiche dello svilupp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Metodologia TOP-DOWN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Operazioni in sequenz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Controllo della funzionalità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Progressività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Riuso di codic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Modularità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ndipendenza funzional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Carattere operativo del softwar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FEBC-9B69-489F-80A5-898BB872A797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cccc"/>
                </a:solidFill>
                <a:latin typeface="Times New Roman"/>
              </a:rPr>
              <a:t>Figure professionali dell’informatica</a:t>
            </a:r>
            <a:endParaRPr b="0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viluppator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Erede sincretico d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Analist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Analista-Programmator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Programmator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istemist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pecialista di architettur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pecialista di ret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AB78-4D5C-4370-BF8F-07AFA25E59AA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Operatori dell’informatic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oftware hous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onsulenti indipenden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Negozi specializzati (sic!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rovider interne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86F5-CBBB-4D55-929A-3A4DEAFC2BA1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ipi di softwa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lassificazione general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oftware orizzontal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General-purpose softwar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Linguaggi di programmazion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Utilità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Produttività individual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oftware vertical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Applicazioni specifich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Linguaggi special-purpos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FB29-F29F-41AA-AB73-C1EBB055ACC1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oftware di uso genera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istemi operativ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mbienti operativ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DDDD-2FE7-41BB-8CD3-7D43A2DBE6B7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Linguaggi di programmazio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ompilatori ed interpre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ibrerie riusabil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mbienti di svilupp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Verificatori (semi)automatic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pplicazioni di Project Managemen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7F87-FCC9-42A3-BFEC-050FA669B4EC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Utilità di sistem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Connettività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Connection Management System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ession Management System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Web Browser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Client Posta Elettronic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Gestione modem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Gestione periferich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Gestione stampant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Gestione dischi e fil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Gestione periferiche special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Virus/worm/intrusion detection system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419720" y="1676520"/>
            <a:ext cx="38862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3DED-A87E-4BF1-95C2-1F2C2995CB66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Produttività individua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Word processor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Desktop Publishing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cientific Desktop Publishing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preadshee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resentation Management System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Database Management System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dea Processor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ABEB-4463-4221-9C34-E306C1D48800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oftware specia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pplicazioni vertical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Contabilità e finanz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utomazione industrial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WorkFlow Management System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inguaggi Special-Purpos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inguaggi specifici di risors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inguaggi orientati alla modellazione di sistemi fisic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BB64-A735-4587-ADDF-016469370D19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istema operativ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Funzion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Gestione memori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Gestione dispositivi e periferich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Gestione rete locale e geografic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Gestione applicazion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aratteristich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Possibilmente) platform-independen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0:37:25Z</dcterms:created>
  <dc:creator> </dc:creator>
  <dc:description/>
  <dc:language>en-US</dc:language>
  <cp:lastModifiedBy>Matteo</cp:lastModifiedBy>
  <cp:lastPrinted>2000-02-27T18:44:12Z</cp:lastPrinted>
  <dcterms:modified xsi:type="dcterms:W3CDTF">2008-12-08T23:36:04Z</dcterms:modified>
  <cp:revision>13</cp:revision>
  <dc:subject/>
  <dc:title>Corso di Informatica  per Giurisprudenza Lezion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profs.sci.univr.it/fummi</vt:lpwstr>
  </property>
  <property fmtid="{D5CDD505-2E9C-101B-9397-08002B2CF9AE}" pid="9" name="LinkColor">
    <vt:r8>16711782</vt:r8>
  </property>
  <property fmtid="{D5CDD505-2E9C-101B-9397-08002B2CF9AE}" pid="10" name="MailAddress">
    <vt:lpwstr>fummi@sci.univr.it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\Franco\SLIDES\VERONA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