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73200" cy="101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3816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6720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8440" y="74268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3816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5BEECC4-487B-479D-8851-E660812BCF1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25407C3-1077-4DF1-BB35-4A26986A723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4DB75B2-1D39-4047-B748-3B678BDB619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7E51D9F-04FA-48E7-8AFB-CBBB03C75E7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2407B38-81F9-490A-97BC-07B082BF611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59906C3-FBE9-4E98-8D8C-5C6A7C3B939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88CD8A6-B029-4E9F-A99D-4A05833EE0F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72BD6C2-BAC2-4E9F-9B4E-2E72914BCCC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94F5A67-E469-488D-A332-1380B76D1E8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6A86121-8E92-407A-AD30-4CB2854EA1D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A446659-B7A3-4E43-93F7-01270711BFE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1653275-C5D6-4E87-8C9E-4C531D521F7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BD79B2F-2338-4B21-8E6D-83226465E3E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E017891-24DC-4517-9F52-17FA401DC18C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F012ACE-0D14-4136-997D-1D6600D9F4B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14F1F9B-9168-4F27-B640-5A5FD122E3E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AB4CB52-7570-4041-BC88-3A96CCE124A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C6B693E-F9BA-4197-95CE-699A6A18B97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CA42F04-7627-4A08-AA85-B2C1E9AFD3A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55A3A43-5D54-4317-B48C-4D4F4EE3A62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C00CEDB-465A-4508-9F50-382EF8FE434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19D24BF-506B-4055-9C97-941205BC028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4101A39-6931-412C-BF0B-96139432CC7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7AAA95F-97DE-4866-ADB6-15E9CC9654C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9307DD9-A72D-414E-B86F-CB2936CC4DD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60A0A05-3B21-4AD3-81C7-3E3372134EC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12AB9B9-3B87-4856-82D3-DA60A770B63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B6E5759-3A06-45C0-B548-D28005AAE7F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9E5AEA5-E908-4F4A-BD7E-6BE54E1C2D2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1834FCB-A7E6-4914-AB83-E242BD8C78F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7754962-DAE2-403F-AC5B-7370D629B31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F77C459-0538-4026-A369-AF3AD0A46C2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1CA95EB-6ED4-4A72-AA42-7B2964740C4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74D-BFFC-4369-B9C0-27DD9232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109-B7FD-451D-B31B-3B490252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AE9-F200-4C46-ACA0-0A3F72F5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691-A529-4177-9817-E0F76829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3209-396C-4D3E-9295-435DBEE8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C76A-B378-4AA6-BAA2-EEB63314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433E-5870-4E90-89A8-A101D1BE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BFF0-E977-4ABE-8477-95B4D20A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0578-5087-4211-8026-9D50E6C2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1987-717E-4152-9671-EA59C233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2F3C-2CE4-44C1-8612-4CF2C919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B861-B17B-474C-B1AA-E9279483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0E00-F9C9-4CB5-A07F-806129E1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14B0-386A-4015-9B2B-F31C603B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B63E-B650-42E2-8149-168121C1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15DB-566F-43C4-BD05-CC3D605A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2287-0920-40A7-9281-5DE6BCFB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5EDF-F684-4E70-8691-72B34C04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B09-5EC4-462E-8E42-B183616D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9D74-5916-498F-843E-3FE69635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0210-475D-4363-BDCC-A990B21B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664B-52F7-4978-B66D-65F8EFA8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2CA-1342-4354-BD03-EE7DF149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414-B924-43FE-8BE7-12DB56C5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12920"/>
            <a:ext cx="9131400" cy="968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92200"/>
            <a:ext cx="9131400" cy="31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1C87-4DC7-4827-8ABC-BB1DFE28F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6" descr="logouni"/>
          <p:cNvPicPr/>
          <p:nvPr/>
        </p:nvPicPr>
        <p:blipFill>
          <a:blip r:embed="rId2"/>
          <a:stretch/>
        </p:blipFill>
        <p:spPr>
          <a:xfrm>
            <a:off x="114480" y="336600"/>
            <a:ext cx="954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3327480"/>
            <a:ext cx="91314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3606840"/>
            <a:ext cx="9131400" cy="50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46" name="Picture 16" descr="logouni"/>
          <p:cNvPicPr/>
          <p:nvPr/>
        </p:nvPicPr>
        <p:blipFill>
          <a:blip r:embed="rId2"/>
          <a:stretch/>
        </p:blipFill>
        <p:spPr>
          <a:xfrm>
            <a:off x="0" y="1670040"/>
            <a:ext cx="1576440" cy="159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E3A2-47D6-45AD-B1B2-A147D378839D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4"/>
          <p:cNvSpPr/>
          <p:nvPr/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BF48-7EE4-4097-9C17-5A3AD6A01D3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" name="Text Box 1027"/>
          <p:cNvSpPr/>
          <p:nvPr/>
        </p:nvSpPr>
        <p:spPr>
          <a:xfrm>
            <a:off x="2682360" y="3692880"/>
            <a:ext cx="419652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Times New Roman"/>
              </a:rPr>
              <a:t>Matteo Cristani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partimento di Informatica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Facoltà di Scienze MM. FF. NN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iversità degli Studi di Verona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http://www.sci.univr.it/~cristani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2680" y="1447920"/>
            <a:ext cx="7709040" cy="16761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rso di Informatica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6EFC-C971-4222-8163-C3D196606E6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Nozione di bi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misura minima è determinata da un sistema con due simboli, per cui l’informazione misura 1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’unità di misura è un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bi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0DD0-E62B-45F0-965E-BF904E88738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istemi simbolici e loro mis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’informazione trasportata da un sistema con 4 simboli è 2 bit, con 8 simboli 3 bit, con sedici simboli 4 bi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n generale, per sistemi simbolici con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simboli alfabetici la misura dell’informazione trasportata è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n bi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1780-0261-4297-96EE-2FC448BCCEC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Bit simbolic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un alfabeto con due simboli ogni messaggio porta 1 bi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hiamiamo bit anche la codifica simbolica basata su due simbo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n altre parola chiamiamo bit una singola cifra binaria (origine effettiva del nome, acronimo di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binary digit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7C34-5E11-491F-8190-902464AD4D0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cccc"/>
                </a:solidFill>
                <a:latin typeface="Times New Roman"/>
              </a:rPr>
              <a:t>Rappresentazione dell’informazione</a:t>
            </a:r>
            <a:endParaRPr b="0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qualsiasi numero intero k sia n il più piccolo intero tale che 2</a:t>
            </a:r>
            <a:r>
              <a:rPr b="0" lang="it-IT" sz="3200" spc="-1" strike="noStrike" baseline="30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≥ k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Il numero di bit necessari per rappresentare un alfabeto di ordine k è 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Esemp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Per codificare 26 simboli occorrono 5 bit essendo 32=2</a:t>
            </a:r>
            <a:r>
              <a:rPr b="0" lang="it-IT" sz="2800" spc="-1" strike="noStrike" baseline="30000">
                <a:solidFill>
                  <a:srgbClr val="0000ff"/>
                </a:solidFill>
                <a:latin typeface="Times New Roman"/>
                <a:ea typeface="Arial Unicode MS"/>
              </a:rPr>
              <a:t>5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la più piccola potenza del due maggiore o uguale a 26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B7D5-4518-43BE-B54C-932D0E3BF37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isure di memori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dato memorizzato utilizza bit simbolic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sistema di memoria raggruppa i dati in token di 8 bit chiamat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by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insieme di 4, 6 o in alcuni sistemi evoluti 8 byte forma un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parola macchin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multipli dell’unità byte sono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Kilobyte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Kb) = 1024 byt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Megabyt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Mb) = 1024 Kb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igabyt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Gb) = 1024 Mb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814A-9906-4A4C-85BF-A6FE32BEC6C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isure di cana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canale di comunicazione si misura in informazione trasportata al second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baud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(bs) è l’unità di misura della velocità di trasmissione dell’informazione di un cana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Multipli usati per la velocità del modem di cas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Kbs (standard 56 kbs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Multipli usati per la velocità di modem ad alta velocità o per le reti local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Mbs (standard 10 o 100 Mbs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40CA-5A94-43EA-9B35-6C3915ED420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difiche simboliche standar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più diffuso codice simbolico è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ASCI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cronimo per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American Standard Code for Information Interchang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ntegrato con le due nuove codifich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ANSI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UNICOD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American National Standard Institu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United Nations International COD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A539-F018-4FA1-B606-CFDDABCBF4C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dice ASCI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codice ASCII utilizza 1 byte per ogni simbol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codice rappresenta sovrabbondantemente (2 volte)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 simboli alfabetici e numerici,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 simboli standard della codifica di macchina da scrivere come . , : 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 insieme di simboli speciali codificati come caratteri di controllo (del flusso di testo) per azioni di movimento come andare a capo, spaziare, scendere di una linea o di una pagin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E1D9-4260-458A-A5BF-DA32ECEDC75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abella ASCII estesa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427880" cy="2800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FEC4-9829-4C67-A060-AEA27AF5686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abella ASCII estesa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742788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42F8-C294-4D99-850B-B477A4482A3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 codifica dell'informaz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mboli e messaggi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sura dell'informazione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zione di bi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dici digitali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dice ASCII/ANSI/UNICOD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pi di file e metodi di codific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e testo e binar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difica digitale dei da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itmetica in base 2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DBAE-944B-40F5-B3D8-18C7B8DA8F2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abella ASCII estesa (3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413480" cy="1428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38F0-6CD7-4A25-924E-C8690B8E299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file e metodi di codific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truttura dei fi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 file è una sequenza di da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Esistono due livelli di interpretaz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Livello della lettura (e trasmissione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Livello della strutturazione dei dat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 livello della lettura e trasmiss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Per byte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file di test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Per parola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file binar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 livello di strutturazione dei da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Per struttura dei record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file applicazion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Per relazione con il sistema 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operativo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file eseguibili e di support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E483-1DDA-41EC-A644-F99C4599AC6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File di testo e binar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File di testo sono file che si leggono con applicazioni di text editing, cioè applicazioni che leggono byte per byte e trasformano ogni byte in un carattere secondo il codice ASCI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Quindi i file di testo si chiamano anche file ASCI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file binari possono essere letti solamente mediante applicazioni specifiche che conoscono la codifica per quel tipo di fi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 file WORD sono file leggibili solamente con WORD e applicazioni compatibil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 file EXCEL sono leggibili solamente con EXC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AFB4-D5CB-4582-B7DD-B10E0D835A9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difiche ASCI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Esistono codifiche ASCII per tipi di file interpretabili come file non di tes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Esempio: PDF, PostScript, HTM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ali file sono file di testo, ma sono intelleggibili secondo il significato della codifica da interpreti che trasformano le codifiche ASCI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Vantagg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dipendenza dalla piattafor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5A0D-FA43-455D-8D32-B6CB69DF5BA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difica digitale dei dat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 numeri nel calcolatore ammettono interpretazione secondo il codice ASCII, come codifiche ASCII o come numeri in se stess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oiché un byte è formato da otto bit, le codifiche in base a potenza del due son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8 cifre binarie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base 2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4 cifre ottali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base 8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2 cifre esadecimali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base 16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2F60-340E-44C4-957B-E52D2027BE5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ritmetica in base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difica semplice in base 2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omma binaria semplic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0 + 0 = 0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0 + 1 = 1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1 + 0 = 1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1 + 1 = 10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CCB2-4574-4C9D-8AD5-300ACD2C612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omma binaria in colonn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oiché la somma in colonna di due numeri comporta il riporto della massima cifra di riporto per la somma di due numeri di una cifra il massimo che possiamo trovare è 1 con il riporto di 1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e regole sono ovviamente le stesse della somma in colonna per numeri decima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0D16-5D4C-455F-826C-A26E46A4F94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o di somma in colonn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905120"/>
                <a:tab algn="l" pos="2197080"/>
                <a:tab algn="r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905120"/>
                <a:tab algn="l" pos="2197080"/>
                <a:tab algn="r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 baseline="-25000">
                <a:solidFill>
                  <a:srgbClr val="0000ff"/>
                </a:solidFill>
                <a:latin typeface="Bookdings"/>
                <a:ea typeface="Bookdings"/>
              </a:rPr>
              <a:t>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it-IT" sz="3200" spc="-1" strike="noStrike" baseline="-25000">
                <a:solidFill>
                  <a:srgbClr val="0000ff"/>
                </a:solidFill>
                <a:latin typeface="Bookdings"/>
                <a:ea typeface="Bookdings"/>
              </a:rPr>
              <a:t>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905120"/>
                <a:tab algn="l" pos="2197080"/>
                <a:tab algn="r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110011 +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905120"/>
                <a:tab algn="l" pos="2197080"/>
                <a:tab algn="r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101010 =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905120"/>
                <a:tab algn="l" pos="2197080"/>
                <a:tab algn="r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--------------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905120"/>
                <a:tab algn="l" pos="2197080"/>
                <a:tab algn="r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1011101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905120"/>
                <a:tab algn="l" pos="2197080"/>
                <a:tab algn="r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19D3-EB85-480A-B0B9-A722EA69C7C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rodotto di numeri binar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on esistono tabelline in base 2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0 * 0 = 0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0 * 1 = 0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1 * 0 = 0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1 * 1 = 1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594E-C1CC-46A8-AC53-D811E380420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appresentazione posiziona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oiché la notazione di base è ovviamente posizionale una cifra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bas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di posizion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contando da destra vale come addendo per la cifra rappresentata moltiplicato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it-IT" sz="3200" spc="-1" strike="noStrike" baseline="30000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 baseline="30000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 baseline="30000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* b</a:t>
            </a:r>
            <a:r>
              <a:rPr b="0" lang="it-IT" sz="3200" spc="-1" strike="noStrike" baseline="30000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9929-79D6-4FFC-880A-4EF03890435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municazio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ozione chiave: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canale di comunicaz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Sorgent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: un ente in grado di codificare messagg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Destinazion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: un ente in grado di decodificare messagg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CFA7-9EEB-4D00-A057-7E5E0336753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mbio di bas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nversione da 2 a 10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 un numero 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…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m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 base 2 si ha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…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= 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2</a:t>
            </a:r>
            <a:r>
              <a:rPr b="0" lang="it-IT" sz="2800" spc="-1" strike="noStrike" baseline="30000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2</a:t>
            </a:r>
            <a:r>
              <a:rPr b="0" lang="it-IT" sz="2800" spc="-1" strike="noStrike" baseline="30000">
                <a:solidFill>
                  <a:srgbClr val="0000ff"/>
                </a:solidFill>
                <a:latin typeface="Times New Roman"/>
              </a:rPr>
              <a:t>(m-1)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2</a:t>
            </a:r>
            <a:r>
              <a:rPr b="0" lang="it-IT" sz="28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4E03-1CC7-4735-B43F-317B51D0695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versione da 10 a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ivisione successiva del numero in base 10 da convertire per du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resto di ogni divisione fornisce la cifra in ordine ultima, penultima, terzultima, eccete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5281-E9C5-43C6-91F5-F01DF66ACF0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versione da 10 a 2 - esempi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r" pos="1905120"/>
                <a:tab algn="l" pos="2197080"/>
                <a:tab algn="l" pos="2565360"/>
                <a:tab algn="r" pos="4286160"/>
                <a:tab algn="l" pos="494676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  <a:tab algn="l" pos="8242200"/>
                <a:tab algn="l" pos="8616960"/>
                <a:tab algn="l" pos="8991720"/>
                <a:tab algn="l" pos="9366120"/>
                <a:tab algn="l" pos="9740880"/>
                <a:tab algn="l" pos="10115640"/>
                <a:tab algn="l" pos="10490040"/>
                <a:tab algn="l" pos="108648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Sia 2456 il numero da convertire</a:t>
            </a:r>
            <a:br>
              <a:rPr sz="20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456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228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0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228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614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0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614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307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0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307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53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1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53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76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1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76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38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0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38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9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0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9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1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1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0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0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r" pos="1905120"/>
                <a:tab algn="l" pos="2197080"/>
                <a:tab algn="l" pos="2565360"/>
                <a:tab algn="r" pos="4286160"/>
                <a:tab algn="l" pos="494676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  <a:tab algn="l" pos="8242200"/>
                <a:tab algn="l" pos="8616960"/>
                <a:tab algn="l" pos="8991720"/>
                <a:tab algn="l" pos="9366120"/>
                <a:tab algn="l" pos="9740880"/>
                <a:tab algn="l" pos="10115640"/>
                <a:tab algn="l" pos="10490040"/>
                <a:tab algn="l" pos="108648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Risultato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456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 = 100110011000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0E22-7449-4408-A2F8-2E0BCA2E58A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imboli e messagg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mbol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codifica di un contenu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essagg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contenuto di una comunicazione simbolic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an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mezzo di trasmissione dell’informazion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A484-4294-4F37-9665-E9977724CAE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difica simbolic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ssociazione segno alfabetico-messagg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ncetto di codic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Tabella che associa un simbolo del codice sorgente ad un numer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Motivazione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sare codifiche elementar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 numeri sono universal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 numeri ammettono codifiche minim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1831-8751-402C-8905-9461FD13137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dice minim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to un alfabeto la trasmissione di un simbolo comporta un attesa di messaggio da parte della destinaz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la destinazione ottiene il messaggio decodifica per un elemento tra quelli disponibili nel codice sorgen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BB94-AC60-439B-A846-B5AEED53B54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Informazio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iù piccolo è il codice sorgente e meno informazione porta il singolo messaggi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’informazione significativa è minima quando disambigua tra due elementi (50% di possibilità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disambiguazione di un singolo simbolo è 0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hiamiamo informazione portata da un messaggio il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numero di disambiguazioni binarie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necessarie per trasmettere il messaggio stess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918A-200C-42F5-9E04-C51F79F50C2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isura di un cana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un canale porta informazione misurabile come disambiguazione tra n simboli chiamiamo informazione </a:t>
            </a: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I 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ortata dal canale il val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3149640" y="4527720"/>
                <a:ext cx="17398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7216-ECDE-4E06-B681-5E6B1687ADC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isure bas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ogni sistema simbolico, se un singolo simbolo costituisce il sistema ogni trasmissione è priva di informaz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nfatti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2971800" y="3809880"/>
                <a:ext cx="21463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0:37:25Z</dcterms:created>
  <dc:creator> </dc:creator>
  <dc:description/>
  <dc:language>en-US</dc:language>
  <cp:lastModifiedBy>Matteo</cp:lastModifiedBy>
  <cp:lastPrinted>2000-02-27T18:44:12Z</cp:lastPrinted>
  <dcterms:modified xsi:type="dcterms:W3CDTF">2008-12-08T23:38:01Z</dcterms:modified>
  <cp:revision>31</cp:revision>
  <dc:subject/>
  <dc:title>Corso di Informatica  per Giurisprudenza Lezion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rofs.sci.univr.it/fummi</vt:lpwstr>
  </property>
  <property fmtid="{D5CDD505-2E9C-101B-9397-08002B2CF9AE}" pid="9" name="LinkColor">
    <vt:r8>16711782</vt:r8>
  </property>
  <property fmtid="{D5CDD505-2E9C-101B-9397-08002B2CF9AE}" pid="10" name="MailAddress">
    <vt:lpwstr>fummi@sci.univr.i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\Franco\SLIDES\VERONA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