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6973888" cy="10112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973200" cy="1011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38160" y="29880"/>
            <a:ext cx="2967120" cy="4712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967200" y="29880"/>
            <a:ext cx="2967120" cy="4712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28440" y="742680"/>
            <a:ext cx="5111640" cy="383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3816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E7D9AEB-065A-4BCD-AE60-07AAB9B0A294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99EC26A-45AE-44A6-81B3-A4DAD9D15C89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79F3D02-2C0C-4C52-B6D7-6356DBFAB214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1894F6B-523C-419C-A78E-242BABBDA14F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1A367A5-C8B6-4D26-AC21-6A5E3DBE119F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9A7EA27-7CB3-40D6-AF94-B138AF6DB158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F14CACF-FE64-4715-941D-588A7927C6FE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29F4375-B41E-4978-8E65-9E9635376B68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5BACD6D-7670-4BFD-A882-6FBBA10C4BE1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6C4EECB-C8CE-4DA3-99DE-99FE47979FF9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DBADC44-36B1-4EBF-A79D-E59F2B428AA4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E9C0727-2E1A-4FF3-A296-C84CEC1F9C5E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51061F6-CE40-458B-8061-CB4C566E0459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3AF9272-A08F-40EC-99E8-052AA2B8CA0B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DD816850-8BCF-459C-BCF9-28FD5399CF76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FE469A7-C12D-48B9-A801-393A3FA3B478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08D8798-5B57-4278-A3A6-9ECAFBFA81AA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91083C1-7B22-4FD1-960A-6B200BF9DD4E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C94BF2E-C192-4760-92D4-4300DBC6FB37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F8D9D7F-5BB8-46EA-9089-33F9BFDA4649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E29A6F9-7F38-4E43-9705-063BABF58D32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EFB60D6-4919-4B8A-8CC4-905160CA5B0A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AD7162B-9161-4B62-958C-FBD8DCAAC5EA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B6A0591-BCAA-4D90-AE18-685D707D818F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D2C449E2-B793-46AA-8CB6-FAD67202B882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E503C11-B878-49A4-996C-2BFA4533D01F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80C21CE-1053-4C8B-AE84-701C78BBCE2D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0164A22-1075-43AA-AD47-5FE25423356F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64C873C-D278-4665-96D8-5A85B5BBEC99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865E9E5-3C63-4559-ABF5-665CC81D4E0B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02E76C8-0578-4A4C-8EBA-795D950EE6BD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ECF30EB-22FB-4893-AF98-4445A61759C6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81C8548-970C-4DAF-A345-1DF7E8F15A93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D386E235-C821-4792-8A5B-8E410F44F1AB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F8BDB0B-93DE-40DB-9C03-BA9D55EE1A22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DFFC022-96F5-47AF-9329-1FDD0D581508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6A8B540-B2CE-4C5B-AD91-0EF3252BFF67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632F1A0-27F9-4B1F-93C2-10C31EFCB7CA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BD2F5D3-1287-4955-B9A6-578C9BECE7CD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FFE0E44-36E1-45A7-B6AA-E16BCACE9D09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B2CADFA-EBA4-4900-9D8E-43E63997797F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ED521BC-25EF-41C4-A8A2-D0FF8DBF1AD5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6BA4C29-41E6-4210-8A95-74C85AC66766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40E6F61-AD73-43EB-824C-E874DC0029D9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A3D75A0-B7F3-41A0-90E4-56EA888D428C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4304707-B586-4733-9759-489731B61687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19CAAB2-FCD5-4EEF-8C01-E389DD8CD4F1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D78762D-8C99-4FBC-8941-54C9CA5A87DE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819A1C6-93C4-4EFE-A8F6-619604E4FD62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B79BDF8-F604-4BFD-B318-507E271F2D33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374A52D-A378-4C30-A238-8B6E6830BE7E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26E38CC-F0CD-4438-8A6A-659B82EFF070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6E8A-4ACD-43A1-8719-9FFB572DD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C3D1-4004-40D3-AA43-277E80E1F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2B66-C3B1-4A62-8724-6DDF1D28E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9644-0A44-44EF-BEBE-31C2A231B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0E615-BBF1-4FA7-A9F3-6437BC153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23497-2403-412A-8ACC-23FE164FF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B894E-88B9-4115-8E70-94F7B7D63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598DF-6772-4AE4-AD71-2F51BD005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273FE-DFD7-4E0B-9911-E27753A2F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21566-06BD-4E56-B4E6-AD1FBE0A1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5D458-D949-485B-B97B-86D4E6EC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D577-E3CC-4DD8-B9C2-85FE6E5E4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C3D13-F227-45FA-AA08-FE6FD79D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3BA27-4A62-46BA-BFF8-B04AC6E0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5BBC6-020A-472A-B846-2BC73918D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FEC0E-3A91-48B9-A367-17F978D19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1A618-840F-4863-96E6-F0A85BA5E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3895-D297-494D-B637-063672332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F39E-EA8C-4CDA-8663-3BF31ECCB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EC69-6937-44C0-8B72-B2976C74B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D400-3756-4A6A-BDFD-E9E34ABE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9DD8-7880-4EE0-B0F2-CBE829D3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B4D1-28B0-4EE1-9089-8571B32C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0132-920D-42B5-9113-96CE604C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12920"/>
            <a:ext cx="9131400" cy="9684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cccc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1492200"/>
            <a:ext cx="9131400" cy="316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9999ff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B0BDD-28F2-43DB-8B31-054F6293B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6" descr="logouni"/>
          <p:cNvPicPr/>
          <p:nvPr/>
        </p:nvPicPr>
        <p:blipFill>
          <a:blip r:embed="rId2"/>
          <a:stretch/>
        </p:blipFill>
        <p:spPr>
          <a:xfrm>
            <a:off x="114480" y="336600"/>
            <a:ext cx="954000" cy="963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3327480"/>
            <a:ext cx="91314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cccc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0" y="3606840"/>
            <a:ext cx="9131400" cy="5076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9999ff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pic>
        <p:nvPicPr>
          <p:cNvPr id="46" name="Picture 16" descr="logouni"/>
          <p:cNvPicPr/>
          <p:nvPr/>
        </p:nvPicPr>
        <p:blipFill>
          <a:blip r:embed="rId2"/>
          <a:stretch/>
        </p:blipFill>
        <p:spPr>
          <a:xfrm>
            <a:off x="0" y="1670040"/>
            <a:ext cx="1576440" cy="15908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121284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651120" y="62326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8012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2FD47-5297-4191-834D-2EAE997F5654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4"/>
          <p:cNvSpPr/>
          <p:nvPr/>
        </p:nvSpPr>
        <p:spPr>
          <a:xfrm>
            <a:off x="708012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4A4C9-48BB-4611-94D1-426D8DC4A2FA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96" name="Text Box 1027"/>
          <p:cNvSpPr/>
          <p:nvPr/>
        </p:nvSpPr>
        <p:spPr>
          <a:xfrm>
            <a:off x="2682360" y="3692880"/>
            <a:ext cx="4196520" cy="28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ff"/>
                </a:solidFill>
                <a:latin typeface="Times New Roman"/>
              </a:rPr>
              <a:t>Matteo Cristani</a:t>
            </a:r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Dipartimento di Informatica</a:t>
            </a:r>
            <a:br>
              <a:rPr sz="2400"/>
            </a:b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Facoltà di Scienze MM. FF. NN.</a:t>
            </a:r>
            <a:endParaRPr b="0" lang="en-US" sz="2400" spc="-1" strike="noStrike">
              <a:solidFill>
                <a:srgbClr val="dddddd"/>
              </a:solidFill>
              <a:latin typeface="MS Mincho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Università degli Studi di Verona</a:t>
            </a:r>
            <a:endParaRPr b="0" lang="en-US" sz="2400" spc="-1" strike="noStrike">
              <a:solidFill>
                <a:srgbClr val="dddddd"/>
              </a:solidFill>
              <a:latin typeface="MS Mincho"/>
            </a:endParaRPr>
          </a:p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ff"/>
                </a:solidFill>
                <a:latin typeface="Times New Roman"/>
              </a:rPr>
              <a:t>http://www.sci.univr.it/~cristani</a:t>
            </a:r>
            <a:endParaRPr b="0" lang="en-US" sz="18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82680" y="1447920"/>
            <a:ext cx="7709040" cy="167616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Corso di Informatica 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4F709-490A-48F2-A2C3-B7966AAEA150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Problema genera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I tempi d’accesso 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Operazioni di CPU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Memoria central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Periferich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ono enormemente different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 accesso a periferica si compie in tempi dell’ordine dei millisecond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 accesso a memoria centrale in tempi dell’ordine dei microsecond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a operazione di CPU si compie in tempi dell’ordine dei picosecond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99EB7-BD28-4AC3-890D-976C7A2DBBF1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Conseguenz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Nel tempo che un processo impiega a fare accesso a memoria centrale o addirittura ad una periferica la CPU è posseduta ma ferm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Meccanismo risolutor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i sottrae la CPU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i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INTRAPPOLA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il processo, cosicchè il monitor, quando riceve notizie dalla memoria o dalla periferica interessata che segnalano la terminazione dell’accesso toglie il processo dalla sua trappola e lo riammette in cod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BED13-15AB-4651-BFC9-C810D95FD27F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Resource manag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4930560" cy="43876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9AC2D-54BF-43A4-A705-89BDC4164B55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Trap e DMA (1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e la CPU viene sottratta ad un processo e questo processo deve accedere ad una risorsa, chi eseguirà i comandi di accesso?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La tecnica implementata negli attuali H/W è la DMA (Direct Memory Access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Ogni banco di memoria centrale (RAM, ROM) ed ogni periferica posseggono un chip collaterale che esegue i comandi di accesso relativi alla memoria od alla specifica periferica: la DM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07DCB-68AC-4032-BCD1-6E9E9ADE0B42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Trap e DMA (2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e intrappoliamo un processo e lo consegnamo alla DMA che eseguirà la sua richiesta di accesso alla risorsa controllata otteremo lo scopo prefissat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La CPU sarà liber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La coda non verrà interrott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80B23-F095-4C26-B260-B06AA7B00DEE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Fatti storic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Anche se la tecnica sulle DMA è posteriore alla concezione di algoritmi atti ad implementare una politica di scheduling ROUND-ROBIN esse sono molto motivanti per tale scelt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Inoltre, senza ROUND-ROBIN le DMA sono poco util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F33C-561E-4A9E-8542-EC9E8C3D0677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cccc"/>
                </a:solidFill>
                <a:latin typeface="Times New Roman"/>
              </a:rPr>
              <a:t>Funzioni generali di un sistema operativo</a:t>
            </a: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Il sistema operativo deve svolgere le seguenti funzion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cc00cc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Processare le richieste di risorse non condivisibili stabilendo le modalità con cui i processi richiedenti accedono alle risorse stesse e l’ordine di accesso;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cc00cc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Processare le richieste di risorse condivisibili stabilendo l’ordine di access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B5C88-4F03-41B5-906C-519866DF4D64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Accesso alla CPU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toricament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Accesso secondo richiesta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</a:rPr>
              <a:t>FIFO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Accesso secondo priority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</a:rPr>
              <a:t>PQ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Accesso secondo dimensioni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</a:rPr>
              <a:t>SJF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Accesso a rotazione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</a:rPr>
              <a:t>ROUND-ROBIN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5812F-8B2D-469D-905A-918B907E031B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Modello FIFO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I processi che chiedono la CPU ne entrano in possesso quando tutti i processi che ne avevano fatto richiesta prima l’hanno impiegat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Un processo in coda è sempre in attes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Non esistono processi sopit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E695F-9C12-4F43-9014-B0A9FE7D0CDD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Esempio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Al tempo 0 chiede la CPU il processo p</a:t>
            </a:r>
            <a:r>
              <a:rPr b="0" lang="it-IT" sz="28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, che la terrà occupata per 10 second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Al tempo 3 chiede la CPU il processo p</a:t>
            </a:r>
            <a:r>
              <a:rPr b="0" lang="it-IT" sz="28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che la terrà occupata per 12 second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Al tempo 8 chiede la CPU il processo p</a:t>
            </a:r>
            <a:r>
              <a:rPr b="0" lang="it-IT" sz="28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che la occuperà 3 second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Al tempo 11 chiede la CPU il processo p</a:t>
            </a:r>
            <a:r>
              <a:rPr b="0" lang="it-IT" sz="2800" spc="-1" strike="noStrike" baseline="-25000">
                <a:solidFill>
                  <a:srgbClr val="0000ff"/>
                </a:solidFill>
                <a:latin typeface="Times New Roman"/>
              </a:rPr>
              <a:t>4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che la occupa 7 second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Al tempo 17 chiede la CPU il processo p</a:t>
            </a:r>
            <a:r>
              <a:rPr b="0" lang="it-IT" sz="2800" spc="-1" strike="noStrike" baseline="-25000">
                <a:solidFill>
                  <a:srgbClr val="0000ff"/>
                </a:solidFill>
                <a:latin typeface="Times New Roman"/>
              </a:rPr>
              <a:t>5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che la occuperà per 4 second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B6348-9456-4826-9505-1E0E59FAAD2B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truttura di un sistema operativ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ocessi, gestione memoria, file system;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ispositivi di input-output;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ackup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istemi operativi esistent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OS, Windows, MAC OS, Linux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9A44F-8B24-4BD9-A7B5-A58A8A7B12B2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Esempio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Pertanto: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Al tempo 0 il processo attivo è p</a:t>
            </a:r>
            <a:r>
              <a:rPr b="0" lang="it-IT" sz="20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, nessun processo in coda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Al tempo 3 si accoda p</a:t>
            </a:r>
            <a:r>
              <a:rPr b="0" lang="it-IT" sz="20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Al tempo 8  si accoda p</a:t>
            </a:r>
            <a:r>
              <a:rPr b="0" lang="it-IT" sz="20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Al tempo 10 termina p</a:t>
            </a:r>
            <a:r>
              <a:rPr b="0" lang="it-IT" sz="20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 e diviene attivo p</a:t>
            </a:r>
            <a:r>
              <a:rPr b="0" lang="it-IT" sz="20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Al tempo 11 si accoda p</a:t>
            </a:r>
            <a:r>
              <a:rPr b="0" lang="it-IT" sz="2000" spc="-1" strike="noStrike" baseline="-25000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Al tempo 17 si accoda p</a:t>
            </a:r>
            <a:r>
              <a:rPr b="0" lang="it-IT" sz="2000" spc="-1" strike="noStrike" baseline="-25000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Al tempo 22 termina p</a:t>
            </a:r>
            <a:r>
              <a:rPr b="0" lang="it-IT" sz="20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 e diviene attivo p</a:t>
            </a:r>
            <a:r>
              <a:rPr b="0" lang="it-IT" sz="20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Al tempo 25 termina p</a:t>
            </a:r>
            <a:r>
              <a:rPr b="0" lang="it-IT" sz="20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 e diviene attivo p</a:t>
            </a:r>
            <a:r>
              <a:rPr b="0" lang="it-IT" sz="2000" spc="-1" strike="noStrike" baseline="-25000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Al tempo 32 termina p</a:t>
            </a:r>
            <a:r>
              <a:rPr b="0" lang="it-IT" sz="2000" spc="-1" strike="noStrike" baseline="-25000">
                <a:solidFill>
                  <a:srgbClr val="0000ff"/>
                </a:solidFill>
                <a:latin typeface="Times New Roman"/>
              </a:rPr>
              <a:t>4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 e diviene attivo p</a:t>
            </a:r>
            <a:r>
              <a:rPr b="0" lang="it-IT" sz="2000" spc="-1" strike="noStrike" baseline="-25000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Al tempo 36 termina p</a:t>
            </a:r>
            <a:r>
              <a:rPr b="0" lang="it-IT" sz="2000" spc="-1" strike="noStrike" baseline="-25000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egnaposto numero diapositiva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CF602-48AC-4835-91EA-752C9C3D2C5C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Schem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7" name="Line 3"/>
          <p:cNvSpPr/>
          <p:nvPr/>
        </p:nvSpPr>
        <p:spPr>
          <a:xfrm>
            <a:off x="1095480" y="5587920"/>
            <a:ext cx="7116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58" name="Line 5"/>
          <p:cNvSpPr/>
          <p:nvPr/>
        </p:nvSpPr>
        <p:spPr>
          <a:xfrm>
            <a:off x="129528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59" name="Line 6"/>
          <p:cNvSpPr/>
          <p:nvPr/>
        </p:nvSpPr>
        <p:spPr>
          <a:xfrm>
            <a:off x="146376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60" name="Line 7"/>
          <p:cNvSpPr/>
          <p:nvPr/>
        </p:nvSpPr>
        <p:spPr>
          <a:xfrm>
            <a:off x="163188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61" name="Line 8"/>
          <p:cNvSpPr/>
          <p:nvPr/>
        </p:nvSpPr>
        <p:spPr>
          <a:xfrm>
            <a:off x="180036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62" name="Line 9"/>
          <p:cNvSpPr/>
          <p:nvPr/>
        </p:nvSpPr>
        <p:spPr>
          <a:xfrm>
            <a:off x="196848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63" name="Line 10"/>
          <p:cNvSpPr/>
          <p:nvPr/>
        </p:nvSpPr>
        <p:spPr>
          <a:xfrm>
            <a:off x="213660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64" name="Line 11"/>
          <p:cNvSpPr/>
          <p:nvPr/>
        </p:nvSpPr>
        <p:spPr>
          <a:xfrm>
            <a:off x="230508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65" name="Line 12"/>
          <p:cNvSpPr/>
          <p:nvPr/>
        </p:nvSpPr>
        <p:spPr>
          <a:xfrm>
            <a:off x="247320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66" name="Line 13"/>
          <p:cNvSpPr/>
          <p:nvPr/>
        </p:nvSpPr>
        <p:spPr>
          <a:xfrm>
            <a:off x="264168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67" name="Line 14"/>
          <p:cNvSpPr/>
          <p:nvPr/>
        </p:nvSpPr>
        <p:spPr>
          <a:xfrm>
            <a:off x="280980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68" name="Line 15"/>
          <p:cNvSpPr/>
          <p:nvPr/>
        </p:nvSpPr>
        <p:spPr>
          <a:xfrm>
            <a:off x="297828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69" name="Line 16"/>
          <p:cNvSpPr/>
          <p:nvPr/>
        </p:nvSpPr>
        <p:spPr>
          <a:xfrm>
            <a:off x="314640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70" name="Line 17"/>
          <p:cNvSpPr/>
          <p:nvPr/>
        </p:nvSpPr>
        <p:spPr>
          <a:xfrm>
            <a:off x="331488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71" name="Line 18"/>
          <p:cNvSpPr/>
          <p:nvPr/>
        </p:nvSpPr>
        <p:spPr>
          <a:xfrm>
            <a:off x="348300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72" name="Line 19"/>
          <p:cNvSpPr/>
          <p:nvPr/>
        </p:nvSpPr>
        <p:spPr>
          <a:xfrm>
            <a:off x="365112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73" name="Line 20"/>
          <p:cNvSpPr/>
          <p:nvPr/>
        </p:nvSpPr>
        <p:spPr>
          <a:xfrm>
            <a:off x="381960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74" name="Line 21"/>
          <p:cNvSpPr/>
          <p:nvPr/>
        </p:nvSpPr>
        <p:spPr>
          <a:xfrm>
            <a:off x="398772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75" name="Line 22"/>
          <p:cNvSpPr/>
          <p:nvPr/>
        </p:nvSpPr>
        <p:spPr>
          <a:xfrm>
            <a:off x="415620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76" name="Line 23"/>
          <p:cNvSpPr/>
          <p:nvPr/>
        </p:nvSpPr>
        <p:spPr>
          <a:xfrm>
            <a:off x="432432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77" name="Line 24"/>
          <p:cNvSpPr/>
          <p:nvPr/>
        </p:nvSpPr>
        <p:spPr>
          <a:xfrm>
            <a:off x="449280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78" name="Line 25"/>
          <p:cNvSpPr/>
          <p:nvPr/>
        </p:nvSpPr>
        <p:spPr>
          <a:xfrm>
            <a:off x="466092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79" name="Line 26"/>
          <p:cNvSpPr/>
          <p:nvPr/>
        </p:nvSpPr>
        <p:spPr>
          <a:xfrm>
            <a:off x="482904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80" name="Line 27"/>
          <p:cNvSpPr/>
          <p:nvPr/>
        </p:nvSpPr>
        <p:spPr>
          <a:xfrm>
            <a:off x="499752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81" name="Line 28"/>
          <p:cNvSpPr/>
          <p:nvPr/>
        </p:nvSpPr>
        <p:spPr>
          <a:xfrm>
            <a:off x="516564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82" name="Line 29"/>
          <p:cNvSpPr/>
          <p:nvPr/>
        </p:nvSpPr>
        <p:spPr>
          <a:xfrm>
            <a:off x="533412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83" name="Line 30"/>
          <p:cNvSpPr/>
          <p:nvPr/>
        </p:nvSpPr>
        <p:spPr>
          <a:xfrm>
            <a:off x="550224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84" name="Line 31"/>
          <p:cNvSpPr/>
          <p:nvPr/>
        </p:nvSpPr>
        <p:spPr>
          <a:xfrm>
            <a:off x="567072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85" name="Line 32"/>
          <p:cNvSpPr/>
          <p:nvPr/>
        </p:nvSpPr>
        <p:spPr>
          <a:xfrm>
            <a:off x="583884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86" name="Line 33"/>
          <p:cNvSpPr/>
          <p:nvPr/>
        </p:nvSpPr>
        <p:spPr>
          <a:xfrm>
            <a:off x="600696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87" name="Line 34"/>
          <p:cNvSpPr/>
          <p:nvPr/>
        </p:nvSpPr>
        <p:spPr>
          <a:xfrm>
            <a:off x="617544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88" name="Line 35"/>
          <p:cNvSpPr/>
          <p:nvPr/>
        </p:nvSpPr>
        <p:spPr>
          <a:xfrm>
            <a:off x="634356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89" name="Line 36"/>
          <p:cNvSpPr/>
          <p:nvPr/>
        </p:nvSpPr>
        <p:spPr>
          <a:xfrm>
            <a:off x="651204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90" name="Line 37"/>
          <p:cNvSpPr/>
          <p:nvPr/>
        </p:nvSpPr>
        <p:spPr>
          <a:xfrm>
            <a:off x="668016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91" name="Line 38"/>
          <p:cNvSpPr/>
          <p:nvPr/>
        </p:nvSpPr>
        <p:spPr>
          <a:xfrm>
            <a:off x="684864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92" name="Line 39"/>
          <p:cNvSpPr/>
          <p:nvPr/>
        </p:nvSpPr>
        <p:spPr>
          <a:xfrm>
            <a:off x="701676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93" name="Line 40"/>
          <p:cNvSpPr/>
          <p:nvPr/>
        </p:nvSpPr>
        <p:spPr>
          <a:xfrm>
            <a:off x="718488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94" name="Line 41"/>
          <p:cNvSpPr/>
          <p:nvPr/>
        </p:nvSpPr>
        <p:spPr>
          <a:xfrm>
            <a:off x="735336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95" name="Line 42"/>
          <p:cNvSpPr/>
          <p:nvPr/>
        </p:nvSpPr>
        <p:spPr>
          <a:xfrm>
            <a:off x="752148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96" name="Line 43"/>
          <p:cNvSpPr/>
          <p:nvPr/>
        </p:nvSpPr>
        <p:spPr>
          <a:xfrm>
            <a:off x="768996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97" name="Line 44"/>
          <p:cNvSpPr/>
          <p:nvPr/>
        </p:nvSpPr>
        <p:spPr>
          <a:xfrm>
            <a:off x="785808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98" name="Text Box 46"/>
          <p:cNvSpPr/>
          <p:nvPr/>
        </p:nvSpPr>
        <p:spPr>
          <a:xfrm>
            <a:off x="564480" y="5842080"/>
            <a:ext cx="767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0000"/>
                </a:solidFill>
                <a:latin typeface="MS Mincho"/>
              </a:rPr>
              <a:t>0      3          8  10 11           17         22     25             32        36</a:t>
            </a:r>
            <a:endParaRPr b="0" lang="en-US" sz="12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99" name="Text Box 63"/>
          <p:cNvSpPr/>
          <p:nvPr/>
        </p:nvSpPr>
        <p:spPr>
          <a:xfrm>
            <a:off x="3769200" y="2001960"/>
            <a:ext cx="421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f5f5f"/>
                </a:solidFill>
                <a:latin typeface="MS Mincho"/>
              </a:rPr>
              <a:t>p</a:t>
            </a:r>
            <a:r>
              <a:rPr b="0" lang="it-IT" sz="2000" spc="-1" strike="noStrike" baseline="-25000">
                <a:solidFill>
                  <a:srgbClr val="5f5f5f"/>
                </a:solidFill>
                <a:latin typeface="MS Mincho"/>
              </a:rPr>
              <a:t>5</a:t>
            </a:r>
            <a:endParaRPr b="0" lang="en-US" sz="2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00" name="Text Box 48"/>
          <p:cNvSpPr/>
          <p:nvPr/>
        </p:nvSpPr>
        <p:spPr>
          <a:xfrm>
            <a:off x="1667520" y="3309840"/>
            <a:ext cx="421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cc"/>
                </a:solidFill>
                <a:latin typeface="MS Mincho"/>
              </a:rPr>
              <a:t>p</a:t>
            </a:r>
            <a:r>
              <a:rPr b="0" lang="it-IT" sz="2000" spc="-1" strike="noStrike" baseline="-25000">
                <a:solidFill>
                  <a:srgbClr val="cc00cc"/>
                </a:solidFill>
                <a:latin typeface="MS Mincho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01" name="Text Box 52"/>
          <p:cNvSpPr/>
          <p:nvPr/>
        </p:nvSpPr>
        <p:spPr>
          <a:xfrm>
            <a:off x="2549880" y="3309840"/>
            <a:ext cx="421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cc"/>
                </a:solidFill>
                <a:latin typeface="MS Mincho"/>
              </a:rPr>
              <a:t>p</a:t>
            </a:r>
            <a:r>
              <a:rPr b="0" lang="it-IT" sz="2000" spc="-1" strike="noStrike" baseline="-25000">
                <a:solidFill>
                  <a:srgbClr val="cc00cc"/>
                </a:solidFill>
                <a:latin typeface="MS Mincho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02" name="Text Box 55"/>
          <p:cNvSpPr/>
          <p:nvPr/>
        </p:nvSpPr>
        <p:spPr>
          <a:xfrm>
            <a:off x="2834280" y="3308400"/>
            <a:ext cx="421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ff00"/>
                </a:solidFill>
                <a:latin typeface="MS Mincho"/>
              </a:rPr>
              <a:t>p</a:t>
            </a:r>
            <a:r>
              <a:rPr b="0" lang="it-IT" sz="2000" spc="-1" strike="noStrike" baseline="-25000">
                <a:solidFill>
                  <a:srgbClr val="00ff00"/>
                </a:solidFill>
                <a:latin typeface="MS Mincho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03" name="Text Box 57"/>
          <p:cNvSpPr/>
          <p:nvPr/>
        </p:nvSpPr>
        <p:spPr>
          <a:xfrm>
            <a:off x="3034080" y="3309840"/>
            <a:ext cx="421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ff00"/>
                </a:solidFill>
                <a:latin typeface="MS Mincho"/>
              </a:rPr>
              <a:t>p</a:t>
            </a:r>
            <a:r>
              <a:rPr b="0" lang="it-IT" sz="2000" spc="-1" strike="noStrike" baseline="-25000">
                <a:solidFill>
                  <a:srgbClr val="00ff00"/>
                </a:solidFill>
                <a:latin typeface="MS Mincho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04" name="Text Box 60"/>
          <p:cNvSpPr/>
          <p:nvPr/>
        </p:nvSpPr>
        <p:spPr>
          <a:xfrm>
            <a:off x="3948480" y="3309840"/>
            <a:ext cx="421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ff00"/>
                </a:solidFill>
                <a:latin typeface="MS Mincho"/>
              </a:rPr>
              <a:t>p</a:t>
            </a:r>
            <a:r>
              <a:rPr b="0" lang="it-IT" sz="2000" spc="-1" strike="noStrike" baseline="-25000">
                <a:solidFill>
                  <a:srgbClr val="00ff00"/>
                </a:solidFill>
                <a:latin typeface="MS Mincho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05" name="Text Box 65"/>
          <p:cNvSpPr/>
          <p:nvPr/>
        </p:nvSpPr>
        <p:spPr>
          <a:xfrm>
            <a:off x="4756680" y="3309840"/>
            <a:ext cx="421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MS Mincho"/>
              </a:rPr>
              <a:t>p</a:t>
            </a:r>
            <a:r>
              <a:rPr b="0" lang="it-IT" sz="2000" spc="-1" strike="noStrike" baseline="-25000">
                <a:solidFill>
                  <a:srgbClr val="ffff00"/>
                </a:solidFill>
                <a:latin typeface="MS Mincho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06" name="Text Box 49"/>
          <p:cNvSpPr/>
          <p:nvPr/>
        </p:nvSpPr>
        <p:spPr>
          <a:xfrm>
            <a:off x="2549880" y="2654280"/>
            <a:ext cx="421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ff00"/>
                </a:solidFill>
                <a:latin typeface="MS Mincho"/>
              </a:rPr>
              <a:t>p</a:t>
            </a:r>
            <a:r>
              <a:rPr b="0" lang="it-IT" sz="2000" spc="-1" strike="noStrike" baseline="-25000">
                <a:solidFill>
                  <a:srgbClr val="00ff00"/>
                </a:solidFill>
                <a:latin typeface="MS Mincho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07" name="Text Box 59"/>
          <p:cNvSpPr/>
          <p:nvPr/>
        </p:nvSpPr>
        <p:spPr>
          <a:xfrm>
            <a:off x="3003840" y="2654280"/>
            <a:ext cx="421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MS Mincho"/>
              </a:rPr>
              <a:t>p</a:t>
            </a:r>
            <a:r>
              <a:rPr b="0" lang="it-IT" sz="2000" spc="-1" strike="noStrike" baseline="-25000">
                <a:solidFill>
                  <a:srgbClr val="ffff00"/>
                </a:solidFill>
                <a:latin typeface="MS Mincho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08" name="Text Box 62"/>
          <p:cNvSpPr/>
          <p:nvPr/>
        </p:nvSpPr>
        <p:spPr>
          <a:xfrm>
            <a:off x="3918240" y="2654280"/>
            <a:ext cx="421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MS Mincho"/>
              </a:rPr>
              <a:t>p</a:t>
            </a:r>
            <a:r>
              <a:rPr b="0" lang="it-IT" sz="2000" spc="-1" strike="noStrike" baseline="-25000">
                <a:solidFill>
                  <a:srgbClr val="ffff00"/>
                </a:solidFill>
                <a:latin typeface="MS Mincho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09" name="Text Box 66"/>
          <p:cNvSpPr/>
          <p:nvPr/>
        </p:nvSpPr>
        <p:spPr>
          <a:xfrm>
            <a:off x="4750200" y="2654280"/>
            <a:ext cx="421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f5f5f"/>
                </a:solidFill>
                <a:latin typeface="MS Mincho"/>
              </a:rPr>
              <a:t>p</a:t>
            </a:r>
            <a:r>
              <a:rPr b="0" lang="it-IT" sz="2000" spc="-1" strike="noStrike" baseline="-25000">
                <a:solidFill>
                  <a:srgbClr val="5f5f5f"/>
                </a:solidFill>
                <a:latin typeface="MS Mincho"/>
              </a:rPr>
              <a:t>5</a:t>
            </a:r>
            <a:endParaRPr b="0" lang="en-US" sz="2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10" name="Text Box 47"/>
          <p:cNvSpPr/>
          <p:nvPr/>
        </p:nvSpPr>
        <p:spPr>
          <a:xfrm>
            <a:off x="1170360" y="3963960"/>
            <a:ext cx="421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MS Mincho"/>
              </a:rPr>
              <a:t>p</a:t>
            </a:r>
            <a:r>
              <a:rPr b="0" lang="it-IT" sz="2000" spc="-1" strike="noStrike" baseline="-25000">
                <a:solidFill>
                  <a:srgbClr val="0000ff"/>
                </a:solidFill>
                <a:latin typeface="MS Mincho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11" name="Text Box 53"/>
          <p:cNvSpPr/>
          <p:nvPr/>
        </p:nvSpPr>
        <p:spPr>
          <a:xfrm>
            <a:off x="1667520" y="3963960"/>
            <a:ext cx="421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MS Mincho"/>
              </a:rPr>
              <a:t>p</a:t>
            </a:r>
            <a:r>
              <a:rPr b="0" lang="it-IT" sz="2000" spc="-1" strike="noStrike" baseline="-25000">
                <a:solidFill>
                  <a:srgbClr val="0000ff"/>
                </a:solidFill>
                <a:latin typeface="MS Mincho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12" name="Text Box 54"/>
          <p:cNvSpPr/>
          <p:nvPr/>
        </p:nvSpPr>
        <p:spPr>
          <a:xfrm>
            <a:off x="2549880" y="3963960"/>
            <a:ext cx="421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MS Mincho"/>
              </a:rPr>
              <a:t>p</a:t>
            </a:r>
            <a:r>
              <a:rPr b="0" lang="it-IT" sz="2000" spc="-1" strike="noStrike" baseline="-25000">
                <a:solidFill>
                  <a:srgbClr val="0000ff"/>
                </a:solidFill>
                <a:latin typeface="MS Mincho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13" name="Text Box 56"/>
          <p:cNvSpPr/>
          <p:nvPr/>
        </p:nvSpPr>
        <p:spPr>
          <a:xfrm>
            <a:off x="2834280" y="3963960"/>
            <a:ext cx="421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cc"/>
                </a:solidFill>
                <a:latin typeface="MS Mincho"/>
              </a:rPr>
              <a:t>p</a:t>
            </a:r>
            <a:r>
              <a:rPr b="0" lang="it-IT" sz="2000" spc="-1" strike="noStrike" baseline="-25000">
                <a:solidFill>
                  <a:srgbClr val="cc00cc"/>
                </a:solidFill>
                <a:latin typeface="MS Mincho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14" name="Text Box 58"/>
          <p:cNvSpPr/>
          <p:nvPr/>
        </p:nvSpPr>
        <p:spPr>
          <a:xfrm>
            <a:off x="3034080" y="3963960"/>
            <a:ext cx="421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cc"/>
                </a:solidFill>
                <a:latin typeface="MS Mincho"/>
              </a:rPr>
              <a:t>p</a:t>
            </a:r>
            <a:r>
              <a:rPr b="0" lang="it-IT" sz="2000" spc="-1" strike="noStrike" baseline="-25000">
                <a:solidFill>
                  <a:srgbClr val="cc00cc"/>
                </a:solidFill>
                <a:latin typeface="MS Mincho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15" name="Text Box 61"/>
          <p:cNvSpPr/>
          <p:nvPr/>
        </p:nvSpPr>
        <p:spPr>
          <a:xfrm>
            <a:off x="3948480" y="3963960"/>
            <a:ext cx="421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cc"/>
                </a:solidFill>
                <a:latin typeface="MS Mincho"/>
              </a:rPr>
              <a:t>p</a:t>
            </a:r>
            <a:r>
              <a:rPr b="0" lang="it-IT" sz="2000" spc="-1" strike="noStrike" baseline="-25000">
                <a:solidFill>
                  <a:srgbClr val="cc00cc"/>
                </a:solidFill>
                <a:latin typeface="MS Mincho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16" name="Text Box 64"/>
          <p:cNvSpPr/>
          <p:nvPr/>
        </p:nvSpPr>
        <p:spPr>
          <a:xfrm>
            <a:off x="4786920" y="3963960"/>
            <a:ext cx="421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ff00"/>
                </a:solidFill>
                <a:latin typeface="MS Mincho"/>
              </a:rPr>
              <a:t>p</a:t>
            </a:r>
            <a:r>
              <a:rPr b="0" lang="it-IT" sz="2000" spc="-1" strike="noStrike" baseline="-25000">
                <a:solidFill>
                  <a:srgbClr val="00ff00"/>
                </a:solidFill>
                <a:latin typeface="MS Mincho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17" name="Text Box 67"/>
          <p:cNvSpPr/>
          <p:nvPr/>
        </p:nvSpPr>
        <p:spPr>
          <a:xfrm>
            <a:off x="5335920" y="3963960"/>
            <a:ext cx="421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MS Mincho"/>
              </a:rPr>
              <a:t>p</a:t>
            </a:r>
            <a:r>
              <a:rPr b="0" lang="it-IT" sz="2000" spc="-1" strike="noStrike" baseline="-25000">
                <a:solidFill>
                  <a:srgbClr val="ffff00"/>
                </a:solidFill>
                <a:latin typeface="MS Mincho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18" name="Text Box 68"/>
          <p:cNvSpPr/>
          <p:nvPr/>
        </p:nvSpPr>
        <p:spPr>
          <a:xfrm>
            <a:off x="6380640" y="3963960"/>
            <a:ext cx="421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f5f5f"/>
                </a:solidFill>
                <a:latin typeface="MS Mincho"/>
              </a:rPr>
              <a:t>p</a:t>
            </a:r>
            <a:r>
              <a:rPr b="0" lang="it-IT" sz="2000" spc="-1" strike="noStrike" baseline="-25000">
                <a:solidFill>
                  <a:srgbClr val="5f5f5f"/>
                </a:solidFill>
                <a:latin typeface="MS Mincho"/>
              </a:rPr>
              <a:t>5</a:t>
            </a:r>
            <a:endParaRPr b="0" lang="en-US" sz="2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19" name="Text Box 72"/>
          <p:cNvSpPr/>
          <p:nvPr/>
        </p:nvSpPr>
        <p:spPr>
          <a:xfrm>
            <a:off x="7605000" y="3927600"/>
            <a:ext cx="1540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ff"/>
                </a:solidFill>
                <a:latin typeface="Arial"/>
              </a:rPr>
              <a:t>}</a:t>
            </a:r>
            <a:r>
              <a:rPr b="0" lang="it-IT" sz="3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processo </a:t>
            </a:r>
            <a:br>
              <a:rPr sz="2000"/>
            </a:b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    attivo</a:t>
            </a:r>
            <a:endParaRPr b="0" lang="en-US" sz="2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20" name="Rectangle 74"/>
          <p:cNvSpPr/>
          <p:nvPr/>
        </p:nvSpPr>
        <p:spPr>
          <a:xfrm>
            <a:off x="1287360" y="4762440"/>
            <a:ext cx="1689120" cy="3571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21" name="Rectangle 75"/>
          <p:cNvSpPr/>
          <p:nvPr/>
        </p:nvSpPr>
        <p:spPr>
          <a:xfrm>
            <a:off x="2995560" y="4762440"/>
            <a:ext cx="1984320" cy="357120"/>
          </a:xfrm>
          <a:prstGeom prst="rect">
            <a:avLst/>
          </a:pr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22" name="Rectangle 76"/>
          <p:cNvSpPr/>
          <p:nvPr/>
        </p:nvSpPr>
        <p:spPr>
          <a:xfrm>
            <a:off x="4994280" y="4761000"/>
            <a:ext cx="512640" cy="3571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23" name="Rectangle 77"/>
          <p:cNvSpPr/>
          <p:nvPr/>
        </p:nvSpPr>
        <p:spPr>
          <a:xfrm>
            <a:off x="5522760" y="4761000"/>
            <a:ext cx="114948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24" name="Rectangle 78"/>
          <p:cNvSpPr/>
          <p:nvPr/>
        </p:nvSpPr>
        <p:spPr>
          <a:xfrm>
            <a:off x="6691320" y="4764240"/>
            <a:ext cx="792000" cy="35712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egnaposto numero diapositiva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5E47D-0BC5-4F19-8952-56560D6AD674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Caratteristiche di FIFO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Vantagg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Ordine di precedenza rispettato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Certezza dell’esecuzion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Completamento di un singolo processo in tempo pari al tempo di esecuzione dopo l’accesso alla risorsa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4796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vantagg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Tempo di attesa in coda variabil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Impossibilità di gestire le urgenza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Processi molto lunghi possono tenere in coda processi molto corti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6EE51-960D-4A83-A904-626BCEF67DCF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Priority queue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I processi che chiedono la CPU ne entrano in possesso quando tutti i processi che ne avevano fatto richiesta prima avendo priorità maggiore o uguale al processo richiedente l’hanno impiegat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Un processo in coda è sempre in attes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Non esistono processi sopit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B9A78-65B5-48AF-BEB6-F47A1F71B329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Implementazioni di PQ (1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A coda singol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I processi vengono monitorati solo all’ingresso in coda e la risalgono fino a quando il processo che le precede ha la stessa priorità, o priorità maggiore o hanno raggiunto la cima della cod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DC0C4-5112-4701-B61A-B44FCE2662F0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Implementazioni di PQ (2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A coda multipl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Ogni priorità ha la sua cod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I processi di una coda vengono eseguiti in ordine FIF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Le code vengono monitorate in ordine diretto dalla priorità più alta a quella più bass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egnaposto numero diapositiva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D6D78-30A3-4218-9368-45B10ACF2E6D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Caratteristiche di PQ (1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Vantagg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Garanzia di priorità per processi urgenti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Tempo di attesa in coda dipende dalla priorità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4796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vantagg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Processi a bassa priorità possono restare in coda potenzialmente all’infinito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Difficile attribuire le priorità in modo automatico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egnaposto numero diapositiva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95E2D-714C-41BA-96B3-9FB9FA6493D6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Caratteristiche di PQ (2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Vantagg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Garanzia di priorità per processi urgenti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Tempo di attesa in coda dipende dalla priorità e in parte dall’ordine di richiesta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I processi, anche a bassa priorità vengono sempre eseguiti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4796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vantagg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Difficile attribuire le priorità in modo automatico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Processi ad alta priorità possono attendere a lungo in ogni caso, essendo in coda alle richiest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061D5-A678-4AEA-9AA2-08E9FDC8CCA5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Shortest Job Firs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Viene eseguito per primo il processo più breve tra quelli in cod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Un processo in coda è sempre in attes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Non esistono processi sopit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egnaposto numero diapositiva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814A0-6502-4A47-BFDD-4C2C8197D020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Caratteristiche di SJF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Vantagg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Tempo medio di attesa in coda è minimizzato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4796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vantagg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Processi lunghi possono restare in coda potenzialmente all’infinito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Nessuna priorità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77813-D612-4B91-9843-55CBBE77E6FB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cccc"/>
                </a:solidFill>
                <a:latin typeface="Times New Roman"/>
              </a:rPr>
              <a:t>Schema generale di un sistema operativo</a:t>
            </a: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1981080" y="1676520"/>
            <a:ext cx="4746600" cy="45115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292CC-3761-4E92-B6AC-0B37DA6BE9D4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Round-Robi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Ogni processo è ripartito in fette di tempo (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time-slice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) di durata massima predefinit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Quando una time-slice è terminata la CPU viene attribuita al processo successivo in cod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I processi in coda sono sia in attesa che sopit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E3FCA-C9FB-40EF-AD0E-EC660C29E49F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Round-Robin e DM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e un processo fa solo operazioni CPU durante il suo Time-Slice, allora, dato che non verrà intrappolato continuerà a possedere la CPU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e un processo accede a memoria o periferiche finirà intrappolato e il monitor gli sottrarrà la CPU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Perciò, in presenza di un trap, la durata di una time-slice sarà inferior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egnaposto numero diapositiva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B2528-1008-4F7D-B50A-25F5952B42FA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Caratteristiche del Round-Robi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Vantagg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Certezza dell’esecuzion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Minimizzazione del tempo di attesa in coda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Sfruttamento completo delle risors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4796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vantagg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La maggior complicazione dell’algoritmo di scheduling richiede grande attenzione alla sua implementazion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4D8ED-AE4E-42CF-9770-0EBFD41B68E9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Schemi del Job Schedul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6513480" cy="43225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97E86-E419-45F4-95A4-BD29AE736EFF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Concorrenz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Processi eseguiti in coda su macchine sequenziali monitorate da un sistema operativo con Job Scheduler a politica Round-Robin si dicono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concorrent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La concorrenza non è parallelism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190B8-18A0-4A1F-9738-CD5830A4668F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Tipi di sistema operativo (1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Rispetto all’esecuzione di applicazioni un sistema operativo può concepire applicazioni in tre stat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Con il Focu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Attiv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Accessibil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65EC6-1328-46E7-B4D1-216AEF4C09D3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Tipi di sistema operativo (2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e un sistema operativo ammette più applicazioni con il focus e il Job Scheduling è Round-Robin, allora due utenti potrebbero eseguire applicazioni diverse in concorrenz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e ciò avviene diremo che il sistema operativo con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time-sharing competitiv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8B07D-3A39-4BFD-AF76-43A20D40BA34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Tipi di sistema operativo (3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Nel caso opposto, cioè quando una applicazione cede il focus solo spontaneamente, diremo che il time-sharing è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 cooperativ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Windows95 e Mac OS fino alla versione 4 sono sistemi definiti cooperativ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Da Windows98 in poi e da Mac OS 5 si parla di sistemi competitiv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5622F-6E6B-40E7-A69C-50A15670FD3F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File system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i chiama File System l’organizzazione strutturale dei dati di memoria di massa gestita da un sistema operativ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Questa funzione è fondamentale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8738B-7440-4B61-83CE-531ED46F06E4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Organizzazione del file system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Aspett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È un alber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Navigabile bidirezionalment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I nodi si chiamano Directory, e i legami parenthood link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C1F7F-F6C9-4788-BA86-606661C5B14C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Concetto di processo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Un processo è un programma in esecuzion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istemi operativi diversi modellano diversamente le relazioni temporali tra process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ATTENZIONE: Un’applicazione non è necessariamente un programm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Molte applicazioni sono implementate da un insieme di programmi e quindi quando sono in esecuzione vi sono molti process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F7B51-DEC0-4F0D-A990-84916D431C0B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Organizzazione dei dat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I file vengono collocati nel disco dove possibil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Per sfruttare al meglio lo spazio i file possono essere spezzati in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blocch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La cancellazione di un file o la sua modifica comporta la modifica (e potenzialemte) l’eliminazione dei blocchi che lo compongon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3CB51-769D-4239-955B-C25A3CC4187E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Metodo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Occorre quindi progettare tecniche di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Allocazione dei Blocchi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che consentano di evitare sprechi e garantire la conservazione dell’integrità dei dati stess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Le politiche di allocazione sono uno delle più significative scelte strategiche nella definizione di un sistema operativ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56997-A9A6-4F7B-80DE-2C1B86ED34F2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Tecniche di allocazione (1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Le tecniche di allocazione dei blocchi sono costruite sui seguenti assunt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I blocchi hanno tutti le stesse dimension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Il numero di blocchi di un file è variabil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2F4B9-8C9D-45DE-8E8C-A8B2AFBBDDC0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Best-Fi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Trova le zone libere del disco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Ripartisci il file in segmenti di blocchi adiacenti in modo da garantire che ogni segmento occupi una zona libera del disco con il minimo spreco di memori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40EE-10BA-4A07-8116-21B67F36B646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Caratteristiche di Best-Fi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Potenzialmente difficile il problema di trovare le aree per l’allocazion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e residuano piccole porzioni del disco esse saranno certamente sprecat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Esempi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Windows95, Windows98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Implementava una FAT (File Allocation Table) dove registrava le informazioni di allocazione e disallocazione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Dopo un periodo di uso intenso occorreva operare una deframmentazione per compattare e quindi riutilizzare le aree del disco inutilizzate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9F621-2222-43D9-B20A-7ACFFE45B2D1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Worst-Fi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Trova le zone libere del disco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Ripartisci il file in blocchi in modo da garantire che ogni segmento occupi una zona libera del disco con il massimo spreco di memori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5BF64-9A32-4A2F-93B6-75C4FE6CBE47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Caratteristiche di Worst-Fi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Minor sprec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È più probabile che se un file è piccolo si allochi subit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22374-F5AB-4301-8ADE-980D43982AAA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Backup (1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A causa dei crash elettrici, degli errori umani e dei problemi con software con bachi è possibile che dati recentemente scaricati sul computer siano illeggibil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Per prudenza, quindi, si fa copia del contenuto del disco (o talvolta di una sua parte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Tale copia si chiama backup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583EB-8712-47F2-843A-282A91435713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Backup (2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Il backup, per sistemi di grandi dimensioni, può risultare voluminoso e lungo da fare a man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i ricorre quindi a tecniche di Backup periodico (ogni giorno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6EA62-6FD2-4438-929E-A536AD246C78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Sistemi operativi esistent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La grande famiglia UNIX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ix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Linux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NetBSD, FreeBSD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Windows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Windows 95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Windows 98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Windows 2000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Windows XP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ADEC8-E7A5-4060-A7F6-38DAE01E6A6B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Stato di un processo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Un processo, in un sistema operativo, può trovarsi in una delle seguenti situazion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Attivo: 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il processo è in esecuzione, e </a:t>
            </a:r>
            <a:br>
              <a:rPr sz="2800"/>
            </a:b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controlla le risorse;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In attesa: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il processo è in esecuzione, ma</a:t>
            </a:r>
            <a:br>
              <a:rPr sz="2800"/>
            </a:b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non controlla le risorse;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opito: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il processo non è in esecuzione,</a:t>
            </a:r>
            <a:br>
              <a:rPr sz="2800"/>
            </a:b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ma attende di essere richiamat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1BB5-FC88-46FF-B103-D1F063DC77AE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DOS e Window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DOS (Disk Operating System) fu una idea di interesse sviluppata con lo scopo di rendere semplice l’accesso a risorse di un computer da parte di utenti inespert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Attualmente esso è una componente di Windows (il Prompt dei Comandi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71BA5-5CB0-4006-BA32-DF89FD70DD60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Mac O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La Apple ha sempre prodotto il software di gestione delle proprie macchine in modo totalmente autonomo rispetto alle pressioni del mercat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Il sistema operativo, molto simile come ambiente operativo a Windows, gestisce la memoria e le altre risorse in modo prioritari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22F4F-8874-49A1-9EA4-C086D6FBA00D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Gestione delle risors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Le risorse a disposizione di un processo sono fondamentalmente tre: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Il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tempo di CPU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, ovvero il controllo dell’esecuzione su macchine sequenziali, il possesso di una delle risorse di calcolo parallele su macchine non sequenzial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La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memoria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central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Le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periferich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A2C51-1EE6-4E27-84AA-FED50C7B4C53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Condivisibilità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a risorsa si dice condivisibile se il fatto che un processo vi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acceda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non significa che la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controll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 processo accede ad una risorsa quando può farne uso, ovvero quando i comandi che invia a quella risorsa sono eseguit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 processo controlla una risorsa quando ogni richiesta di accesso da parte di altri processi effettuata mentre il processo stesso vi accede viene respint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7AC87-C4A7-4906-9F7B-457443328875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Monito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Un pezzo essenziale del kernel di un sistema operativo è il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monitor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Presiede al coordinamento ed al controllo delle funzioni del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Resource Manager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che gestisc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Job Scheduling 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(CPU Time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Memory assignemen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Periferich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8D65A-CD6B-4FEF-B0F5-1BF7FA3B601D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Funzioni del monito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Il monitor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tabilisce l’accesso alla CPU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Gestisce l’accesso a memoria e periferich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Coordina le funzioni di access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7T10:37:25Z</dcterms:created>
  <dc:creator> </dc:creator>
  <dc:description/>
  <dc:language>en-US</dc:language>
  <cp:lastModifiedBy>Matteo</cp:lastModifiedBy>
  <cp:lastPrinted>2000-02-27T18:44:12Z</cp:lastPrinted>
  <dcterms:modified xsi:type="dcterms:W3CDTF">2008-12-08T23:36:51Z</dcterms:modified>
  <cp:revision>38</cp:revision>
  <dc:subject/>
  <dc:title>Corso di Informatica  per Giurisprudenza Lezione 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profs.sci.univr.it/fummi</vt:lpwstr>
  </property>
  <property fmtid="{D5CDD505-2E9C-101B-9397-08002B2CF9AE}" pid="9" name="LinkColor">
    <vt:r8>16711782</vt:r8>
  </property>
  <property fmtid="{D5CDD505-2E9C-101B-9397-08002B2CF9AE}" pid="10" name="MailAddress">
    <vt:lpwstr>fummi@sci.univr.it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User\Franco\SLIDES\VERONA\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