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E7DD406-BB1E-4C22-B682-23315CFD4F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A9231BF-3E96-49F4-8065-9AC6186091D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6417EC1-3452-44D4-B5B1-5708992B6A4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DF7B92-54D1-46FF-804A-4DE88248A1A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276E592-DD9C-4829-8870-E415ABFF571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1E9189-003A-4A43-A265-D218071A9DA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FE77DA5-3F5D-4224-A948-574256AECE7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263CA0-F6BA-40A3-8B93-E78EB2FCF83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D46FE61-00F9-4642-89FC-B9010C443F8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029554-9370-428C-B820-E9551F7BEC1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CB744D6-DE89-40BD-A12E-FF4AD826B55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E2E8346-FB37-425D-B024-9FE1F8E7B59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B271A2-F73A-4D70-9A92-D5A551B2E69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9B0A9E9-23C2-4F17-AD11-8EF9EC41B4F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5FE8C5D-00E2-4121-A55C-0D6D3172CF2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68348A7-76F9-4A4F-9290-2CE0768E808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33D8FE-64B4-4473-B721-B70D1298B55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33204B-86A1-404B-9083-CB00944E462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41C8711-FA14-4D3F-9F12-4039BCDCF80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A1BC96-545C-479E-A076-5092AB8F4C8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D58B66-1E32-4560-84F2-15BB92582AA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CAE8A1-CD40-44C2-9E82-B2333FA21E4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92E7ED9-7E0E-45EC-9B14-B84DFF78106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D945C6-DEEB-4518-8973-AC42D61815D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4BD866A-6000-45C4-8A01-BE3010CED94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4D3753-522C-448A-A3A4-74A3CF8AEBF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AD4970-C9BB-4D90-BB5A-24FBAABDC7C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3BD2E2A-93D7-42A0-AD15-5A3D163EBD1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8DF9A03-F249-4FC6-A904-BE9BFB45524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A05C629-F0F9-4504-A601-55BEFEFF395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B6CC07E-48CE-424D-A241-CC685EB8E44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2CBE830-9D87-478B-B47C-62097A19202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6AF60A-AAF9-4270-A756-8E62E83DA20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6A03C5-FBA1-4CB2-ADDA-5AF5BCC9E54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9F52C4-5BD8-4936-88DA-BFD8DDE1368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596B4A-40D6-4127-A159-37CB2D0C58E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7E1ECC-98CB-4704-947D-04C3667ACD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488D50-2255-40E5-85ED-19B60440486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4D7EC4-C73E-4B2A-8647-611E11E4E0D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0C99232-3812-4DE8-B6AC-BED7C8080B9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A91C25-A2A7-4067-B8E4-8EFB456FACF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0551BB-8FD3-48EF-9B25-C2E0F033A1C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C179CB-C803-45D5-80E3-F3D1B2AAA16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5AE911-D3A9-44D0-8714-590A5714CE9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CD3767-C2DF-4974-B41C-D1DD00B9F6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3C6E8F-3CEC-41F1-A29A-8398D1E7F43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A5F810-901E-49C1-84D0-19A3BE19051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14FFB7-DAEC-4D35-A92D-4954CB4C58E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AE00BE-D202-45C0-A1C2-0CE042F3E17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0A9AE0-D91C-4F25-9AB8-DED3F18775B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401E583-8128-4391-8366-93162C700E4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A106A73-4815-4EC5-8083-7DE80AE81EB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014287-BB29-42CD-8533-4812ADF7D0B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D306E5C-26A8-4AF7-817E-527ED274508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E31F5B4-D60E-4230-AB22-EDCBF2B70F8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73CF19B-5FD1-4EB6-B89B-AC437126C86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87A8C0-37D2-406B-AEB7-65370694BDB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A750200-DB55-42C5-8D6A-0D14CE2C7EF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B696C16-8C98-4C8F-93C9-82E34029299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179-3773-4B6B-A220-EA2AC4EA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DD2-965D-451E-98AB-F02D6335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DAC-8EDA-4D63-9C1A-91E84B75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894-95E4-443C-84EF-B3FD8DBB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A00-0B4A-405F-9A86-3C46B340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3113-4D2B-482F-8DF1-A000EE11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937-BA4A-4D75-AA61-84A9F1B5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108-27B5-49CB-ACA5-9F02233F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D63B-ECA3-4236-8AB3-152D3355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B8A2-9F7C-478C-AD7E-A1914CB2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F48E-DF1B-4291-A1A3-2B30FB9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538-E7F0-4808-AAAC-5B46597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1AE0-BAC4-455D-9488-49CDB99B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2C92-D032-4702-9FB0-9A7823E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B2E-96EB-4FB8-939E-23C672C4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85D0-E693-4984-B1F5-CA15BDA4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6B2-3931-466C-AFA3-07C7F9BE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B22-B4EB-4DB6-BF2A-4BFA7D32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BCF-74E3-490D-8D26-B0DADE83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A1B-7815-4F24-B2BF-8527D51A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027-EB49-478B-AE89-869E3B1F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D1F-264F-4185-905E-1E93E3F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E9F-5C62-46F7-9DFE-A3856527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7F7-EF2D-408C-BAEF-2D2FCA58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0A63-93EF-49B2-9720-44600ABD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7CC2-155B-45B4-B7D8-87AD8AD46B5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3FC7-1000-46C3-AFB7-02A85585601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6FE1-8EC1-41C2-93B6-64151D1F530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l concetto di linguaggi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un alfabeto,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denota l’insieme delle stringhe su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nota l’insieme delle stringhe su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tranne la stringa vuo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- {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ttoinsieme delle stringhe su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E91-7BC3-45CB-AF6B-767B87E0BC1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n 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= {a,b,c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* = {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a, b, c, aa, ab, ac, ba, bb, bc, ca, cb, cc, aaa, aab, aac, …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 = {a, aa, aaa, aaaa, aaaaa, …}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3B7D-36E8-4BAE-B1F2-5A971AB243B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ato un alfabeto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tt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lfabeto termina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lfabeto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tt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lfabeto nontermina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elemento s dell’alfabeto nonterminale detto simbolo distinto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P di regole di produzione che trasformano stringhe di (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* in stringhe nonvuote su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quadrupla &lt;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s,P&gt; è detta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grammat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A6C-2DAA-43E2-9ACE-BC3DA944831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e due stringh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i (V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* diremo ch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eriv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⇒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se e solo se scrive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= x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= x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 x, y,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in (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*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’è una regola di produzione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→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A5F-DDAD-4050-A2BE-F70F905C359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tringa è derivata indirettamente da un’altra quando si può compiere una sequenza di passi di derivazione che conduce dalla prima alla seconda string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linguaggio generato da una grammatic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è costituito dal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tringhe terminali derivate indirettamente dal simbolo disti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stringa del linguaggio generato da una grammatica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inttaticamente corretta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la grammatica stes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647E-E4E6-43D1-8755-26E2606E069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4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 generato da una grammatica si dice grammati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MPORTANTISSIMO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 è grammaticale se e solo se è riconoscibile da una macchina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28E-9120-422A-810E-D02F5994F5C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sservazion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ostante gli alfabeti siano insiemi finiti i linguaggi possono essere infinit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stringa vuota è uguale per qualsiasi alfabe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2B4-2031-46FD-9579-D4B191F1B84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sservazion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lettere dell’Italiano sono simboli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ossiamo vedere come linguaggi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lessico (radici e desinenze delle parol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vocabolario (l’insieme delle parole italian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e strutture frasali (sintagmi) italiane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l giovane biologo veronese”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’arguto giurista in erba scaligero”;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’interessante corso di Informatica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e frasi ed i periodi Italiani: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a lezione si fece stimolante”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a pausa per il caffè era peraltro cogente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70F-92ED-48CD-8D43-02FA4062316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amiamo 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BLEMA DI RICONOSCIMENTO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i un linguaggio L su di un alfabeto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il problema di stabilire se una data string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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in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* sia in L o 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string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 dice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stanz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el proble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EEEA-4A75-4057-B2C9-9C3165DA810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ano A e B due insiemi, diciamo</a:t>
            </a:r>
            <a:br>
              <a:rPr sz="2800"/>
            </a:b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Prodotto Cartesiano A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╳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sieme delle coppie ordinate di elementi 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A e B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hiamiamo relazione tra A e B un sottoinsieme del prodotto cartesiano di A e B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a rela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finita tra A e B definiamo A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domin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i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e B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domin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i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B0EF-48F3-44E8-9302-B949DB35A14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cetto di algoritm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goritmi e programm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cchina a sta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uaggi e calcolabilità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uaggi di Programm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mantica operaziona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unzioni e denotazion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quivalenza funzionale e computazion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fica de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ipi elementa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trutture di da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D4F-83C8-4086-9646-BA7CE42E0AD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è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relazione univoc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cioè una relazione che ad ogni elemento del dominio associa al più un elemento del codomin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che associa sempre ad un elemento del dominio un elemento del codominio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ot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9C50-0001-452E-9271-C5AC8C4910D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elemento x del dominio l’elemento in rela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on x nel codominio si indica con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x) e si dice l’immagine di 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elemento y nel codominio, se vale y =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x), allora si dice che x è la controimmagine di y secondo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80AF-04AE-4C80-B411-A51DD68719B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4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e ad elementi distinti del dominio associa elementi distinti del codominio: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≠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y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→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x)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≠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ur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e ogni elemento del codominio ha controimmagine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∀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∃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[y =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x)]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sia iniettiva che suriettiva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i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o biunivo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4715-9294-42B0-8448-B4DA827590C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={0,1}; B={a,b}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B = {(0,a);(0,b);(1,a);(1,b)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elazione determinata da 1 va con b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={(0,a);(0,b);(1,b)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C84-302A-4A6D-8EC8-A22C65FC42F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a A=naturali (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 e B=natur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=n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prietà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n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Non sur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= maxdiv(n) [che trova il massimo divisore di n strettamente minore di n]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prietà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Non in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ur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FB8E-4124-4A73-A9A5-AE39D8670CA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a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fun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a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numeri natural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in se stessi (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: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Dato un numero naturale n chiamiamo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PROBLEMA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Trovare f(n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i due numeri naturali m ed n chiamiamo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PROBLEMA DI DECIS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Stabilire se vale f(n) = 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B0A7-25DB-436C-ABA4-76FE5B8B7C4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etto di calcolabilità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alcolabil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e e solo se esiste una macchina a stati che è in grado di leggere n in input e scriver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n) in output in un tempo fini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totale e calcolabil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otalmente calcolabi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E0B-BC6D-40B3-A5AB-C15A9D8403E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problema di decisione può essere risolto se so risolvere il corrispondente problema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decidere se m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calcolo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e stabilisco se vale l’uguaglia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no ovviamente vale anche il contr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so stabilire quando m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per calcolar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enumero da 1 in avanti e risolvo 1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, 2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,… fino a quando il risultato è vero. Il valore stabilito è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B5F9-DB55-462C-9E17-2E9A26F0C2E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oblema di decisione corrisponde ad un problema di riconoscimento e vicever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stabilire che questo è vero è sufficiente ricordare che l’insieme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è ovviament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umerabi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(anche detto di cardinalità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ℵ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0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)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vvero corrispondente biunivocamente ad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tramite 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h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Una volta enumerato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il problema di riconoscimento per una stringa corrisponde a stabilire se vale per 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)=1 (inteso come codifica per il vero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7469-748F-4B01-AC3B-17E11BF6709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2) - continu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 problema di decisione ogni istanza del problema può definirsi come una istanza di un problema di riconosc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Enumeriam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. Enumeriamo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 per un dato alfabeto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e costruiamo la corrispondenza biunivoca composta da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 all’enumerazione di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Ogni coppia di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corrisponde ora ad una stringa in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. Sia L il linguaggio delle stringhe che corrispondono ad una coppia (m,n) tale che </a:t>
            </a: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)=m. Riconoscere L corrisponde a risolvere il problema di decisione per </a:t>
            </a: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16FD-CC79-4327-9C17-CF9D2E8542B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china a stat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ormalizzazione del concetto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perazioni base di una macchina a stati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ttura dell’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rittura dell’out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ransizione di sta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emorizzazione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3F99-F3E5-465A-95B2-A09A458C974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paradigmat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e le equivalenze sopradette, i problem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aradigmatici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no quelli di riconosci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alcolabilità è definita mediante macchine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Quind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l’obiettivo dell’informatica teorica è definire tecniche per risolvere problemi di riconoscimento mediante macchine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2CC-9371-4AD6-9D99-9BBE2679F18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linguaggio di programmazione è un linguaggio grammaticale il cui scopo è descrivere tecniche di risoluzione di problemi in modo che attraverso un meccanismo automatico si possa fare applicare tali tecniche su di una macchina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token di un linguaggio di programmazione (simboli dell’alfabeto su cui è costruito) si chiaman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stru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CB00-34E8-4CBF-8024-BCA592DD26E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tringa sintatticamente corretta di un linguaggio di programmazione si dice un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rogram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semantica operazional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un linguaggio di programmazione corrisponde ad un insieme di regole che trasformano programmi in macchine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semantica denotazional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un linguaggio di programmazione corrisponde ad un insieme di regole che trasformano un programma nella funzione da esso calcola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919-DCBC-4EF6-8CD4-05AB47A3458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le istruzioni di un linguaggio di programmazione vengono tradotte in comandi eseguibili dalla macchin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struzioni macchin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una per volta il linguaggio di programmazion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nterpret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gramma che effettua la traduzione si dice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interpre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372C-A666-43BA-88C7-BCD213DB77F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ogni programma di un linguaggio di programmazione viene tradotto in una sequenza di istruzioni macchin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dice eseguibil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il linguaggio di programmazion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mpil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gramma che effettua la traduzione si dice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compil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FFC5-DB85-4F76-9619-E2D5C0D649C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ogramma eseguibile può essere in realtà strutturato in comandi eseguibili direttamente dalla macchina ma anche in comandi eseguibili d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acchine virtu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macchina virtuale è un programma che conosce un codice intermedio tra quello ad alto livello del linguaggio di programmazione e quello della macchina fis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ale codice prende il nome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-cod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7419-C223-41BE-BDE5-4C50B51B87E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chitettura dei linguagg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ntassi del linguaggio e sua anali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ARS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mantica del 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TERPRE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MPILATO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cuzione di programm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un-Time Supp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6A95-B430-42FB-AF75-8B9CA690696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aradigmi di programmazion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aradigma di programmazione è un modo di vedere la macchina che esegue i programm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cuzione di p-code come semantica operaz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A66-A8D4-4B29-B6F8-1B5B30D4063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aradigmi di programmazione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im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computazione è modellata come l’esecuzione di ordini da parte di un “servo”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dichia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computazione è modellata come un calcolo strutturato d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unzioni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paradigma funzionale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Condizioni logiche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paradigma logico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8CB-8101-41A4-9770-E5A1FC95687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di programm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ue programmi che computano la stessa funzione possono farlo in modo profondamente divers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due programmi computano la stessa funzione si dice che 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funzionalmente equival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due programmi che computano la stessa funzione lo fanno nello stesso modo si dice che 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lgoritmicamente equival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EAD-8A05-43FB-BDFA-95FEFCD8D1E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china a stat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lcolo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o inizi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caratteri di 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stati ed azioni di trasformazione dell’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scritture dell’out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i fin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6041-21B3-4315-A9F2-59CA62CF246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goritm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ciò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lgoritm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è la forma astratta di un programma, essendo due programmi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mplementazioni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ello stesso algoritmo se computano la stessa funzione nello stesso mo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cessità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modo semplice e generale di descrivere gli algoritm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seudolinguagg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a forma non implementata di linguaggio di programmazione che contenga le strutture base dei linguaggi di programmazione (imperativ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07E-3B6F-4B17-B48B-0DBFFE0C4AD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rutture fondament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unzioni ba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o di flu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ttura d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rittura d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ssegnamento di valori 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variabi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F701-9A66-4FD0-AE75-FE0955560EC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sequenz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ruttura di controllo per fare eseguire due istruzioni una dopo l’alt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rappresentazione normalmente adottata è di utilizzare un separatore di linea esplicito /il punto e virgola) o implicito (a capo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410080" y="28195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uzione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410080" y="4038480"/>
            <a:ext cx="266724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uzione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255" name="AutoShape 8"/>
          <p:cNvCxnSpPr>
            <a:stCxn id="253" idx="2"/>
            <a:endCxn id="254" idx="0"/>
          </p:cNvCxnSpPr>
          <p:nvPr/>
        </p:nvCxnSpPr>
        <p:spPr>
          <a:xfrm>
            <a:off x="6743520" y="335232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p:transition>
    <p:wipe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7DD9-4507-4DF9-8F26-D4F80B8494F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sele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ttura di controllo per fare eseguire una istruzione se vale una condizione ed un’altra altrim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struttura generalmente si rappresenta mediante la codifica</a:t>
            </a:r>
            <a:br>
              <a:rPr sz="2400"/>
            </a:b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se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ndi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llora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. 1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ltrimenti 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.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105520" y="4038480"/>
            <a:ext cx="12189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5029200" y="2514600"/>
            <a:ext cx="3048120" cy="838080"/>
          </a:xfrm>
          <a:prstGeom prst="flowChartDecis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condizione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858000" y="4038480"/>
            <a:ext cx="12193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262" name="Group 16"/>
          <p:cNvGrpSpPr/>
          <p:nvPr/>
        </p:nvGrpSpPr>
        <p:grpSpPr>
          <a:xfrm>
            <a:off x="5714640" y="3352320"/>
            <a:ext cx="838440" cy="686160"/>
            <a:chOff x="5714640" y="3352320"/>
            <a:chExt cx="838440" cy="686160"/>
          </a:xfrm>
        </p:grpSpPr>
        <p:cxnSp>
          <p:nvCxnSpPr>
            <p:cNvPr id="263" name="AutoShape 10"/>
            <p:cNvCxnSpPr>
              <a:stCxn id="260" idx="2"/>
              <a:endCxn id="259" idx="0"/>
            </p:cNvCxnSpPr>
            <p:nvPr/>
          </p:nvCxnSpPr>
          <p:spPr>
            <a:xfrm rot="5400000">
              <a:off x="5790600" y="3276360"/>
              <a:ext cx="686520" cy="83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Text Box 12"/>
            <p:cNvSpPr/>
            <p:nvPr/>
          </p:nvSpPr>
          <p:spPr>
            <a:xfrm>
              <a:off x="5717160" y="3352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ver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grpSp>
        <p:nvGrpSpPr>
          <p:cNvPr id="265" name="Group 15"/>
          <p:cNvGrpSpPr/>
          <p:nvPr/>
        </p:nvGrpSpPr>
        <p:grpSpPr>
          <a:xfrm>
            <a:off x="6553080" y="3352320"/>
            <a:ext cx="977040" cy="686160"/>
            <a:chOff x="6553080" y="3352320"/>
            <a:chExt cx="977040" cy="686160"/>
          </a:xfrm>
        </p:grpSpPr>
        <p:cxnSp>
          <p:nvCxnSpPr>
            <p:cNvPr id="266" name="AutoShape 11"/>
            <p:cNvCxnSpPr>
              <a:stCxn id="260" idx="2"/>
              <a:endCxn id="261" idx="0"/>
            </p:cNvCxnSpPr>
            <p:nvPr/>
          </p:nvCxnSpPr>
          <p:spPr>
            <a:xfrm flipH="1" rot="16200000">
              <a:off x="6667200" y="3237840"/>
              <a:ext cx="68652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Text Box 14"/>
            <p:cNvSpPr/>
            <p:nvPr/>
          </p:nvSpPr>
          <p:spPr>
            <a:xfrm>
              <a:off x="6919560" y="33526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fals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910-C5A5-40BF-9EB4-6B8D8521F22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cicl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ttura di controllo per fare eseguire ripetutamente una istruzione se vale una condizion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struttura generalmente si rappresenta mediante la codifica</a:t>
            </a:r>
            <a:br>
              <a:rPr sz="2400"/>
            </a:b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fintantoché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ndi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943600" y="4114800"/>
            <a:ext cx="12193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5029200" y="2514600"/>
            <a:ext cx="3048120" cy="838080"/>
          </a:xfrm>
          <a:prstGeom prst="flowChartDecis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condizione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019920" y="5334120"/>
            <a:ext cx="1218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274" name="AutoShape 13"/>
          <p:cNvCxnSpPr>
            <a:stCxn id="271" idx="2"/>
            <a:endCxn id="272" idx="1"/>
          </p:cNvCxnSpPr>
          <p:nvPr/>
        </p:nvCxnSpPr>
        <p:spPr>
          <a:xfrm flipV="1" rot="16200000">
            <a:off x="4933080" y="3028320"/>
            <a:ext cx="1715400" cy="1524600"/>
          </a:xfrm>
          <a:prstGeom prst="bentConnector4">
            <a:avLst>
              <a:gd name="adj1" fmla="val -13329"/>
              <a:gd name="adj2" fmla="val 1149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5" name="Group 16"/>
          <p:cNvGrpSpPr/>
          <p:nvPr/>
        </p:nvGrpSpPr>
        <p:grpSpPr>
          <a:xfrm>
            <a:off x="5945760" y="3352320"/>
            <a:ext cx="607320" cy="762480"/>
            <a:chOff x="5945760" y="3352320"/>
            <a:chExt cx="607320" cy="762480"/>
          </a:xfrm>
        </p:grpSpPr>
        <p:sp>
          <p:nvSpPr>
            <p:cNvPr id="276" name="Text Box 9"/>
            <p:cNvSpPr/>
            <p:nvPr/>
          </p:nvSpPr>
          <p:spPr>
            <a:xfrm flipH="1">
              <a:off x="5945760" y="35053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ver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  <p:cxnSp>
          <p:nvCxnSpPr>
            <p:cNvPr id="277" name="AutoShape 14"/>
            <p:cNvCxnSpPr>
              <a:stCxn id="272" idx="2"/>
              <a:endCxn id="271" idx="0"/>
            </p:cNvCxnSpPr>
            <p:nvPr/>
          </p:nvCxnSpPr>
          <p:spPr>
            <a:xfrm flipH="1">
              <a:off x="6552360" y="33523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Group 17"/>
          <p:cNvGrpSpPr/>
          <p:nvPr/>
        </p:nvGrpSpPr>
        <p:grpSpPr>
          <a:xfrm>
            <a:off x="7238160" y="2933280"/>
            <a:ext cx="1069560" cy="2667600"/>
            <a:chOff x="7238160" y="2933280"/>
            <a:chExt cx="1069560" cy="2667600"/>
          </a:xfrm>
        </p:grpSpPr>
        <p:sp>
          <p:nvSpPr>
            <p:cNvPr id="279" name="Text Box 12"/>
            <p:cNvSpPr/>
            <p:nvPr/>
          </p:nvSpPr>
          <p:spPr>
            <a:xfrm>
              <a:off x="7697160" y="38862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fals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  <p:cxnSp>
          <p:nvCxnSpPr>
            <p:cNvPr id="280" name="AutoShape 15"/>
            <p:cNvCxnSpPr>
              <a:stCxn id="272" idx="3"/>
              <a:endCxn id="273" idx="3"/>
            </p:cNvCxnSpPr>
            <p:nvPr/>
          </p:nvCxnSpPr>
          <p:spPr>
            <a:xfrm flipH="1">
              <a:off x="7238160" y="2933280"/>
              <a:ext cx="839160" cy="2667960"/>
            </a:xfrm>
            <a:prstGeom prst="bentConnector3">
              <a:avLst>
                <a:gd name="adj1" fmla="val -2725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3F47-3BC8-4792-B299-E016FCA823B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Nozione di variabi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riab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Val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nome di variabile è valido, generalmente se è alfanumerico con limiti all’impiego di operatori aritmetici e se inizia con una lette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ccorrono costrutti p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efinire tip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ttribuire tipi alle variabi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D910-9757-44F5-BC25-008C6C9E7E5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tre istruzioni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segna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← v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ottocaso: incre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← x +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Le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read(x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cri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write(x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EE77-8AB4-48F1-A015-883D8ADEE3B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i elementari/struttur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i predefiniti/ut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strutti di definizione di tip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strutti di binding (assegnamento di tipo alle variabili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egole di compatibilità tra tip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63FD-0F1D-4998-8338-8B4AFA31790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element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ipi elementari predefin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ter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umeri relativ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hort/lo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an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Real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umeri con la virgola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loat/Doub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ange e precis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aratter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caratteri alfanumeric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ingh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equenze di caratteri alfanumeric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ogic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vero o fals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ECEE-FEF0-4AFA-8A1B-5267DF8E2FC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enumerativ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tipi enumerativi sono tipi utente elementari costituiti da un elenco di tutti e soli i possibili valori del tipo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mpio: colori dell’arcobale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{rosso, arancione, giallo, verde, blu, indaco, violetto}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EC8D-C147-4DD4-96D0-705C88AC189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appresentazione a gra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1F9C-0866-4272-9457-58D7A8190AE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struttur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sta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ecor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dinam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s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be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18DD-1B2E-4BC6-B69B-EFBFDA75F3B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agli elemen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ad accesso diretto o casuale sono quelle che permettono di leggere e scrivere elementi della struttura senza aver prima scandito altri elem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ad accesso sequenziale sono quelle che invece richiedono che la lettura di un elemento segua la lettura di altri elementi che precedono l’elemento detto nell’ordine di scansione della stru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408A-4637-4B70-97CD-49B299A74B8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r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rray è un oggetto formato da un insieme accessibile direttamente di oggetti tutti dello stesso tip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li indici di accesso sono un tipo enumerativo ovvero numeri inte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rray è definito dalla sua dimensione strutturale (un array di dimensioni strutturale 1è un vettore, uno di dimensione strutturale 2 è una matrice) e dalle dimensioni relative (un vettore di dieci elementi è di dimensione relative 10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FCFC-2C0A-4489-841D-B407926D2A5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r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rray di dimensione strutturale 1 e dimensione relativa 7 di numeri interi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3657600" y="4572000"/>
                <a:ext cx="133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3657600" y="320040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4,5,2,3,5,11,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Text Box 6"/>
          <p:cNvSpPr/>
          <p:nvPr/>
        </p:nvSpPr>
        <p:spPr>
          <a:xfrm>
            <a:off x="762120" y="3581280"/>
            <a:ext cx="94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rray di dimensione strutturale 2 e dimensioni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  relative 2 e 4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8B3-C27E-4E7D-9879-174279F1FB5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cor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record è un oggetto formato da un insieme accessibile direttamente di oggetti di tipi divers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Gli indici di accesso sono nomi validi di varia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B114-F14C-4855-9D14-1EA0B521E1E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s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lista si costruisce aggiungendo un elemento in coda ad una lista esistente, che può essere vuo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leggere una lista abbiamo due operatori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o per ritornare il valore della posizione corr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o per spostare la posizione corrente in avan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16A7-7D1A-42B4-B0EC-51228582CFF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f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(diretto) è una coppia &lt;V,E&gt; in cui E è un insieme di coppie di V, gli elementi di V si chiamano vertici, gli elementi di E arch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equenza di vertici di un grafo è un percorso se e solo se ogni coppia di vertici in sequenza è un arc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si dice aciclico se  e solo se non contiene percorsi circolari (cioè che iniziano e terminano con lo stesso vertic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D6E-7CCE-4736-8F14-093A82D9A95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be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albero è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diretto aciclico do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vertice è puntato da al più un altro verti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sieme dei vertici non puntati è un singolet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lista è un albero i cui elementi puntano al più un altro ele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16AE-31EA-4834-AE82-004CDA48B0D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file sono sequenze accessibili anche mediante indic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differenziano dalle liste per avere potenzialmente molti punti d’access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2689-7FD1-497D-A38A-BC21834EE3A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pparecchio telefonico può essere riguardato come una macchina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o iniziale: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ale assente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i intermedi: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line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liber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occupat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assenz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 line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o finale: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versazione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clus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o riconosciuto: Attivazione di una conversazione telefon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0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A97-72EF-4A8F-801A-A55E841B3AA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odello di funziona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o iniziale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gnale ass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ccess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a)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linea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mponi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c)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liber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nversa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p) altrimenti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occupat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nclud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07D-93A4-4AF0-B305-FDCFA3C6079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19" name="Group 1066"/>
          <p:cNvGrpSpPr/>
          <p:nvPr/>
        </p:nvGrpSpPr>
        <p:grpSpPr>
          <a:xfrm>
            <a:off x="1371600" y="1676520"/>
            <a:ext cx="6553440" cy="4419360"/>
            <a:chOff x="1371600" y="1676520"/>
            <a:chExt cx="6553440" cy="4419360"/>
          </a:xfrm>
        </p:grpSpPr>
        <p:sp>
          <p:nvSpPr>
            <p:cNvPr id="120" name="Text Box 1061"/>
            <p:cNvSpPr/>
            <p:nvPr/>
          </p:nvSpPr>
          <p:spPr>
            <a:xfrm>
              <a:off x="5945400" y="167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121" name="Group 1065"/>
            <p:cNvGrpSpPr/>
            <p:nvPr/>
          </p:nvGrpSpPr>
          <p:grpSpPr>
            <a:xfrm>
              <a:off x="1371600" y="1781280"/>
              <a:ext cx="6553440" cy="4314600"/>
              <a:chOff x="1371600" y="1781280"/>
              <a:chExt cx="6553440" cy="4314600"/>
            </a:xfrm>
          </p:grpSpPr>
          <p:sp>
            <p:nvSpPr>
              <p:cNvPr id="122" name="Oval 1029"/>
              <p:cNvSpPr/>
              <p:nvPr/>
            </p:nvSpPr>
            <p:spPr>
              <a:xfrm>
                <a:off x="1371600" y="4114800"/>
                <a:ext cx="76212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3" name="Oval 1030"/>
              <p:cNvSpPr/>
              <p:nvPr/>
            </p:nvSpPr>
            <p:spPr>
              <a:xfrm>
                <a:off x="2971800" y="2895480"/>
                <a:ext cx="76212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4" name="Oval 1031"/>
              <p:cNvSpPr/>
              <p:nvPr/>
            </p:nvSpPr>
            <p:spPr>
              <a:xfrm>
                <a:off x="2895480" y="5334120"/>
                <a:ext cx="76212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5" name="Oval 1032"/>
              <p:cNvSpPr/>
              <p:nvPr/>
            </p:nvSpPr>
            <p:spPr>
              <a:xfrm>
                <a:off x="5334120" y="2133720"/>
                <a:ext cx="76176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6" name="Oval 1033"/>
              <p:cNvSpPr/>
              <p:nvPr/>
            </p:nvSpPr>
            <p:spPr>
              <a:xfrm>
                <a:off x="5334120" y="3657600"/>
                <a:ext cx="76176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27" name="AutoShape 1034"/>
              <p:cNvCxnSpPr>
                <a:stCxn id="122" idx="0"/>
                <a:endCxn id="123" idx="2"/>
              </p:cNvCxnSpPr>
              <p:nvPr/>
            </p:nvCxnSpPr>
            <p:spPr>
              <a:xfrm flipH="1" flipV="1" rot="5400000">
                <a:off x="1942560" y="3085560"/>
                <a:ext cx="838800" cy="12200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8" name="AutoShape 1035"/>
              <p:cNvCxnSpPr>
                <a:stCxn id="122" idx="4"/>
                <a:endCxn id="124" idx="2"/>
              </p:cNvCxnSpPr>
              <p:nvPr/>
            </p:nvCxnSpPr>
            <p:spPr>
              <a:xfrm flipH="1" rot="16200000">
                <a:off x="1904040" y="4724280"/>
                <a:ext cx="838800" cy="1143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9" name="AutoShape 1036"/>
              <p:cNvCxnSpPr>
                <a:stCxn id="123" idx="0"/>
                <a:endCxn id="125" idx="2"/>
              </p:cNvCxnSpPr>
              <p:nvPr/>
            </p:nvCxnSpPr>
            <p:spPr>
              <a:xfrm flipH="1" flipV="1" rot="5400000">
                <a:off x="4152600" y="1713960"/>
                <a:ext cx="381600" cy="19821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" name="AutoShape 1037"/>
              <p:cNvCxnSpPr>
                <a:stCxn id="123" idx="4"/>
                <a:endCxn id="126" idx="2"/>
              </p:cNvCxnSpPr>
              <p:nvPr/>
            </p:nvCxnSpPr>
            <p:spPr>
              <a:xfrm flipH="1" rot="16200000">
                <a:off x="4152960" y="2856960"/>
                <a:ext cx="381600" cy="19821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1" name="Oval 1040"/>
              <p:cNvSpPr/>
              <p:nvPr/>
            </p:nvSpPr>
            <p:spPr>
              <a:xfrm>
                <a:off x="1447920" y="4191120"/>
                <a:ext cx="609480" cy="60948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2" name="Text Box 1041"/>
              <p:cNvSpPr/>
              <p:nvPr/>
            </p:nvSpPr>
            <p:spPr>
              <a:xfrm>
                <a:off x="1605600" y="42670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3" name="Text Box 1042"/>
              <p:cNvSpPr/>
              <p:nvPr/>
            </p:nvSpPr>
            <p:spPr>
              <a:xfrm>
                <a:off x="3131280" y="31240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4" name="Text Box 1043"/>
              <p:cNvSpPr/>
              <p:nvPr/>
            </p:nvSpPr>
            <p:spPr>
              <a:xfrm>
                <a:off x="3129840" y="55008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5" name="Text Box 1044"/>
              <p:cNvSpPr/>
              <p:nvPr/>
            </p:nvSpPr>
            <p:spPr>
              <a:xfrm>
                <a:off x="5493600" y="23623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6" name="Text Box 1045"/>
              <p:cNvSpPr/>
              <p:nvPr/>
            </p:nvSpPr>
            <p:spPr>
              <a:xfrm>
                <a:off x="5493600" y="38862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7" name="Oval 1046"/>
              <p:cNvSpPr/>
              <p:nvPr/>
            </p:nvSpPr>
            <p:spPr>
              <a:xfrm>
                <a:off x="6934320" y="2819520"/>
                <a:ext cx="76176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8" name="Line 1047"/>
              <p:cNvSpPr/>
              <p:nvPr/>
            </p:nvSpPr>
            <p:spPr>
              <a:xfrm>
                <a:off x="7238880" y="281952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9" name="Text Box 1048"/>
              <p:cNvSpPr/>
              <p:nvPr/>
            </p:nvSpPr>
            <p:spPr>
              <a:xfrm>
                <a:off x="7093800" y="30481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0" name="Text Box 1049"/>
              <p:cNvSpPr/>
              <p:nvPr/>
            </p:nvSpPr>
            <p:spPr>
              <a:xfrm>
                <a:off x="1830600" y="3200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1" name="Text Box 1053"/>
              <p:cNvSpPr/>
              <p:nvPr/>
            </p:nvSpPr>
            <p:spPr>
              <a:xfrm>
                <a:off x="1906920" y="5562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42" name="AutoShape 1054"/>
              <p:cNvCxnSpPr>
                <a:stCxn id="124" idx="6"/>
                <a:endCxn id="137" idx="6"/>
              </p:cNvCxnSpPr>
              <p:nvPr/>
            </p:nvCxnSpPr>
            <p:spPr>
              <a:xfrm flipV="1">
                <a:off x="3657600" y="3199680"/>
                <a:ext cx="4039200" cy="2515320"/>
              </a:xfrm>
              <a:prstGeom prst="curvedConnector5">
                <a:avLst>
                  <a:gd name="adj1" fmla="val 105660"/>
                  <a:gd name="adj2" fmla="val 50000"/>
                  <a:gd name="adj3" fmla="val 10566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3" name="AutoShape 1055"/>
              <p:cNvCxnSpPr>
                <a:stCxn id="125" idx="6"/>
                <a:endCxn id="138" idx="0"/>
              </p:cNvCxnSpPr>
              <p:nvPr/>
            </p:nvCxnSpPr>
            <p:spPr>
              <a:xfrm>
                <a:off x="6095520" y="2514240"/>
                <a:ext cx="1143720" cy="3056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AutoShape 1057"/>
              <p:cNvCxnSpPr>
                <a:stCxn id="126" idx="6"/>
                <a:endCxn id="137" idx="2"/>
              </p:cNvCxnSpPr>
              <p:nvPr/>
            </p:nvCxnSpPr>
            <p:spPr>
              <a:xfrm flipV="1">
                <a:off x="6095520" y="3200040"/>
                <a:ext cx="839160" cy="838800"/>
              </a:xfrm>
              <a:prstGeom prst="curvedConnector5">
                <a:avLst>
                  <a:gd name="adj1" fmla="val 50000"/>
                  <a:gd name="adj2" fmla="val 49978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5" name="Text Box 1058"/>
              <p:cNvSpPr/>
              <p:nvPr/>
            </p:nvSpPr>
            <p:spPr>
              <a:xfrm>
                <a:off x="412272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6" name="Text Box 1059"/>
              <p:cNvSpPr/>
              <p:nvPr/>
            </p:nvSpPr>
            <p:spPr>
              <a:xfrm>
                <a:off x="4122720" y="40384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47" name="AutoShape 1060"/>
              <p:cNvCxnSpPr>
                <a:stCxn id="125" idx="1"/>
                <a:endCxn id="125" idx="7"/>
              </p:cNvCxnSpPr>
              <p:nvPr/>
            </p:nvCxnSpPr>
            <p:spPr>
              <a:xfrm flipH="1" rot="16200000">
                <a:off x="5713920" y="1974240"/>
                <a:ext cx="2520" cy="540720"/>
              </a:xfrm>
              <a:prstGeom prst="curvedConnector5">
                <a:avLst>
                  <a:gd name="adj1" fmla="val -21400000"/>
                  <a:gd name="adj2" fmla="val 49966"/>
                  <a:gd name="adj3" fmla="val -21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8" name="Text Box 1062"/>
              <p:cNvSpPr/>
              <p:nvPr/>
            </p:nvSpPr>
            <p:spPr>
              <a:xfrm>
                <a:off x="5640840" y="5638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9" name="Text Box 1063"/>
              <p:cNvSpPr/>
              <p:nvPr/>
            </p:nvSpPr>
            <p:spPr>
              <a:xfrm>
                <a:off x="6478920" y="3809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50" name="Text Box 1064"/>
              <p:cNvSpPr/>
              <p:nvPr/>
            </p:nvSpPr>
            <p:spPr>
              <a:xfrm>
                <a:off x="6478920" y="2666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</p:spTree>
  </p:cSld>
  <p:transition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487A-6579-400F-9E25-F751FFC1BF2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l concetto di linguaggi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Alfabe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finito e non vuoto i cui elementi sono detti SIMBO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String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equenza di lunghezza qualsiasi di simboli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Stringa vuo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sequenza di lunghezza zero su un qualsiasi alfabeto (è denotata con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5:33Z</dcterms:modified>
  <cp:revision>57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