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73200" cy="101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3816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720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268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3816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989DB99-4EEB-4595-B697-6A9F2B88A6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1643089-B023-4B61-B8F8-5DFA2D8C09B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2FEF772-589C-4B42-9267-D8BE442E954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ACB0973-FAF3-404E-AB34-AE34DA52A26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3330ED5-9E1F-4FC9-B293-3D482A8D32C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663BFB4-4D32-4E22-986D-4974329BF6C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352F28E-C786-47BA-AC06-3A4C19511C6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730D6FD-9391-4149-98C8-11D5356D669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B2D9187-2704-4925-A1C3-2DDCD48D955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49537F2-2722-4B2F-AB05-6344AF40011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151991B-9E8E-4C09-B0BC-94179091803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F1A0D7C-F8C4-454B-B683-AB5B61E9E38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B56BE31-AD51-4EF3-B987-447CFB53EFE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8F82612-26D2-4D62-B496-4DF7A9EC6F6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3357389-0F11-46A0-A5B6-64B8D25912F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4F90B2E-9007-489A-A82A-8F0186A723A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268E738-2C9E-4BA4-9234-38C00EF9790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6AF43EA-4794-4142-BDF5-33E63697F46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2344F5D-557F-4325-B262-FDC0C262173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ABDA263-1848-4728-AAF7-73A9B90F747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BA48411-16E1-47FE-966F-E1C996A4BFA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25E6BCD-C04D-45E0-8227-3E7E8275CCD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F2BA547-733F-4220-B60F-6E2A89CCB77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13457D7-ECA1-42DB-A075-F43CE4A670A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511BB31-C87D-49F5-89AB-94CD022C81A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19A2C19-6E65-49B3-AC43-D8886EBB54B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E58-337F-4574-ABD8-AF568945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514-4FA9-482B-9916-5EC19EE2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4F1-832D-4E11-9ED6-EBC378CC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821-E5DE-480E-B2C4-E6F9FDCC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EB0B-58E9-402E-81C5-456AA479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2AAC-1D48-47AF-8523-27A8F17F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41FF-FC60-4200-954C-D138DA0B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4A00-5462-4B9E-AB3D-627777F8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DBBF-E1D0-4508-A64C-72F660BD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9B37-7FBC-4AF3-AF65-8A407D5E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8E2C-77B1-47EB-BD12-8D50D405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38A-2ABB-4542-93E3-48A126E6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86A4-F14F-4B84-9B46-C9A675EE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015F-E726-4D8C-AA18-A4D33BF7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6219-4A4C-4946-BBDE-244DB513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C337-3BC4-490D-A2A0-E1174D8E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496B-CCA6-4C9F-A69F-A7D6C1A0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527-B281-418E-B232-6B1A65EA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C449-6A1D-4624-BBFE-DA5BC362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5A4-DAD4-448C-84A6-4E10E091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A8B-477E-4BEC-88BB-4E3F3093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FD4-50D3-41C6-8255-39969C3F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8D9-AC9C-4AC0-861A-790E7484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297A-D054-4741-B4E4-8ECF7A7E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12920"/>
            <a:ext cx="9131400" cy="96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92200"/>
            <a:ext cx="913140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C3B1-89D6-4764-AB67-BC1EC9554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6" descr="logouni"/>
          <p:cNvPicPr/>
          <p:nvPr/>
        </p:nvPicPr>
        <p:blipFill>
          <a:blip r:embed="rId2"/>
          <a:stretch/>
        </p:blipFill>
        <p:spPr>
          <a:xfrm>
            <a:off x="114480" y="336600"/>
            <a:ext cx="954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327480"/>
            <a:ext cx="91314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3606840"/>
            <a:ext cx="9131400" cy="50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46" name="Picture 16" descr="logouni"/>
          <p:cNvPicPr/>
          <p:nvPr/>
        </p:nvPicPr>
        <p:blipFill>
          <a:blip r:embed="rId2"/>
          <a:stretch/>
        </p:blipFill>
        <p:spPr>
          <a:xfrm>
            <a:off x="0" y="1670040"/>
            <a:ext cx="1576440" cy="159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A79F-48C6-467F-97A4-958230416068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367F-74C3-4002-B761-615BE958E20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Text Box 1027"/>
          <p:cNvSpPr/>
          <p:nvPr/>
        </p:nvSpPr>
        <p:spPr>
          <a:xfrm>
            <a:off x="2682360" y="3692880"/>
            <a:ext cx="419652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Times New Roman"/>
              </a:rPr>
              <a:t>Matteo Cristani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partimento di Informatica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Facoltà di Scienze MM. FF. NN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iversità degli Studi di Verona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http://www.sci.univr.it/~cristani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2680" y="1447920"/>
            <a:ext cx="7709040" cy="16761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rso di Informatica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3F78-3084-475D-979C-B5B2A45A3B4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oftware applicativ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nome applicazione deriva dal fatto che tale software è utilizzato per ottenere certi scop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pplicazioni di lettura e scrittura di dati o applicazioni di sola lettu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pplicazioni general-purpose o specifiche, dipendenti o indipendenti dal sistema operativo, dipendenti o indipendenti dalla piattaform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EEA7-C212-4644-8E40-350EA141718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asi di sviluppo del softwa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i fondamenta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fiche dei requisi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fiche funziona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fiche di disegn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fiche di architettur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fiche dei tes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vilupp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Tes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Manutenzion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3610-7C34-4727-82A0-2CABC57A3B2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cccc"/>
                </a:solidFill>
                <a:latin typeface="Times New Roman"/>
              </a:rPr>
              <a:t>Tipi di software dal punto di vista dello sviluppo</a:t>
            </a:r>
            <a:endParaRPr b="0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oftware commerci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Nessun committ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equisiti tagliati su committenti virtua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oftware su commess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ichiesto da un cliente o ut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oftware di ricerc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oftware sviluppato per operare con problemi al limit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2164-7245-46D6-964A-4E107B07BA8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pecifiche dei requisi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cooperativ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tolare: il committen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committente descrive ciò che desidera per il software richies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il software non su commessa la fase di specifiche dei requisiti è sostituita da un brainstorming (in alcuni casi anche da discussioni strutturate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E732-D517-4B65-8E0D-368BBB34118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pecifiche funzional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cooperativ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tolare: lo svilupp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o sviluppatore descrive le funzioni ipotizzate per il software al committ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iceve conferma dal committ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il software non su commessa la fase di specifiche funzionale è sostituita da discussioni struttura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DF62-8446-410A-ADFF-211F11BF787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pecifiche di disegn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decision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tolare: lo svilupp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i decide come implementare le funzioni dal punto di vista delle loro relazion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Disegno di un Software è il documento di riferimento per migrazioni del software in altri linguaggi di programmazione, su altri sistemi operativi o piattaforme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porting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3173-9B13-434A-8718-2DE3FBEEFBB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pecifiche di architettur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decision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tolare: lo svilupp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i decide come implementare le funzioni definendo le scelte di architettur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inguaggi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istema operativ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iattaform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ecniche e metodologia di svilupp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rumenti CASE (Computer Aided Software dEvelopment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AFAF-D1AE-48CD-A873-1B4D6C24142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pecifiche dei tes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operativ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tolare: lo svilupp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engono scritti i test che saranno impiegati per validare il softwa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delicatissima perché test poco efficaci provvederanno sistemi con fault, mentre test troppo raffinati rallenteranno la consegn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5F5D-0233-4734-AFA2-E0F429D7685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vilupp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operativ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tolare: lo svilupp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ivisa i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mplementa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ssemblaggi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DB3F-EC73-4F6C-B391-E8D56A74AA9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esting</a:t>
            </a: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ase di prova delle funzion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ntrollo della correttezza ed operatività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ntrollo della risposta al sovraccaric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ntrollo della risposta all’eccesso di richies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B9A8-D096-48B2-A143-9B35E72289D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oftwa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pi di softwa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stema operativ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oftware applicativ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si di sviluppo del softwa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0545-BCAE-4C5F-82B6-4C581B3AAB9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anuten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rrezione dei bach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ntegrazione delle funzion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iglioramento delle rispos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ggiunte funzionali ed operativ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AB17-970A-41A9-AC90-05D499EA535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cccc"/>
                </a:solidFill>
                <a:latin typeface="Times New Roman"/>
              </a:rPr>
              <a:t>Distribuzione temporale delle fasi (auspicabile)</a:t>
            </a:r>
            <a:endParaRPr b="0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609480" y="1981080"/>
          <a:ext cx="77565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7565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E49B-18B5-43C4-9C44-615C9CC54A0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cccc"/>
                </a:solidFill>
                <a:latin typeface="Times New Roman"/>
              </a:rPr>
              <a:t>Distribuzione temporale delle fasi (effettiva)</a:t>
            </a:r>
            <a:endParaRPr b="0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609480" y="1981080"/>
          <a:ext cx="77565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7565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A889-E81F-42F3-B1EF-227D8EE15C2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aratteristiche dello svilupp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todologia TOP-DOW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perazioni in sequenz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trollo della funzionalità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rogressività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iuso di codic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odularità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dipendenza funzion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arattere operativo del softwa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434D-FD07-46FB-960F-02FC87DBBC3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cccc"/>
                </a:solidFill>
                <a:latin typeface="Times New Roman"/>
              </a:rPr>
              <a:t>Figure professionali dell’informatica</a:t>
            </a:r>
            <a:endParaRPr b="0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vilupp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Erede sincretico d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nalist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nalista-Programmato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grammato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stemis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alista di architettu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pecialista di re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9F2B-5ECE-4D86-99EF-3A6FB0F8CE1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Operatori dell’informatic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oftware hous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nsulenti indipende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egozi specializzati (sic!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rovider interne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92A3-A0C6-4798-BF65-34EA6C90BD6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softwa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lassificazione gener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oftware orizzont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eneral-purpose softwa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inguaggi di programma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tilità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duttività individua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oftware vertic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pplicazioni specifich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inguaggi special-purpos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553C-3CDE-4C43-A4CC-69D19D35C48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oftware di uso gener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stemi operativ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mbienti operativ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3BCE-C3A4-42F3-B119-F970A779331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Linguaggi di programma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mpilatori ed interpre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ibrerie riusabi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mbienti di svilupp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Verificatori (semi)automatic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pplicazioni di Project Managemen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B1AB-49C4-4461-AC8E-0294E09ABE3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Utilità di sistem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nettività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onnection Management System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ssion Management Syste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Web Browser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lient Posta Elettronic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estione mode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estione periferich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estione stampan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estione dischi e fi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Gestione periferiche special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irus/worm/intrusion detection syste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419720" y="1676520"/>
            <a:ext cx="38862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2C87-13E4-45B0-928D-81D7FE51154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oduttività individu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Word processo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esktop Publish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cientific Desktop Publishing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preadshee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resentation Management System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abase Management System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dea Processo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D4D2-1475-458A-857B-2433BA4275B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oftware specia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pplicazioni vertica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tabilità e finanz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utomazione industri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WorkFlow Management Syste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inguaggi Special-Purpos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inguaggi specifici di risors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inguaggi orientati alla modellazione di sistemi fisic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8489-8549-47A9-8CD9-E3044D19CA7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istema operativ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unzion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estione memori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estione dispositivi e periferich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estione rete locale e geografi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estione applicazion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aratteristich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Possibilmente) platform-independ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0:37:25Z</dcterms:created>
  <dc:creator> </dc:creator>
  <dc:description/>
  <dc:language>en-US</dc:language>
  <cp:lastModifiedBy>Matteo</cp:lastModifiedBy>
  <cp:lastPrinted>2000-02-27T18:44:12Z</cp:lastPrinted>
  <dcterms:modified xsi:type="dcterms:W3CDTF">2008-12-08T23:36:04Z</dcterms:modified>
  <cp:revision>13</cp:revision>
  <dc:subject/>
  <dc:title>Corso di Informatica  per Giurisprudenza Lezion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rofs.sci.univr.it/fummi</vt:lpwstr>
  </property>
  <property fmtid="{D5CDD505-2E9C-101B-9397-08002B2CF9AE}" pid="9" name="LinkColor">
    <vt:r8>16711782</vt:r8>
  </property>
  <property fmtid="{D5CDD505-2E9C-101B-9397-08002B2CF9AE}" pid="10" name="MailAddress">
    <vt:lpwstr>fummi@sci.univr.i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\Franco\SLIDES\VERONA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