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3816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7200" y="29880"/>
            <a:ext cx="2967120" cy="47124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2680"/>
            <a:ext cx="511164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816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11BD56-D964-454B-835E-D678D21D4C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EDA0F9C-13DE-4676-9429-FCE49BDEBE4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54DE4B-9514-4826-B8C7-D680E948253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67BB57-81BB-4E82-B68F-E80080A60D1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CE0D1CB-604E-4FE7-9B31-4140D103710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6BFD30F-7959-4965-AFED-575F10FEB28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54F058-37C5-4C28-AF15-E6871AD7E00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BCB2726-6878-4C3E-9276-CFB828900CA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4CD282-6A8E-497E-AACC-D6451694C5D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1515596-E354-4978-BB79-AAB614C1B9A6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2AB586-0CEE-42DC-9F1A-DBFAF9241A5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8496F1-5748-4C62-B498-1F4B007D610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1BF3D3A-83C2-47F5-BEC6-3DCC9C90632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679EBBA-10FC-40F4-9A72-20D7421003C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8189369-FBA2-45A0-AFFE-3D284F0733E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141DAF8-01B8-4C38-B1D1-9CEDA511AB6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D867EBE-7462-4AAD-8B30-C36E280E279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0468729-217F-4CD3-A11E-B6A6C23FA34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8312E3-57E6-4248-A8A5-46E5AF9D117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5ACCADD-CDED-463F-9428-8EA4D0F624B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F4FC6E-25D4-4D9C-824F-D3C36CE874B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B804785-299A-4216-BCD6-22909227468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306E3FA-3BA3-4FC0-B72E-35AF7952BB0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707D869-D7CC-4CB4-A103-A8FC14B41EE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A5A6EAB-882C-432F-89E8-A926A298DD1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9A0D7CB-A35A-4336-A275-08396F75A2D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F1E2FD2-4EF4-4340-9641-A05B399560A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9E3150-92F5-4014-9C28-BC5AA8DA641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DDFB0DC-EC02-4BF9-9DDC-C11D42AAEB4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35304C9-0232-4ECD-A820-CCF0BE3A0839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9070C0D-6C80-46A5-BA4F-99225BF1064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7F5F99B-AC05-4299-B494-8D9AE6767B2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2B8DECD-A804-407E-96B0-7BFD6A87D0D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1A83C27-02A7-48B2-8F39-D3CF351FA86D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44BF66-AAC4-443A-A0A8-39386DFD1933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114349A-A320-4768-957E-CDE6C37AE81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C56C0DA-798B-4E3A-9C9D-33285E52D8E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279DDB-E251-4ED2-AC69-0BB36B86306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D80F251-9615-463E-985C-746E2B39CD8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175B028-F55D-4758-8344-7C8BA291A85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BA11342-1273-494C-9082-9CD0641631A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31BC8CE-5D66-4152-BC67-546CC8FF368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37BD3AA-A4DC-492E-802C-58A0CA980DD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3DD2517-2E84-490B-A80D-1D2E446D717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B6590F-4C78-4B7C-B33E-221A5B3ECC2A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561F67B-81DB-47FA-A827-BE110B8EBF2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C7A900A-C08D-46B4-9745-0CA4A11140F1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6AB4FC-D0E5-4225-BF65-95C6E34167B2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84ED92A-89EE-4949-95FD-D4EE6AD5C31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3F7FAE7-30E4-45A7-B015-CDD6A482309F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DBA8DEE-EF1D-4B31-8426-7C075BDC720C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D390DC3-B4BD-41D4-9E71-A8F79AC59AAB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1C5F6EA-78F5-43FB-8CD1-824365402B18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1F407F-AA4F-412A-9CB5-99A73B226BB4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8F52806-DD1B-43BB-95CC-D500A3EF93EE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2F75611-55AB-4652-896D-CED03FA6C71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2580D7-4ED3-4D21-B9FC-41B5F6E53180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C7270FD-2A29-4D3E-973A-B0D4E81F70B5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7200" y="9609120"/>
            <a:ext cx="2967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3316FD-1E0C-4C61-A853-1373CDA2EF47}" type="slidenum">
              <a:rPr b="0" i="1" lang="en-US" sz="10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8800" y="74304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8720" y="4819320"/>
            <a:ext cx="5133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BF7-9FC3-455D-AA7F-65A7E992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2BC-199C-41C4-A603-F3A3B360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6B9-8456-49B1-B430-3975CA91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AFE-201B-496D-8DDA-965029ED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9418-DE10-41F3-A703-BA45E326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364C-3119-4279-AD0A-C575D140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A5A2-AAC6-45D4-9AF3-E4F037BC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AA1-C049-41DF-B03A-F7126C42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0250-DA87-483D-AC2C-C2755936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7F4D-BD27-42D7-80D5-F53675AA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F624-5074-4261-945D-DA28C5F2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664-AC79-4C50-B759-B4EB8437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ED82-729E-4CDE-9410-CC1172C5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06C4-D8A3-410A-95F0-88DB624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BCE3-CF3A-4CBC-ABC7-C4E7FD81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DE02-9314-47F8-9A7E-FE91AAF6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76DF-6B0C-427A-81A3-924F7EA9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0DF-4EA6-42A6-B41A-EA4CC67E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76C-FDE2-4A30-8550-BC4803C4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3AE-53D4-4319-AB63-E14319FF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33D-9E2C-47BD-A1C4-84A7C0C3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D96-E126-4327-B334-FF323085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1BC-1C83-402C-9323-BDE3E54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50C-ECBD-4209-951E-337DCD4D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12920"/>
            <a:ext cx="9131400" cy="968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92200"/>
            <a:ext cx="9131400" cy="31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86AD-421B-484F-AF09-5B44489D6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6" descr="logouni"/>
          <p:cNvPicPr/>
          <p:nvPr/>
        </p:nvPicPr>
        <p:blipFill>
          <a:blip r:embed="rId2"/>
          <a:stretch/>
        </p:blipFill>
        <p:spPr>
          <a:xfrm>
            <a:off x="114480" y="336600"/>
            <a:ext cx="954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3327480"/>
            <a:ext cx="91314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cccc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3606840"/>
            <a:ext cx="9131400" cy="507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99ff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46" name="Picture 16" descr="logouni"/>
          <p:cNvPicPr/>
          <p:nvPr/>
        </p:nvPicPr>
        <p:blipFill>
          <a:blip r:embed="rId2"/>
          <a:stretch/>
        </p:blipFill>
        <p:spPr>
          <a:xfrm>
            <a:off x="0" y="1670040"/>
            <a:ext cx="1576440" cy="159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792-5B8F-48E7-B6D6-789C90EDB24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B411-804B-4BDE-9E98-0F0E6595355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682360" y="3692880"/>
            <a:ext cx="41965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ff"/>
                </a:solidFill>
                <a:latin typeface="Times New Roman"/>
              </a:rPr>
              <a:t>Matteo Cristani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partimento di Informatic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Facoltà di Scienze MM. FF. NN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iversità degli Studi di Verona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http://www.sci.univr.it/~cristani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2680" y="1447920"/>
            <a:ext cx="7709040" cy="16761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rso di Informatica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738E-8448-420F-82F8-1883708EE07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l concetto di linguaggio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a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un alfabeto,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denota l’insieme delle stringhe su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nota l’insieme delle stringhe su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tranne la stringa vuot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- {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Lingu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ottoinsieme delle stringhe su di un alfabe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D4E-3387-4540-8B4E-7F46669C0B8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Un esemp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= {a,b,c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* = {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, a, b, c, aa, ab, ac, ba, bb, bc, ca, cb, cc, aaa, aab, aac, …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lingu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 = {a, aa, aaa, aaaa, aaaaa, …}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8D8A-D9A6-4EA0-B9A2-F7D92005F26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ato un alfabeto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tt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alfabeto terminal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lfabeto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tt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alfabeto nonterminal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elemento s dell’alfabeto nonterminale detto simbolo distinto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sieme P di regole di produzione che trasformano stringhe di (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* in stringhe nonvuote su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quadrupla &lt;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s,P&gt; è detta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grammat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B66E-B09F-4CC0-A38B-BCC463DC5A7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e due stringhe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i (V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32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* diremo che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deriv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⇒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se e solo se scrive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= x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y;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= x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 x, y,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in (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∪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V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*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’è una regola di produzione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→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155B-5040-49DF-B75D-134FD3977CA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tringa è derivata indirettamente da un’altra quando si può compiere una sequenza di passi di derivazione che conduce dalla prima alla seconda string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linguaggio generato da una grammatic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è costituito dal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tringhe terminali derivate indirettamente dal simbolo disti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stringa del linguaggio generato da una grammatica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inttaticamente corretta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la grammatica stes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6DF1-DE13-4725-8FFC-8E280591CFF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mmatiche (4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linguaggio generato da una grammatica si dice grammatic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MPORTANTISSIMO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linguaggio è grammaticale se e solo se è riconoscibile da una macchina a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74E5-6FAB-4CB4-87AF-596FA542395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sservazion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Nonostante gli alfabeti siano insiemi finiti i linguaggi possono essere infinit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stringa vuota è uguale per qualsiasi alfabe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C06D-45F5-443F-AD26-8E321FE530B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Osservazion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 lettere dell’Italiano sono simboli di un alfabe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ossiamo vedere come linguaggio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l lessico (radici e desinenze delle parol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l vocabolario (l’insieme delle parole italian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e strutture frasali (sintagmi) italiane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Il giovane biologo veronese”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’arguto giurista in erba scaligero”;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’interessante corso di Informatica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e frasi ed i periodi Italiani: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a lezione si fece stimolante”;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La pausa per il caffè era peraltro cogente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E51E-35B8-419B-B1B8-69736593139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hiamiamo 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ROBLEMA DI RICONOSCIMENTO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i un linguaggio L su di un alfabeto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, il problema di stabilire se una data stringa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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in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* sia in L o 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gni stringa </a:t>
            </a:r>
            <a:r>
              <a:rPr b="0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i dice un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stanz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el problem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E9DF-2EE3-4103-ADE3-D36A3645667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ano A e B due insiemi, diciamo</a:t>
            </a:r>
            <a:br>
              <a:rPr sz="2800"/>
            </a:b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Prodotto Cartesiano A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╳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’insieme delle coppie ordinate di elementi 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 A e B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hiamiamo relazione tra A e B un sottoinsieme del prodotto cartesiano di A e B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una rela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efinita tra A e B definiamo A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dominio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i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, e B il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codominio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di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25B1-DBEF-492D-8682-C07639B4C33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cetto di algoritmo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goritmi e programm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cchina a stat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nguaggi e calcolabilità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nguaggi di Programm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mantica operazional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unzioni e denotazion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quivalenza funzionale e computaziona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ifica dei d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ipi elementar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trutture di da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B40A-74A4-4F00-8D6D-6FA6C040FB3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è un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relazione univoc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, cioè una relazione che ad ogni elemento del dominio associa al più un elemento del codomin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che associa sempre ad un elemento del dominio un elemento del codominio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ot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273E-2442-4B45-ACD1-39106DFB90C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o un elemento x del dominio l’elemento in relazion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con x nel codominio si indica con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(x) e si dice l’immagine di x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o un elemento y nel codominio, se vale y =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(x), allora si dice che x è la controimmagine di y secondo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83E2-1BCC-433F-B0FF-94F0EACE83D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eneralità sulle funzioni (4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niettiv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se ad elementi distinti del dominio associa elementi distinti del codominio: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≠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y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→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x)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≠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funzione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suriettiv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se ogni elemento del codominio ha controimmagine</a:t>
            </a:r>
            <a:br>
              <a:rPr sz="2800"/>
            </a:b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∀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∃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[y =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x)]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funzione sia iniettiva che suriettiva si dic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biiettiva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o biunivo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AAC7-EA25-4175-AD08-3339EDD3BE9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={0,1}; B={a,b}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╳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B = {(0,a);(0,b);(1,a);(1,b)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elazione determinata da 1 va con b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={(0,a);(0,b);(1,b)}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D1E9-1D86-4A23-BA29-0AD161E9932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ia A=naturali (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 e B=natur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=n</a:t>
            </a:r>
            <a:r>
              <a:rPr b="0" lang="it-IT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prietà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In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Non sur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= maxdiv(n) [che trova il massimo divisore di n strettamente minore di n]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Proprietà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Non in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uri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DF14-BEB4-48DC-9202-9FE98B68FC7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a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un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funzion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da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numeri natural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in se stessi (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: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Dato un numero naturale n chiamiamo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PROBLEMA DI CALC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Trovare f(n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i due numeri naturali m ed n chiamiamo </a:t>
            </a: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PROBLEMA DI DECIS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Times New Roman"/>
              </a:rPr>
              <a:t>Stabilire se vale f(n) = 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EF36-8117-49AC-9DF4-C98F5898872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cetto di calcolabilità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alcolabil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se e solo se esiste una macchina a stati che è in grado di leggere n in input e scriver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(n) in output in un tempo fini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funzione </a:t>
            </a:r>
            <a:r>
              <a:rPr b="1" i="1" lang="it-IT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totale e calcolabile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totalmente calcolabi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D22-EA7B-47DF-A276-434BA4DD4EA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gni problema di decisione può essere risolto se so risolvere il corrispondente problema di calc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decidere se m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calcolo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e stabilisco se vale l’uguaglianz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eno ovviamente vale anche il contra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 so stabilire quando m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per calcolar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 enumero da 1 in avanti e risolvo 1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, 2=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,… fino a quando il risultato è vero. Il valore stabilito è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n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B64-24DB-4E7F-82C3-576850015B5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problema di decisione corrisponde ad un problema di riconoscimento e vicevers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stabilire che questo è vero è sufficiente ricordare che l’insieme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è ovviament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numerabile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 (anche detto di cardinalità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ℵ</a:t>
            </a:r>
            <a:r>
              <a:rPr b="0" lang="it-IT" sz="28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0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)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vvero corrispondente biunivocamente ad </a:t>
            </a:r>
            <a:r>
              <a:rPr b="1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tramite una 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h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Una volta enumerato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* il problema di riconoscimento per una stringa corrisponde a stabilire se vale per una funzione 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)=1 (inteso come codifica per il vero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CDB6-3B2A-43EF-AD21-2B1E64EDCA1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(2) - continu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 un problema di decisione ogni istanza del problema può definirsi come una istanza di un problema di riconosci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Enumeriam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0" lang="it-IT" sz="24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. Enumeriamo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* per un dato alfabeto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e costruiamo la corrispondenza biunivoca composta da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* all’enumerazione di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</a:t>
            </a:r>
            <a:r>
              <a:rPr b="0" lang="it-IT" sz="24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Ogni coppia di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ℕ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corrisponde ora ad una stringa in </a:t>
            </a:r>
            <a:r>
              <a:rPr b="0" lang="it-IT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*. Sia L il linguaggio delle stringhe che corrispondono ad una coppia (m,n) tale che </a:t>
            </a:r>
            <a:r>
              <a:rPr b="1" i="1" lang="it-IT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n)=m. Riconoscere L corrisponde a risolvere il problema di decisione per </a:t>
            </a:r>
            <a:r>
              <a:rPr b="1" i="1" lang="it-IT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7EA2-C51A-4E02-BCEE-3C00996AA45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cchina a stat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ormalizzazione del concetto di calcol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Operazioni base di una macchina a stati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ttura dell’in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crittura dell’out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ransizione di sta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Memorizzazione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EC0A-83B1-4605-8D51-BC58DF05A58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roblemi paradigmatic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ate le equivalenze sopradette, i problem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paradigmatici 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ono quelli di riconosci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a calcolabilità è definita mediante macchine a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Quindi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: l’obiettivo dell’informatica teorica è definire tecniche per risolvere problemi di riconoscimento mediante macchine a st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68A2-B301-46C1-95E8-2E08817BCD3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nguaggi di program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linguaggio di programmazione è un linguaggio grammaticale il cui scopo è descrivere tecniche di risoluzione di problemi in modo che attraverso un meccanismo automatico si possa fare applicare tali tecniche su di una macchina a st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 token di un linguaggio di programmazione (simboli dell’alfabeto su cui è costruito) si chiaman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struzion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3F4C-0462-4693-9FD5-7D6ADFAA9D8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nguaggi di programma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tringa sintatticamente corretta di un linguaggio di programmazione si dice un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rogram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semantica operazionale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 un linguaggio di programmazione corrisponde ad un insieme di regole che trasformano programmi in macchine a st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semantica denotazionale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di un linguaggio di programmazione corrisponde ad un insieme di regole che trasformano un programma nella funzione da esso calcolat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20CB-D09D-4F1A-BEC8-2C3EC2F41E0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linguaggio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le istruzioni di un linguaggio di programmazione vengono tradotte in comandi eseguibili dalla macchin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struzioni macchina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una per volta il linguaggio di programmazione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interpret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rogramma che effettua la traduzione si dice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interpre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A88D-5AC6-446A-9E2E-3163B355D65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linguaggio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ogni programma di un linguaggio di programmazione viene tradotto in una sequenza di istruzioni macchina (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dice eseguibile</a:t>
            </a: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) il linguaggio di programmazione si dice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compila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l programma che effettua la traduzione si dice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compilator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ACF8-092B-4F76-9761-0066C1EA7C3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linguaggio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programma eseguibile può essere in realtà strutturato in comandi eseguibili direttamente dalla macchina ma anche in comandi eseguibili d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acchine virtu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macchina virtuale è un programma che conosce un codice intermedio tra quello ad alto livello del linguaggio di programmazione e quello della macchina fis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ale codice prende il nome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-cod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A5D6-4ABD-4A47-92D3-3B2FE0A0164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chitettura dei linguagg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ntassi del linguaggio e sua analis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ARSE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mantica del linguagg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INTERPRE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MPILATO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ecuzione di programm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un-Time Supp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B4FF-6CF3-423C-AA39-D13919784B2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aradigmi di programmazione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paradigma di programmazione è un modo di vedere la macchina che esegue i programm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ecuzione di p-code come semantica operazio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F426-981C-4974-A8EE-301FA421766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Paradigmi di programmazione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nguaggi impe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computazione è modellata come l’esecuzione di ordini da parte di un “servo”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Linguaggi dichiarativ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computazione è modellata come un calcolo strutturato d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unzioni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paradigma funzionale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Condizioni logiche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(paradigma logico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55DB-FEB9-4469-ACFE-A135BE373DB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quivalenza di programm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Due programmi che computano la stessa funzione possono farlo in modo profondamente divers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due programmi computano la stessa funzione si dice che s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funzionalmente equival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e due programmi che computano la stessa funzione lo fanno nello stesso modo si dice che sono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lgoritmicamente equival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80C0-54C4-4A32-8B52-68A1C36D75C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Macchina a stat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alcolo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to inizia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 di caratteri di in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 di stati ed azioni di trasformazione dell’in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 di scritture dell’outpu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ti fina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9C8B-7885-48F1-A6A9-183CD429AF19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lgoritm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Perciò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lgoritm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è la forma astratta di un programma, essendo due programmi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mplementazioni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ello stesso algoritmo se computano la stessa funzione nello stesso mod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Necessità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 modo semplice e generale di descrivere gli algoritm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seudolinguagg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Una forma non implementata di linguaggio di programmazione che contenga le strutture base dei linguaggi di programmazione (imperativ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BD25-CB24-4163-95ED-E0292D479E1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Strutture fondamental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Funzioni ba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Controllo di fluss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ettura di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crittura di d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ssegnamento di valori 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variabi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1C7C-AA09-4BED-8811-FB3E2635F1BF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trollo di flusso: sequenz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ruttura di controllo per fare eseguire due istruzioni una dopo l’alt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rappresentazione normalmente adottata è di utilizzare un separatore di linea esplicito /il punto e virgola) o implicito (a capo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410080" y="2819520"/>
            <a:ext cx="26672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uzione 1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410080" y="4038480"/>
            <a:ext cx="266724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uzione 2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cxnSp>
        <p:nvCxnSpPr>
          <p:cNvPr id="255" name="AutoShape 8"/>
          <p:cNvCxnSpPr>
            <a:stCxn id="253" idx="2"/>
            <a:endCxn id="254" idx="0"/>
          </p:cNvCxnSpPr>
          <p:nvPr/>
        </p:nvCxnSpPr>
        <p:spPr>
          <a:xfrm>
            <a:off x="6743520" y="335232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p:transition>
    <p:wipe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F794-8862-4925-809B-5333E605EAA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trollo di flusso: selezio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uttura di controllo per fare eseguire una istruzione se vale una condizione ed un’altra altrimen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struttura generalmente si rappresenta mediante la codifica</a:t>
            </a:r>
            <a:br>
              <a:rPr sz="2400"/>
            </a:b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se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ndizion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allora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str. 1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altrimenti 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str. 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105520" y="4038480"/>
            <a:ext cx="12189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1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5029200" y="2514600"/>
            <a:ext cx="3048120" cy="838080"/>
          </a:xfrm>
          <a:prstGeom prst="flowChartDecision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condizione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858000" y="4038480"/>
            <a:ext cx="12193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2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262" name="Group 16"/>
          <p:cNvGrpSpPr/>
          <p:nvPr/>
        </p:nvGrpSpPr>
        <p:grpSpPr>
          <a:xfrm>
            <a:off x="5714640" y="3352320"/>
            <a:ext cx="838440" cy="686160"/>
            <a:chOff x="5714640" y="3352320"/>
            <a:chExt cx="838440" cy="686160"/>
          </a:xfrm>
        </p:grpSpPr>
        <p:cxnSp>
          <p:nvCxnSpPr>
            <p:cNvPr id="263" name="AutoShape 10"/>
            <p:cNvCxnSpPr>
              <a:stCxn id="260" idx="2"/>
              <a:endCxn id="259" idx="0"/>
            </p:cNvCxnSpPr>
            <p:nvPr/>
          </p:nvCxnSpPr>
          <p:spPr>
            <a:xfrm rot="5400000">
              <a:off x="5790600" y="3276360"/>
              <a:ext cx="686520" cy="838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Text Box 12"/>
            <p:cNvSpPr/>
            <p:nvPr/>
          </p:nvSpPr>
          <p:spPr>
            <a:xfrm>
              <a:off x="5717160" y="3352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ver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grpSp>
        <p:nvGrpSpPr>
          <p:cNvPr id="265" name="Group 15"/>
          <p:cNvGrpSpPr/>
          <p:nvPr/>
        </p:nvGrpSpPr>
        <p:grpSpPr>
          <a:xfrm>
            <a:off x="6553080" y="3352320"/>
            <a:ext cx="977040" cy="686160"/>
            <a:chOff x="6553080" y="3352320"/>
            <a:chExt cx="977040" cy="686160"/>
          </a:xfrm>
        </p:grpSpPr>
        <p:cxnSp>
          <p:nvCxnSpPr>
            <p:cNvPr id="266" name="AutoShape 11"/>
            <p:cNvCxnSpPr>
              <a:stCxn id="260" idx="2"/>
              <a:endCxn id="261" idx="0"/>
            </p:cNvCxnSpPr>
            <p:nvPr/>
          </p:nvCxnSpPr>
          <p:spPr>
            <a:xfrm flipH="1" rot="16200000">
              <a:off x="6667200" y="3237840"/>
              <a:ext cx="68652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Text Box 14"/>
            <p:cNvSpPr/>
            <p:nvPr/>
          </p:nvSpPr>
          <p:spPr>
            <a:xfrm>
              <a:off x="6919560" y="33526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fals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A223-F845-4BF5-A0D1-33BD9E266A8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Controllo di flusso: cicl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uttura di controllo per fare eseguire ripetutamente una istruzione se vale una condizion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a struttura generalmente si rappresenta mediante la codifica</a:t>
            </a:r>
            <a:br>
              <a:rPr sz="2400"/>
            </a:b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fintantoché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ndizion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stru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5943600" y="4114800"/>
            <a:ext cx="12193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1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5029200" y="2514600"/>
            <a:ext cx="3048120" cy="838080"/>
          </a:xfrm>
          <a:prstGeom prst="flowChartDecision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condizione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019920" y="5334120"/>
            <a:ext cx="1218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ddd"/>
                </a:solidFill>
                <a:latin typeface="Arial"/>
              </a:rPr>
              <a:t>Istr. 2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cxnSp>
        <p:nvCxnSpPr>
          <p:cNvPr id="274" name="AutoShape 13"/>
          <p:cNvCxnSpPr>
            <a:stCxn id="271" idx="2"/>
            <a:endCxn id="272" idx="1"/>
          </p:cNvCxnSpPr>
          <p:nvPr/>
        </p:nvCxnSpPr>
        <p:spPr>
          <a:xfrm flipV="1" rot="16200000">
            <a:off x="4933080" y="3028320"/>
            <a:ext cx="1715400" cy="1524600"/>
          </a:xfrm>
          <a:prstGeom prst="bentConnector4">
            <a:avLst>
              <a:gd name="adj1" fmla="val -13329"/>
              <a:gd name="adj2" fmla="val 1149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5" name="Group 16"/>
          <p:cNvGrpSpPr/>
          <p:nvPr/>
        </p:nvGrpSpPr>
        <p:grpSpPr>
          <a:xfrm>
            <a:off x="5945760" y="3352320"/>
            <a:ext cx="607320" cy="762480"/>
            <a:chOff x="5945760" y="3352320"/>
            <a:chExt cx="607320" cy="762480"/>
          </a:xfrm>
        </p:grpSpPr>
        <p:sp>
          <p:nvSpPr>
            <p:cNvPr id="276" name="Text Box 9"/>
            <p:cNvSpPr/>
            <p:nvPr/>
          </p:nvSpPr>
          <p:spPr>
            <a:xfrm flipH="1">
              <a:off x="5945760" y="350532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ver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  <p:cxnSp>
          <p:nvCxnSpPr>
            <p:cNvPr id="277" name="AutoShape 14"/>
            <p:cNvCxnSpPr>
              <a:stCxn id="272" idx="2"/>
              <a:endCxn id="271" idx="0"/>
            </p:cNvCxnSpPr>
            <p:nvPr/>
          </p:nvCxnSpPr>
          <p:spPr>
            <a:xfrm flipH="1">
              <a:off x="6552360" y="33523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Group 17"/>
          <p:cNvGrpSpPr/>
          <p:nvPr/>
        </p:nvGrpSpPr>
        <p:grpSpPr>
          <a:xfrm>
            <a:off x="7238160" y="2933280"/>
            <a:ext cx="1069560" cy="2667600"/>
            <a:chOff x="7238160" y="2933280"/>
            <a:chExt cx="1069560" cy="2667600"/>
          </a:xfrm>
        </p:grpSpPr>
        <p:sp>
          <p:nvSpPr>
            <p:cNvPr id="279" name="Text Box 12"/>
            <p:cNvSpPr/>
            <p:nvPr/>
          </p:nvSpPr>
          <p:spPr>
            <a:xfrm>
              <a:off x="7697160" y="388620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0000"/>
                  </a:solidFill>
                  <a:latin typeface="Arial"/>
                </a:rPr>
                <a:t>falso</a:t>
              </a:r>
              <a:endParaRPr b="0" lang="en-US" sz="1600" spc="-1" strike="noStrike">
                <a:solidFill>
                  <a:srgbClr val="dddddd"/>
                </a:solidFill>
                <a:latin typeface="Arial"/>
              </a:endParaRPr>
            </a:p>
          </p:txBody>
        </p:sp>
        <p:cxnSp>
          <p:nvCxnSpPr>
            <p:cNvPr id="280" name="AutoShape 15"/>
            <p:cNvCxnSpPr>
              <a:stCxn id="272" idx="3"/>
              <a:endCxn id="273" idx="3"/>
            </p:cNvCxnSpPr>
            <p:nvPr/>
          </p:nvCxnSpPr>
          <p:spPr>
            <a:xfrm flipH="1">
              <a:off x="7238160" y="2933280"/>
              <a:ext cx="839160" cy="2667960"/>
            </a:xfrm>
            <a:prstGeom prst="bentConnector3">
              <a:avLst>
                <a:gd name="adj1" fmla="val -2725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5020-12A3-416F-B451-592F5B3B84E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Nozione di variabi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Variab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Tip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Valo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nome di variabile è valido, generalmente se è alfanumerico con limiti all’impiego di operatori aritmetici e se inizia con una letter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ccorrono costrutti pe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efinire tip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ttribuire tipi alle variabi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946C-0279-42C7-8ED9-02215328E8E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ltre istruzioni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Assegna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← v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ottocaso: incremen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← x + 1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Le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read(x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cri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write(x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6A2E-7B8F-489E-BF7F-FFB23F58925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di d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pi elementari/struttura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Tipi predefiniti/uten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strutti di definizione di tip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Costrutti di binding (assegnamento di tipo alle variabili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Regole di compatibilità tra tip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094B-E14B-4654-9EBE-5AF39D2FBEB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element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Tipi elementari predefini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Interi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numeri relativ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Short/lon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Rang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Reali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numeri con la virgola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Float/Doub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Range e precis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aratter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caratteri alfanumeric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ringh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equenze di caratteri alfanumerici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Logic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vero o fals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460C-0444-414D-99E8-380EBA3D387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enumerativ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tipi enumerativi sono tipi utente elementari costituiti da un elenco di tutti e soli i possibili valori del tipo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Esempio: colori dell’arcobalen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{rosso, arancione, giallo, verde, blu, indaco, violetto}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63A0-3D15-4A13-9DC8-2E743EC5D33B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appresentazione a graf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1DA7-87A4-4C13-8ECF-A09E7AC17F0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Tipi struttura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stat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Recor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dinamich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s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Alber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E123-0C7A-435B-9117-01CB540C340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ccesso agli element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ad accesso diretto o casuale sono quelle che permettono di leggere e scrivere elementi della struttura senza aver prima scandito altri elemen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trutture ad accesso sequenziale sono quelle che invece richiedono che la lettura di un elemento segua la lettura di altri elementi che precedono l’elemento detto nell’ordine di scansione della strut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BD3F-18BB-4FB5-AC71-E830CD7AB90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r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rray è un oggetto formato da un insieme accessibile direttamente di oggetti tutti dello stesso tip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Gli indici di accesso sono un tipo enumerativo ovvero numeri inter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rray è definito dalla sua dimensione strutturale (un array di dimensioni strutturale 1è un vettore, uno di dimensione strutturale 2 è una matrice) e dalle dimensioni relative (un vettore di dieci elementi è di dimensione relative 10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E456-A482-4498-BC1C-1972046BCFB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rr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Esempio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rray di dimensione strutturale 1 e dimensione relativa 7 di numeri interi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3657600" y="4572000"/>
                <a:ext cx="1333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3657600" y="320040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4,5,2,3,5,11,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Text Box 6"/>
          <p:cNvSpPr/>
          <p:nvPr/>
        </p:nvSpPr>
        <p:spPr>
          <a:xfrm>
            <a:off x="762120" y="3581280"/>
            <a:ext cx="94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Array di dimensione strutturale 2 e dimensioni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  relative 2 e 4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71D-70FA-49BD-8CB7-454CDBC8D78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Recor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record è un oggetto formato da un insieme accessibile direttamente di oggetti di tipi divers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Gli indici di accesso sono nomi validi di variabil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D0B-FA17-4C8A-B78B-87B415374C8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List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lista si costruisce aggiungendo un elemento in coda ad una lista esistente, che può essere vuo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Per leggere una lista abbiamo due operatori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o per ritornare il valore della posizione corr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o per spostare la posizione corrente in avan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43D6-DB42-415A-8098-CB98D078734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Graf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grafo (diretto) è una coppia &lt;V,E&gt; in cui E è un insieme di coppie di V, gli elementi di V si chiamano vertici, gli elementi di E arch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equenza di vertici di un grafo è un percorso se e solo se ogni coppia di vertici in sequenza è un arc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grafo si dice aciclico se  e solo se non contiene percorsi circolari (cioè che iniziano e terminano con lo stesso vertic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B8E4-C3E0-49DA-BA09-0DAFBD06E4E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Albe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 albero è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grafo diretto aciclico do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Ogni vertice è puntato da al più un altro verti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’insieme dei vertici non puntati è un singolet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Una lista è un albero i cui elementi puntano al più un altro ele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C6D9-34AB-4D99-93E4-44E6234CD26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Fi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I file sono sequenze accessibili anche mediante indici</a:t>
            </a:r>
            <a:br>
              <a:rPr sz="3200"/>
            </a:b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Si differenziano dalle liste per avere potenzialmente molti punti d’access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C2F1-1A3B-4099-81EF-D2E9A00DEC7D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macchina a stati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apparecchio telefonico può essere riguardato come una macchina a stat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ato iniziale: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ale assente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ati intermedi: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line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liber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occupat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gn. di assenza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di line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tato finale: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nversazione 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conclusa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s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inguaggio riconosciuto: Attivazione di una conversazione telefon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0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0099-0FC4-4A18-B47B-308248DB909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macchina a stati (2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imes New Roman"/>
              </a:rPr>
              <a:t>Modello di funzionamen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tato iniziale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gnale asse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Sequenza: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Accesso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a)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 linea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Componi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c);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 liber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Conversazion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p) altrimenti</a:t>
            </a:r>
            <a:br>
              <a:rPr sz="2400"/>
            </a:b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se occupato </a:t>
            </a: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Concludi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ECE0-D7B0-494F-93A9-601D0522FA3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Esempio di macchina a stati (3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19" name="Group 1066"/>
          <p:cNvGrpSpPr/>
          <p:nvPr/>
        </p:nvGrpSpPr>
        <p:grpSpPr>
          <a:xfrm>
            <a:off x="1371600" y="1676520"/>
            <a:ext cx="6553440" cy="4419360"/>
            <a:chOff x="1371600" y="1676520"/>
            <a:chExt cx="6553440" cy="4419360"/>
          </a:xfrm>
        </p:grpSpPr>
        <p:sp>
          <p:nvSpPr>
            <p:cNvPr id="120" name="Text Box 1061"/>
            <p:cNvSpPr/>
            <p:nvPr/>
          </p:nvSpPr>
          <p:spPr>
            <a:xfrm>
              <a:off x="5945400" y="1676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121" name="Group 1065"/>
            <p:cNvGrpSpPr/>
            <p:nvPr/>
          </p:nvGrpSpPr>
          <p:grpSpPr>
            <a:xfrm>
              <a:off x="1371600" y="1781280"/>
              <a:ext cx="6553440" cy="4314600"/>
              <a:chOff x="1371600" y="1781280"/>
              <a:chExt cx="6553440" cy="4314600"/>
            </a:xfrm>
          </p:grpSpPr>
          <p:sp>
            <p:nvSpPr>
              <p:cNvPr id="122" name="Oval 1029"/>
              <p:cNvSpPr/>
              <p:nvPr/>
            </p:nvSpPr>
            <p:spPr>
              <a:xfrm>
                <a:off x="1371600" y="4114800"/>
                <a:ext cx="762120" cy="762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3" name="Oval 1030"/>
              <p:cNvSpPr/>
              <p:nvPr/>
            </p:nvSpPr>
            <p:spPr>
              <a:xfrm>
                <a:off x="2971800" y="2895480"/>
                <a:ext cx="762120" cy="762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4" name="Oval 1031"/>
              <p:cNvSpPr/>
              <p:nvPr/>
            </p:nvSpPr>
            <p:spPr>
              <a:xfrm>
                <a:off x="2895480" y="5334120"/>
                <a:ext cx="762120" cy="7617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5" name="Oval 1032"/>
              <p:cNvSpPr/>
              <p:nvPr/>
            </p:nvSpPr>
            <p:spPr>
              <a:xfrm>
                <a:off x="5334120" y="2133720"/>
                <a:ext cx="761760" cy="7617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6" name="Oval 1033"/>
              <p:cNvSpPr/>
              <p:nvPr/>
            </p:nvSpPr>
            <p:spPr>
              <a:xfrm>
                <a:off x="5334120" y="3657600"/>
                <a:ext cx="761760" cy="76212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cxnSp>
            <p:nvCxnSpPr>
              <p:cNvPr id="127" name="AutoShape 1034"/>
              <p:cNvCxnSpPr>
                <a:stCxn id="122" idx="0"/>
                <a:endCxn id="123" idx="2"/>
              </p:cNvCxnSpPr>
              <p:nvPr/>
            </p:nvCxnSpPr>
            <p:spPr>
              <a:xfrm flipH="1" flipV="1" rot="5400000">
                <a:off x="1942560" y="3085560"/>
                <a:ext cx="838800" cy="12200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8" name="AutoShape 1035"/>
              <p:cNvCxnSpPr>
                <a:stCxn id="122" idx="4"/>
                <a:endCxn id="124" idx="2"/>
              </p:cNvCxnSpPr>
              <p:nvPr/>
            </p:nvCxnSpPr>
            <p:spPr>
              <a:xfrm flipH="1" rot="16200000">
                <a:off x="1904040" y="4724280"/>
                <a:ext cx="838800" cy="1143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9" name="AutoShape 1036"/>
              <p:cNvCxnSpPr>
                <a:stCxn id="123" idx="0"/>
                <a:endCxn id="125" idx="2"/>
              </p:cNvCxnSpPr>
              <p:nvPr/>
            </p:nvCxnSpPr>
            <p:spPr>
              <a:xfrm flipH="1" flipV="1" rot="5400000">
                <a:off x="4152600" y="1713960"/>
                <a:ext cx="381600" cy="19821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0" name="AutoShape 1037"/>
              <p:cNvCxnSpPr>
                <a:stCxn id="123" idx="4"/>
                <a:endCxn id="126" idx="2"/>
              </p:cNvCxnSpPr>
              <p:nvPr/>
            </p:nvCxnSpPr>
            <p:spPr>
              <a:xfrm flipH="1" rot="16200000">
                <a:off x="4152960" y="2856960"/>
                <a:ext cx="381600" cy="19821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1" name="Oval 1040"/>
              <p:cNvSpPr/>
              <p:nvPr/>
            </p:nvSpPr>
            <p:spPr>
              <a:xfrm>
                <a:off x="1447920" y="4191120"/>
                <a:ext cx="609480" cy="60948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2" name="Text Box 1041"/>
              <p:cNvSpPr/>
              <p:nvPr/>
            </p:nvSpPr>
            <p:spPr>
              <a:xfrm>
                <a:off x="1605600" y="426708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3" name="Text Box 1042"/>
              <p:cNvSpPr/>
              <p:nvPr/>
            </p:nvSpPr>
            <p:spPr>
              <a:xfrm>
                <a:off x="3131280" y="312408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4" name="Text Box 1043"/>
              <p:cNvSpPr/>
              <p:nvPr/>
            </p:nvSpPr>
            <p:spPr>
              <a:xfrm>
                <a:off x="3129840" y="550080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5" name="Text Box 1044"/>
              <p:cNvSpPr/>
              <p:nvPr/>
            </p:nvSpPr>
            <p:spPr>
              <a:xfrm>
                <a:off x="5493600" y="23623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6" name="Text Box 1045"/>
              <p:cNvSpPr/>
              <p:nvPr/>
            </p:nvSpPr>
            <p:spPr>
              <a:xfrm>
                <a:off x="5493600" y="388620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7" name="Oval 1046"/>
              <p:cNvSpPr/>
              <p:nvPr/>
            </p:nvSpPr>
            <p:spPr>
              <a:xfrm>
                <a:off x="6934320" y="2819520"/>
                <a:ext cx="761760" cy="7617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8" name="Line 1047"/>
              <p:cNvSpPr/>
              <p:nvPr/>
            </p:nvSpPr>
            <p:spPr>
              <a:xfrm>
                <a:off x="7238880" y="2819520"/>
                <a:ext cx="4572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9" name="Text Box 1048"/>
              <p:cNvSpPr/>
              <p:nvPr/>
            </p:nvSpPr>
            <p:spPr>
              <a:xfrm>
                <a:off x="7093800" y="30481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0" name="Text Box 1049"/>
              <p:cNvSpPr/>
              <p:nvPr/>
            </p:nvSpPr>
            <p:spPr>
              <a:xfrm>
                <a:off x="1830600" y="3200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1" name="Text Box 1053"/>
              <p:cNvSpPr/>
              <p:nvPr/>
            </p:nvSpPr>
            <p:spPr>
              <a:xfrm>
                <a:off x="1906920" y="5562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cxnSp>
            <p:nvCxnSpPr>
              <p:cNvPr id="142" name="AutoShape 1054"/>
              <p:cNvCxnSpPr>
                <a:stCxn id="124" idx="6"/>
                <a:endCxn id="137" idx="6"/>
              </p:cNvCxnSpPr>
              <p:nvPr/>
            </p:nvCxnSpPr>
            <p:spPr>
              <a:xfrm flipV="1">
                <a:off x="3657600" y="3199680"/>
                <a:ext cx="4039200" cy="2515320"/>
              </a:xfrm>
              <a:prstGeom prst="curvedConnector5">
                <a:avLst>
                  <a:gd name="adj1" fmla="val 105660"/>
                  <a:gd name="adj2" fmla="val 50000"/>
                  <a:gd name="adj3" fmla="val 10566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3" name="AutoShape 1055"/>
              <p:cNvCxnSpPr>
                <a:stCxn id="125" idx="6"/>
                <a:endCxn id="138" idx="0"/>
              </p:cNvCxnSpPr>
              <p:nvPr/>
            </p:nvCxnSpPr>
            <p:spPr>
              <a:xfrm>
                <a:off x="6095520" y="2514240"/>
                <a:ext cx="1143720" cy="3056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4" name="AutoShape 1057"/>
              <p:cNvCxnSpPr>
                <a:stCxn id="126" idx="6"/>
                <a:endCxn id="137" idx="2"/>
              </p:cNvCxnSpPr>
              <p:nvPr/>
            </p:nvCxnSpPr>
            <p:spPr>
              <a:xfrm flipV="1">
                <a:off x="6095520" y="3200040"/>
                <a:ext cx="839160" cy="838800"/>
              </a:xfrm>
              <a:prstGeom prst="curvedConnector5">
                <a:avLst>
                  <a:gd name="adj1" fmla="val 50000"/>
                  <a:gd name="adj2" fmla="val 49978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5" name="Text Box 1058"/>
              <p:cNvSpPr/>
              <p:nvPr/>
            </p:nvSpPr>
            <p:spPr>
              <a:xfrm>
                <a:off x="4122720" y="220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6" name="Text Box 1059"/>
              <p:cNvSpPr/>
              <p:nvPr/>
            </p:nvSpPr>
            <p:spPr>
              <a:xfrm>
                <a:off x="4122720" y="40384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cxnSp>
            <p:nvCxnSpPr>
              <p:cNvPr id="147" name="AutoShape 1060"/>
              <p:cNvCxnSpPr>
                <a:stCxn id="125" idx="1"/>
                <a:endCxn id="125" idx="7"/>
              </p:cNvCxnSpPr>
              <p:nvPr/>
            </p:nvCxnSpPr>
            <p:spPr>
              <a:xfrm flipH="1" rot="16200000">
                <a:off x="5713920" y="1974240"/>
                <a:ext cx="2520" cy="540720"/>
              </a:xfrm>
              <a:prstGeom prst="curvedConnector5">
                <a:avLst>
                  <a:gd name="adj1" fmla="val -21400000"/>
                  <a:gd name="adj2" fmla="val 49966"/>
                  <a:gd name="adj3" fmla="val -21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8" name="Text Box 1062"/>
              <p:cNvSpPr/>
              <p:nvPr/>
            </p:nvSpPr>
            <p:spPr>
              <a:xfrm>
                <a:off x="5640840" y="5638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49" name="Text Box 1063"/>
              <p:cNvSpPr/>
              <p:nvPr/>
            </p:nvSpPr>
            <p:spPr>
              <a:xfrm>
                <a:off x="6478920" y="3809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50" name="Text Box 1064"/>
              <p:cNvSpPr/>
              <p:nvPr/>
            </p:nvSpPr>
            <p:spPr>
              <a:xfrm>
                <a:off x="6478920" y="2666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</p:spTree>
  </p:cSld>
  <p:transition>
    <p:wipe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7D97-08A9-48D4-B893-F4F11330B49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9522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cc"/>
                </a:solidFill>
                <a:latin typeface="Times New Roman"/>
              </a:rPr>
              <a:t>Il concetto di linguaggio (1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Alfabet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 insieme finito e non vuoto i cui elementi sono detti SIMBOL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String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Una sequenza di lunghezza qualsiasi di simboli di un alfabet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Times New Roman"/>
              </a:rPr>
              <a:t>Stringa vuot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La sequenza di lunghezza zero su un qualsiasi alfabeto (è denotata con </a:t>
            </a:r>
            <a:r>
              <a:rPr b="0" lang="it-IT" sz="28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0:37:25Z</dcterms:created>
  <dc:creator> </dc:creator>
  <dc:description/>
  <dc:language>en-US</dc:language>
  <cp:lastModifiedBy>Matteo</cp:lastModifiedBy>
  <cp:lastPrinted>2000-02-27T18:44:12Z</cp:lastPrinted>
  <dcterms:modified xsi:type="dcterms:W3CDTF">2008-12-08T23:35:33Z</dcterms:modified>
  <cp:revision>57</cp:revision>
  <dc:subject/>
  <dc:title>Corso di Informatica  per Giurisprudenza Lezion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rofs.sci.univr.it/fummi</vt:lpwstr>
  </property>
  <property fmtid="{D5CDD505-2E9C-101B-9397-08002B2CF9AE}" pid="9" name="LinkColor">
    <vt:r8>16711782</vt:r8>
  </property>
  <property fmtid="{D5CDD505-2E9C-101B-9397-08002B2CF9AE}" pid="10" name="MailAddress">
    <vt:lpwstr>fummi@sci.univr.it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\Franco\SLIDES\VERONA\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