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3AD4EA4-1F19-4E2A-8D89-553073407B7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8965CBF-B041-4494-9F5A-35355FB98CF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3F19EA-F895-4E70-A3FB-1FE05382933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9AF904-ECEB-49D6-88A3-E065F78FF6D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BC116F-F072-4004-A639-799A00271E0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3F175AC-4380-4A02-B8A2-B25E0953A3F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112887-C37A-4DA4-B813-5CFABE352E2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F38E11-CD6C-412D-A11C-2D957C42E8D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BA4D9F-7DBF-46D9-BADB-C87D1082606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ED82D1-58B7-4163-B2CA-C0CCF293CF1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25B225-18DE-41F5-A9BF-E51EE1FB459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B98416-C5BC-44C5-8FB3-FC55B84AFF0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793CF9C-5BC7-4310-91E9-CC7AECFA9FB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C802B1-C8BC-473C-B13E-D0FFEA17AA6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7C989A-8160-4578-BA2A-D1911CEBCB9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237D07-701E-49F1-B9E2-4ED6C8F34B1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EFA1F2-AE80-4281-B052-E09016EF5A1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8318828-E510-4044-80C7-817765C9D8A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0B3783-85BD-4BEB-8FC2-11EFC62E57D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25DDB7-A494-4483-8FFD-BF7AB553525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258453-FA51-4A19-8CDE-9F522D8B169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F8E0D7E-EEFC-4CA8-A7B2-B0BE1E11B46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53B747-AC21-40FC-9B03-BD4060B5ED5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42D570-1F36-4EC1-AFDF-08144348CBD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054627-3B64-40B9-8957-A14993A2B77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683F717-EABE-439A-AE18-EB08A049554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67BB18-906F-4CCF-ADB5-5ED6E0EA960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2ACBF9-9C1B-432A-A2E8-B0BB1BFE956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67C1D93-D253-4062-AE1A-6C507B1E861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7E099B-5DA7-460A-A36A-079F66C3FA6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F4ADEE-1C92-4809-9010-8C019198884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B9E472D-A06F-42E5-8F83-7B2AD9F9C97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B7A2D7-7324-4B53-B854-3A0F2D9CFE1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1A732A-41EA-4473-8343-E78D681EFC4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A5FF3A-3232-4A33-A94C-411F33EBE51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E2B22E-CAA1-4D87-8D4D-6B4B4D512A3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B0379E-C88F-4253-9A1E-4642091FA13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3E2B7F-9142-4E9D-8C28-9E2F41EA71A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0C86F8-C405-497A-B767-E8D66916476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9B3AB68-3123-42F9-B825-B0CE597443D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C97FC2E-36E4-4787-BB35-C4AB92962E8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84B57E-FB29-40A7-A082-B554ABDE743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522C51-B1B4-4A24-B86D-C749302EE94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69F2F7-D72A-4B69-ACD1-5DE7410A72C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C6E9B5A-E1C5-486A-86F2-B680588B8E7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8A1897-DEF9-4983-AFD8-30C2466AD3E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DDD833-6C74-406A-AE84-2EB9394FEBD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022574-1A86-4E9F-853D-558872F951E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05AC76B-98E0-46CB-8EB8-0485DC8B6D2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AE8818-2085-44B2-87F8-5B226BCA6B9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13587C-AF97-42BC-B8EC-111312B744E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9A7053-7014-4F60-A948-54FA5C36137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04C-2AE4-41A7-8BD2-C8FB7DD6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0FF-226E-4F61-B5D3-96CABA5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D24-1FC1-4176-839B-6C65C103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DE1-3889-48C8-831F-F3BBA84E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7F31-69AD-4B70-8669-AF1CCC01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C838-11D3-4D64-A2FB-B3468608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876-3C43-447A-B131-FB6412B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9177-30C8-46D8-B149-964049E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2753-3B99-4DBF-851F-AC9DA52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1B2-9204-467A-A432-B3929C2B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DD4-26ED-47DF-BA91-B5F8F66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8A6-AEAB-4C36-892D-95568E92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3D2-D53E-462C-B295-A472ED7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A43-8EA2-4F9B-922D-D11C1B2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3B8-3816-41BB-96C4-22B5C10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E09D-DF1A-44FF-B562-8555CFB3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1B3-4EBC-4F3A-BDE8-C573D4E9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6AA-7569-48A6-A722-90E7FF8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BA4-9AB3-41C1-A089-4AA7D7B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0DF-010A-4557-92FA-A30FF531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B4A-12A3-43B5-B1BF-71B8EB09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DB7-34AE-42BF-91C9-C14D3B8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21E-6B4D-4C02-94B5-8626C18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077-D86B-4F04-95C3-4FEAA9C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C987-1CF4-41E4-B362-D0E0152A8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C6E5-D234-45C6-859C-BED42FFC648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66E-B58C-46FF-AC12-C6386F65A5C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MS Mincho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995-B893-40E8-A006-93FE8EED811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a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empi d’accesso 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perazioni di CP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emoria centr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ifer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no enormemente differe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periferica si compie in tempi dell’ordine dei milli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ccesso a memoria centrale in tempi dell’ordine dei micr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operazione di CPU si compie in tempi dell’ordine dei pico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268-4828-4A94-9259-629601EA42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seguenz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tempo che un processo impiega a fare accesso a memoria centrale o addirittura ad una periferica la CPU è posseduta ma fe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ccanismo risolu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sottrae 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TRAPPOL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l processo, cosicchè il monitor, quando riceve notizie dalla memoria o dalla periferica interessata che segnalano la terminazione dell’accesso toglie il processo dalla sua trappola e lo riammette in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7C6-0124-4D76-A482-73D4C368BF2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source manag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30560" cy="4387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3BB-0C2C-4603-B85D-07A20306E0D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la CPU viene sottratta ad un processo e questo processo deve accedere ad una risorsa, chi eseguirà i comandi di accesso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tecnica implementata negli attuali H/W è la DMA (Direct Memory Acces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banco di memoria centrale (RAM, ROM) ed ogni periferica posseggono un chip collaterale che esegue i comandi di accesso relativi alla memoria od alla specifica periferica: la D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847-0747-487F-8602-3AC680A10AB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rap e DM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ntrappoliamo un processo e lo consegnamo alla DMA che eseguirà la sua richiesta di accesso alla risorsa controllata otteremo lo scopo prefiss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PU sarà libe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da non verrà interrot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A65-63C6-4DB1-8B6F-03CA7E4D72E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tti stor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nche se la tecnica sulle DMA è posteriore alla concezione di algoritmi atti ad implementare una politica di scheduling ROUND-ROBIN esse sono molto motivanti per tale scel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oltre, senza ROUND-ROBIN le DMA sono poco ut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B27-FD1B-4735-BA18-C4BFF226C5B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Funzioni generali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 deve svolgere le seguenti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non condivisibili stabilendo le modalità con cui i processi richiedenti accedono alle risorse stesse e l’ordine di accesso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00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cessare le richieste di risorse condivisibili stabilendo l’ordine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50FE-78CF-4066-92DF-1F6D34C9C9C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lla CPU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oricam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richiest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FIF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priorit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Q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secondo dimension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JF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o a rotazion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ROUND-ROB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6838-02C6-4F91-83AE-90394DC98DE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dello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8F4-0977-4E06-85BD-927B150DE9B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0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che la terrà occupata per 10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3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terrà occupata per 12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8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3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1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a 7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 tempo 17 chiede la CPU il processo p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he la occuperà per 4 secon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04BF-C16B-444B-94E0-F57274EC99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ttura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cessi, gestione memoria, file system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positivi di input-output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cku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i operativi esist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S, Windows, MAC OS, 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BD7-39F7-48D0-A03C-0BABCF222BB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ertan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0 il processo attivo è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, nessun processo in cod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8 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0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1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17 si accod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25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2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 e diviene attivo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Al tempo 36 termina 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D596-5373-42FA-8A85-AA7CEA6982E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1095480" y="5587920"/>
            <a:ext cx="71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295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463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1631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800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1968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136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305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473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6416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809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9782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1464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331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34830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3651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38196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3987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41562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6" name="Line 23"/>
          <p:cNvSpPr/>
          <p:nvPr/>
        </p:nvSpPr>
        <p:spPr>
          <a:xfrm>
            <a:off x="43243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449280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46609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4829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49975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5165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2" name="Line 29"/>
          <p:cNvSpPr/>
          <p:nvPr/>
        </p:nvSpPr>
        <p:spPr>
          <a:xfrm>
            <a:off x="53341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3" name="Line 30"/>
          <p:cNvSpPr/>
          <p:nvPr/>
        </p:nvSpPr>
        <p:spPr>
          <a:xfrm>
            <a:off x="55022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4" name="Line 31"/>
          <p:cNvSpPr/>
          <p:nvPr/>
        </p:nvSpPr>
        <p:spPr>
          <a:xfrm>
            <a:off x="567072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58388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6006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7" name="Line 34"/>
          <p:cNvSpPr/>
          <p:nvPr/>
        </p:nvSpPr>
        <p:spPr>
          <a:xfrm>
            <a:off x="61754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8" name="Line 35"/>
          <p:cNvSpPr/>
          <p:nvPr/>
        </p:nvSpPr>
        <p:spPr>
          <a:xfrm>
            <a:off x="63435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65120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66801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684864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70167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71848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73533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75214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768996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7" name="Line 44"/>
          <p:cNvSpPr/>
          <p:nvPr/>
        </p:nvSpPr>
        <p:spPr>
          <a:xfrm>
            <a:off x="7858080" y="53625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564480" y="5842080"/>
            <a:ext cx="76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MS Mincho"/>
              </a:rPr>
              <a:t>0      3          8  10 11           17         22     25             32        36</a:t>
            </a:r>
            <a:endParaRPr b="0" lang="en-US" sz="12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3769200" y="2001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166752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25498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2834280" y="330840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3" name="Text Box 57"/>
          <p:cNvSpPr/>
          <p:nvPr/>
        </p:nvSpPr>
        <p:spPr>
          <a:xfrm>
            <a:off x="30340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4" name="Text Box 60"/>
          <p:cNvSpPr/>
          <p:nvPr/>
        </p:nvSpPr>
        <p:spPr>
          <a:xfrm>
            <a:off x="39484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5" name="Text Box 65"/>
          <p:cNvSpPr/>
          <p:nvPr/>
        </p:nvSpPr>
        <p:spPr>
          <a:xfrm>
            <a:off x="4756680" y="330984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254988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30038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8" name="Text Box 62"/>
          <p:cNvSpPr/>
          <p:nvPr/>
        </p:nvSpPr>
        <p:spPr>
          <a:xfrm>
            <a:off x="391824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09" name="Text Box 66"/>
          <p:cNvSpPr/>
          <p:nvPr/>
        </p:nvSpPr>
        <p:spPr>
          <a:xfrm>
            <a:off x="4750200" y="26542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117036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16675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25498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00ff"/>
                </a:solidFill>
                <a:latin typeface="MS Mincho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3" name="Text Box 56"/>
          <p:cNvSpPr/>
          <p:nvPr/>
        </p:nvSpPr>
        <p:spPr>
          <a:xfrm>
            <a:off x="28342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30340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94848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cc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cc00cc"/>
                </a:solidFill>
                <a:latin typeface="MS Mincho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4786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00ff00"/>
                </a:solidFill>
                <a:latin typeface="MS Mincho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533592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ffff00"/>
                </a:solidFill>
                <a:latin typeface="MS Mincho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6380640" y="396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MS Mincho"/>
              </a:rPr>
              <a:t>p</a:t>
            </a:r>
            <a:r>
              <a:rPr b="0" lang="it-IT" sz="2000" spc="-1" strike="noStrike" baseline="-25000">
                <a:solidFill>
                  <a:srgbClr val="5f5f5f"/>
                </a:solidFill>
                <a:latin typeface="MS Mincho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605000" y="392760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Arial"/>
              </a:rPr>
              <a:t>}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processo 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   attivo</a:t>
            </a:r>
            <a:endParaRPr b="0" lang="en-US" sz="2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0" name="Rectangle 74"/>
          <p:cNvSpPr/>
          <p:nvPr/>
        </p:nvSpPr>
        <p:spPr>
          <a:xfrm>
            <a:off x="1287360" y="4762440"/>
            <a:ext cx="1689120" cy="357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2995560" y="4762440"/>
            <a:ext cx="1984320" cy="35712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4994280" y="4761000"/>
            <a:ext cx="512640" cy="357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5522760" y="4761000"/>
            <a:ext cx="11494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4" name="Rectangle 78"/>
          <p:cNvSpPr/>
          <p:nvPr/>
        </p:nvSpPr>
        <p:spPr>
          <a:xfrm>
            <a:off x="6691320" y="4764240"/>
            <a:ext cx="792000" cy="357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MS Mincho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4A2-0D28-496C-AB77-54C2B464E60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FI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Ordine di precedenza rispett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mpletamento di un singolo processo in tempo pari al tempo di esecuzione dopo l’accesso alla risor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variab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ossibilità di gestire le urgenz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molto lunghi possono tenere in coda processi molto cor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D21-CDED-4889-9DA8-44DCBD805A9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iority queue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che chiedono la CPU ne entrano in possesso quando tutti i processi che ne avevano fatto richiesta prima avendo priorità maggiore o uguale al processo richiedente l’hanno impiega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7323-B2C1-4351-888E-594EEB34475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singo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vengono monitorati solo all’ingresso in coda e la risalgono fino a quando il processo che le precede ha la stessa priorità, o priorità maggiore o hanno raggiunto la cima dell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98E0-A48A-46E1-8877-F1C09B5BBD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mplementazioni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oda multipl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iorità ha la sua cod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processi di una coda vengono eseguiti in ordine FIF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code vengono monitorate in ordine diretto dalla priorità più alta a quella più ba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A76D-7351-4BE3-98BF-69FE477F662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 bassa priorità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2B0-ED87-442E-A414-F81B8DC672C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PQ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aranzia di priorità per processi urg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di attesa in coda dipende dalla priorità e in parte dall’ordine di richie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 processi, anche a bassa priorità vengono sempre esegui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fficile attribuire le priorità in modo automat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ad alta priorità possono attendere a lungo in ogni caso, essendo in coda alle richies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98D7-40F5-4B14-9C6F-DC42BA3679D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hortest Job Fir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iene eseguito per primo il processo più breve tra quelli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in coda è sempre in atte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 esistono processi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F78-1D38-45E7-8500-FD9BD569E8F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SJF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mpo medio di attesa in coda è minimizz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cessi lunghi possono restare in coda potenzialmente all’infini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essuna prior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D318-48AB-4C54-A311-AF7ECD43F74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cccc"/>
                </a:solidFill>
                <a:latin typeface="Times New Roman"/>
              </a:rPr>
              <a:t>Schema generale di un sistema operativo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746600" cy="451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BB6-7863-4430-978D-ABF1EBF15C1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cesso è ripartito in fette di tempo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lic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di durata massima predefini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ando una time-slice è terminata la CPU viene attribuita al processo successivo in cod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processi in coda sono sia in attesa che sopi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DB8D-FB2E-4918-8BE6-E62FDCAF55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nd-Robin e D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fa solo operazioni CPU durante il suo Time-Slice, allora, dato che non verrà intrappolato continuerà a possedere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processo accede a memoria o periferiche finirà intrappolato e il monitor gli sottrarrà la CPU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ciò, in presenza di un trap, la durata di una time-slice sarà inferi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817-15AD-4BEB-92F7-C76A2B073D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 Round-Robi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ertezza dell’esec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Minimizzazione del tempo di attesa in cod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fruttamento completo delle risor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antagg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maggior complicazione dell’algoritmo di scheduling richiede grande attenzione alla sua 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654-F2CC-47F7-8180-096FB5104DE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chemi del Job Schedu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51348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8281-0062-43F9-BBD2-EDC5795CCC0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orr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cessi eseguiti in coda su macchine sequenziali monitorate da un sistema operativo con Job Scheduler a politica Round-Robin si dic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ncorr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oncorrenza non è parallelism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3BFD-9DDF-4D75-8641-E8837F08D57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spetto all’esecuzione di applicazioni un sistema operativo può concepire applicazioni in tre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il Focu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ccessi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329-D82A-4831-B914-874912DCE8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un sistema operativo ammette più applicazioni con il focus e il Job Scheduling è Round-Robin, allora due utenti potrebbero eseguire applicazioni diverse in concorrenz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ciò avviene diremo che il sistema operativo co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ime-sharing competi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F8E2-B743-4113-ADC9-CD0B4252E25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istema operativ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l caso opposto, cioè quando una applicazione cede il focus solo spontaneamente, diremo che il time-sharing è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95 e Mac OS fino alla versione 4 sono sistemi definiti co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 Windows98 in poi e da Mac OS 5 si parla di sistemi competi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F98-82EF-47AB-816E-40E41FD8869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chiama File System l’organizzazione strutturale dei dati di memoria di massa gestita da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a funzione è fondamental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8AA-D410-49CA-8876-969A2D3C66F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l file syste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pet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un alber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avigabile bidirezionalm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nodi si chiamano Directory, e i legami parenthood lin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2781-2B55-4B2D-8A7E-9F513DFB001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 è un programma in esecu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 diversi modellano diversamente le relazioni temporali tra proc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ENZIONE: Un’applicazione non è necessariamente un program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olte applicazioni sono implementate da un insieme di programmi e quindi quando sono in esecuzione vi sono molti process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23B-0B21-4E2E-A8AC-62D03A78190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rganizzazione de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vengono collocati nel disco dove possi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sfruttare al meglio lo spazio i file possono essere spezzati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bloc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ncellazione di un file o la sua modifica comporta la modifica (e potenzialemte) l’eliminazione dei blocchi che lo compong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41DF-816A-4F5E-8D33-D8BB80F0946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etod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ccorre quindi progettare tecniche d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locazione dei Blocch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consentano di evitare sprechi e garantire la conservazione dell’integrità dei dati stes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politiche di allocazione sono uno delle più significative scelte strategiche nella definizione di un sistema opera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0D4-75EB-40A9-A753-49195F0B685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cniche di alloc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tecniche di allocazione dei blocchi sono costruite sui seguenti assu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blocchi hanno tutti le stesse dimens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numero di blocchi di un file è 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589-6468-4062-BAA5-40E0C70A5B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segmenti di blocchi adiacenti in modo da garantire che ogni segmento occupi una zona libera del disco con il min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AF9-3495-45A9-99C2-A0FD5AD50FE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Be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tenzialmente difficile il problema di trovare le aree per l’allo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residuano piccole porzioni del disco esse saranno certamente spreca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indows95, Windows98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mplementava una FAT (File Allocation Table) dove registrava le informazioni di allocazione e disalloc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opo un periodo di uso intenso occorreva operare una deframmentazione per compattare e quindi riutilizzare le aree del disco inutilizza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B25-4F3C-4D7C-B7F5-9CF9A0B16DE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rova le zone libere del disco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ipartisci il file in blocchi in modo da garantire che ogni segmento occupi una zona libera del disco con il massimo spreco di memor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42CB-C67E-44CA-845A-E6AFC9D4491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i Worst-Fi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nor spre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È più probabile che se un file è piccolo si allochi sub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5AA-DAAA-4E86-A69F-A9710BA7BD4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causa dei crash elettrici, degli errori umani e dei problemi con software con bachi è possibile che dati recentemente scaricati sul computer siano illeggi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prudenza, quindi, si fa copia del contenuto del disco (o talvolta di una sua par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ale copia si chiama back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4799-814D-4714-95BD-B4663E3CC71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Backup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backup, per sistemi di grandi dimensioni, può risultare voluminoso e lungo da fare a ma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ricorre quindi a tecniche di Backup periodico (ogni giorno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A77-8D44-448B-8CCD-9B7171F8599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i operativi esist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grande famiglia UNI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i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tBSD, FreeBS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indow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98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2000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indows X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330-4B79-47A4-AEBF-725484B5A8F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ato di un process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rocesso, in un sistema operativo, può trovarsi in una delle seguenti situa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ttivo: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e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 attes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è in esecuzione, ma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on controlla le risorse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pito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cesso non è in esecuzione,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 attende di essere richiam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FB8D-ABDC-4AF7-BF82-6A00E1DB91F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OS e Window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OS (Disk Operating System) fu una idea di interesse sviluppata con lo scopo di rendere semplice l’accesso a risorse di un computer da parte di utenti inesper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ttualmente esso è una componente di Windows (il Prompt dei Comand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A34-BCD3-408E-AB42-A85AFDA152E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 O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Apple ha sempre prodotto il software di gestione delle proprie macchine in modo totalmente autonomo rispetto alle pressioni del merc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sistema operativo, molto simile come ambiente operativo a Windows, gestisce la memoria e le altre risorse in modo priorit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2EB2-C846-44FB-A251-9F2866B4C67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stione delle risor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isorse a disposizione di un processo sono fondamentalmente t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tempo di CPU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ovvero il controllo dell’esecuzione su macchine sequenziali, il possesso di una delle risorse di calcolo parallele su macchine non sequenzi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i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centr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468A-CB40-47E1-8F20-BDB59F0E915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divisi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risorsa si dice condivisibile se il fatto che un processo v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cced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non significa che 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ntrol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accede ad una risorsa quando può farne uso, ovvero quando i comandi che invia a quella risorsa sono esegu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processo controlla una risorsa quando ogni richiesta di accesso da parte di altri processi effettuata mentre il processo stesso vi accede viene respin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0932-ED37-48DA-A8CB-D23AFCE4CCC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ezzo essenziale del kernel di un sistema operativo è i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iede al coordinamento ed al controllo delle funzioni del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source Manager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he gestis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Job Scheduling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CPU Tim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mory assign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167-1CA2-406B-9520-4BA3751E8E5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MS Minch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unzioni del moni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monit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bilisce l’accesso alla CPU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sce l’accesso a memoria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ordina le funzioni di acce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51Z</dcterms:modified>
  <cp:revision>38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