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3816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720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268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816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122F1EC-90D8-401C-AD13-327090EF8C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6EBD5C8-7F42-493D-9BA0-F01F0A5893C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D33B868-A1AC-4F17-A507-1AF2E4D23E3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B140921-B6A2-4B4E-9FCE-3BBB474E007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A7AEF19-718F-473E-A8C2-1F1A556CB44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76306EF-E426-413E-B297-9CBAE0DDE01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C1D0AF3-372A-444B-AFC9-9D4E6749B2E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F3677F7-572E-4040-A829-250643A7742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DF08CFF-93AE-471D-B42D-A3241676478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D8A2DCA-F889-4B1B-ACF3-102EBA0F568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214AFF2-BEFF-485A-88E0-8274D324F14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C4A2414-3FDD-44CE-8E16-47C9A507B70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A94AFA9-659B-4E39-96C1-66DA679AB6A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62909EF-62E1-42D1-B3F1-974C0EED220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D2B4311-3A63-4226-83EE-D8D91FF4021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BF1465A-EACE-402F-A73C-7617B0583A8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4358524-809D-4A03-B34C-2AD43F7CE16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E89C364-7D03-4FD1-A734-F5635B40650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96C7267-7924-4215-A669-FA505467E24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D1D2D26-0D58-44FF-A144-D4227093503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A618795-A14A-4A69-BDA2-1AD83E23437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99AF7F1-4B3F-4EFF-82D6-90E8AAFE15A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6C96560-B5C1-4B23-9F93-9604B610BAD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396-31F2-4EBF-82E1-ABFC71A1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F1E-C0DB-4AC8-A1DD-16564A95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70D-676F-42B2-A680-DB43CC11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9A0-381D-4814-91D7-CA74C83D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2E42-59CF-4E63-8C87-FA2B7FC0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EC6E-B564-4B6B-9950-069F8188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FA83-328B-4E3D-803B-0938F3F5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39D2-E6F0-46DF-9064-2D8ECFE4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AF6C-4898-4496-ABC4-E2768FF7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7314-1506-4681-9144-CE16CEB4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0627-F670-41CA-8B86-AD00FDAC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EE2-5FBC-4B5B-A3DE-AAEF06CC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EA32-6D4C-4075-82F1-5F38561F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5916-495D-4F62-ADD1-DCD22290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0A3B-242F-4508-94E5-11BD4283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1A52-F7D9-4010-A440-9BC57D87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E186-251C-4EDE-A521-9DE4D535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A8A-78C3-42EF-A26D-98712AB8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C50-4D70-47EF-A0C1-9D7AFC18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BE4-7D42-4D82-B4E9-51301AC7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3B5-2614-4AD7-BB7C-BB4A52A0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B1F-C1FD-4D6D-952A-926F5001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0C5A-30B9-4ABF-B786-C11F6CF5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B34-28B2-4922-9200-20FE163A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12920"/>
            <a:ext cx="9131400" cy="9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92200"/>
            <a:ext cx="913140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F165-475F-4DB4-ADF0-50D1C0AF9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6" descr="logouni"/>
          <p:cNvPicPr/>
          <p:nvPr/>
        </p:nvPicPr>
        <p:blipFill>
          <a:blip r:embed="rId2"/>
          <a:stretch/>
        </p:blipFill>
        <p:spPr>
          <a:xfrm>
            <a:off x="114480" y="336600"/>
            <a:ext cx="954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327480"/>
            <a:ext cx="91314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606840"/>
            <a:ext cx="9131400" cy="50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46" name="Picture 16" descr="logouni"/>
          <p:cNvPicPr/>
          <p:nvPr/>
        </p:nvPicPr>
        <p:blipFill>
          <a:blip r:embed="rId2"/>
          <a:stretch/>
        </p:blipFill>
        <p:spPr>
          <a:xfrm>
            <a:off x="0" y="1670040"/>
            <a:ext cx="157644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DCB6-C3F4-4B1B-9271-4E0CEE68D3F3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9760-F51C-4C17-B4D4-7DFDFA9A429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Text Box 1027"/>
          <p:cNvSpPr/>
          <p:nvPr/>
        </p:nvSpPr>
        <p:spPr>
          <a:xfrm>
            <a:off x="2682360" y="3692880"/>
            <a:ext cx="41965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Times New Roman"/>
              </a:rPr>
              <a:t>Matteo Cristani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partimento di Informatic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Facoltà di Scienze MM. FF. NN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iversità degli Studi di Verona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http://www.sci.univr.it/~cristani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2680" y="1447920"/>
            <a:ext cx="7709040" cy="16761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rso di Informatica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CB3A-E104-4229-AE47-7E9AF904987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outing, pacchetti e hos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outing: Processo di inoltro di un pacchetto attraverso reti interconnesse, da un host di origine a un host di destinazione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Host: Computer che esegue un programma o servizio server utilizzato da client di rete o remoti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acchetto: Unità di trasmissione del livello di rete OSI (Open Systems Interconnection) costituito da informazioni binarie che rappresentano sia i dati che un'intestazione contenente un numero di identificazione, indirizzi di origine e destinazione e dati di controllo degli errori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E7AC-B18B-4BA3-8DF5-EE6EA547C68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rchitettura di TCP/I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protocollo TCP/IP (Transmission Control Protocol/Internet Protocol) è il protocollo di rete più diffuso ed è alla base di tutte le comunicazioni Internet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funzioni di instradamento di TCP/IP garantiscono la massima flessibilità in una rete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 una rete TCP/IP è necessario fornire gli indirizzi IP ai client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58A8-28C7-4960-A43A-18AA895CEB6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ndirizzi I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dirizzo a 32 bit utilizzato per identificare un nodo in un sistema di reti interconnesse IP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 ogni nodo nella reti interconnesse IP deve essere assegnato un indirizzo IP univoco, composto dall'ID di rete e dall'ID univoco dell'host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Questo tipo di indirizzo è in genere rappresentato dal valore decimale di ogni ottetto separato da un punto, ad esempio 157.27.192.1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È possibile configurare l'indirizzo IP in modo statico o dinamico tramite DHCP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A366-9F19-4D4A-8A1D-927F88A66B5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DHC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rotocollo di servizio TCP/IP che consente la configurazione dinamica degli indirizzi IP host e la distribuzione di altri parametri di configurazione ai client appropriati sulla rete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protocollo DHCP utilizza un modello client/server nel quale il server DHCP gestisce in modo centralizzato gli indirizzi IP utilizzati nella rete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client che supportano il protocollo DHCP possono quindi richiedere e ottenere il lease per un indirizzo IP dal server DHCP durante il processo di avvio in rete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B1C0-187B-4A63-969A-2CC8F33EC79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opologie di ret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opologie per architetture distribui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d anell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 line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opologie per architetture centralizzate (client-server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 stell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ED6D-CB8F-4858-828D-3F3522BBD3F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 di architettura C/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39" name="Picture 4" descr="BD06908_"/>
          <p:cNvPicPr/>
          <p:nvPr/>
        </p:nvPicPr>
        <p:blipFill>
          <a:blip r:embed="rId1"/>
          <a:stretch/>
        </p:blipFill>
        <p:spPr>
          <a:xfrm>
            <a:off x="1447920" y="5867280"/>
            <a:ext cx="506160" cy="56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BD06908_"/>
          <p:cNvPicPr/>
          <p:nvPr/>
        </p:nvPicPr>
        <p:blipFill>
          <a:blip r:embed="rId2"/>
          <a:stretch/>
        </p:blipFill>
        <p:spPr>
          <a:xfrm>
            <a:off x="7924680" y="4648320"/>
            <a:ext cx="507960" cy="566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BD06908_"/>
          <p:cNvPicPr/>
          <p:nvPr/>
        </p:nvPicPr>
        <p:blipFill>
          <a:blip r:embed="rId3"/>
          <a:stretch/>
        </p:blipFill>
        <p:spPr>
          <a:xfrm>
            <a:off x="533520" y="2819520"/>
            <a:ext cx="507960" cy="565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BD06908_"/>
          <p:cNvPicPr/>
          <p:nvPr/>
        </p:nvPicPr>
        <p:blipFill>
          <a:blip r:embed="rId4"/>
          <a:stretch/>
        </p:blipFill>
        <p:spPr>
          <a:xfrm>
            <a:off x="7620120" y="2481120"/>
            <a:ext cx="507960" cy="56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BD06908_"/>
          <p:cNvPicPr/>
          <p:nvPr/>
        </p:nvPicPr>
        <p:blipFill>
          <a:blip r:embed="rId5"/>
          <a:stretch/>
        </p:blipFill>
        <p:spPr>
          <a:xfrm>
            <a:off x="5867280" y="1600200"/>
            <a:ext cx="507960" cy="566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BD06740_"/>
          <p:cNvPicPr/>
          <p:nvPr/>
        </p:nvPicPr>
        <p:blipFill>
          <a:blip r:embed="rId6"/>
          <a:stretch/>
        </p:blipFill>
        <p:spPr>
          <a:xfrm>
            <a:off x="4648320" y="4157640"/>
            <a:ext cx="841320" cy="42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HH02126_"/>
          <p:cNvPicPr/>
          <p:nvPr/>
        </p:nvPicPr>
        <p:blipFill>
          <a:blip r:embed="rId7"/>
          <a:stretch/>
        </p:blipFill>
        <p:spPr>
          <a:xfrm>
            <a:off x="2362320" y="3624120"/>
            <a:ext cx="1207800" cy="1233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7"/>
          <p:cNvSpPr/>
          <p:nvPr/>
        </p:nvSpPr>
        <p:spPr>
          <a:xfrm>
            <a:off x="5029200" y="23623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1905120" y="217656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2666880" y="55627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7315200" y="347184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7010280" y="4495680"/>
            <a:ext cx="15264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cxnSp>
        <p:nvCxnSpPr>
          <p:cNvPr id="151" name="AutoShape 23"/>
          <p:cNvCxnSpPr>
            <a:stCxn id="147" idx="3"/>
            <a:endCxn id="146" idx="1"/>
          </p:cNvCxnSpPr>
          <p:nvPr/>
        </p:nvCxnSpPr>
        <p:spPr>
          <a:xfrm>
            <a:off x="2057040" y="2252520"/>
            <a:ext cx="2972520" cy="186480"/>
          </a:xfrm>
          <a:prstGeom prst="curvedConnector5">
            <a:avLst>
              <a:gd name="adj1" fmla="val 50000"/>
              <a:gd name="adj2" fmla="val 49903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2" name="AutoShape 24"/>
          <p:cNvCxnSpPr>
            <a:stCxn id="147" idx="2"/>
            <a:endCxn id="148" idx="1"/>
          </p:cNvCxnSpPr>
          <p:nvPr/>
        </p:nvCxnSpPr>
        <p:spPr>
          <a:xfrm flipH="1" rot="16200000">
            <a:off x="668160" y="3640680"/>
            <a:ext cx="331056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3" name="AutoShape 25"/>
          <p:cNvCxnSpPr>
            <a:stCxn id="148" idx="3"/>
            <a:endCxn id="150" idx="2"/>
          </p:cNvCxnSpPr>
          <p:nvPr/>
        </p:nvCxnSpPr>
        <p:spPr>
          <a:xfrm flipV="1">
            <a:off x="2819160" y="4647600"/>
            <a:ext cx="4267800" cy="99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" name="AutoShape 26"/>
          <p:cNvCxnSpPr>
            <a:stCxn id="150" idx="1"/>
            <a:endCxn id="149" idx="2"/>
          </p:cNvCxnSpPr>
          <p:nvPr/>
        </p:nvCxnSpPr>
        <p:spPr>
          <a:xfrm flipH="1" rot="10800000">
            <a:off x="7009200" y="3623400"/>
            <a:ext cx="381960" cy="948600"/>
          </a:xfrm>
          <a:prstGeom prst="curvedConnector5">
            <a:avLst>
              <a:gd name="adj1" fmla="val -60000"/>
              <a:gd name="adj2" fmla="val 26955"/>
              <a:gd name="adj3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5" name="AutoShape 27"/>
          <p:cNvCxnSpPr>
            <a:stCxn id="149" idx="0"/>
            <a:endCxn id="146" idx="3"/>
          </p:cNvCxnSpPr>
          <p:nvPr/>
        </p:nvCxnSpPr>
        <p:spPr>
          <a:xfrm flipV="1" rot="16200000">
            <a:off x="5769360" y="1849320"/>
            <a:ext cx="1033920" cy="22107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" name="AutoShape 32"/>
          <p:cNvCxnSpPr>
            <a:endCxn id="147" idx="1"/>
          </p:cNvCxnSpPr>
          <p:nvPr/>
        </p:nvCxnSpPr>
        <p:spPr>
          <a:xfrm flipV="1">
            <a:off x="1041120" y="2252160"/>
            <a:ext cx="864360" cy="850320"/>
          </a:xfrm>
          <a:prstGeom prst="bentConnector3">
            <a:avLst>
              <a:gd name="adj1" fmla="val 50000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7" name="AutoShape 33"/>
          <p:cNvCxnSpPr>
            <a:endCxn id="148" idx="2"/>
          </p:cNvCxnSpPr>
          <p:nvPr/>
        </p:nvCxnSpPr>
        <p:spPr>
          <a:xfrm flipV="1">
            <a:off x="1954080" y="5714280"/>
            <a:ext cx="789840" cy="43740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AutoShape 34"/>
          <p:cNvCxnSpPr>
            <a:endCxn id="146" idx="0"/>
          </p:cNvCxnSpPr>
          <p:nvPr/>
        </p:nvCxnSpPr>
        <p:spPr>
          <a:xfrm flipV="1" rot="10800000">
            <a:off x="5104800" y="1883880"/>
            <a:ext cx="762480" cy="47880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9" name="AutoShape 35"/>
          <p:cNvCxnSpPr>
            <a:endCxn id="149" idx="3"/>
          </p:cNvCxnSpPr>
          <p:nvPr/>
        </p:nvCxnSpPr>
        <p:spPr>
          <a:xfrm rot="5400000">
            <a:off x="7419960" y="3094560"/>
            <a:ext cx="500760" cy="40716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0" name="AutoShape 36"/>
          <p:cNvCxnSpPr>
            <a:endCxn id="150" idx="3"/>
          </p:cNvCxnSpPr>
          <p:nvPr/>
        </p:nvCxnSpPr>
        <p:spPr>
          <a:xfrm rot="10800000">
            <a:off x="7162200" y="4571280"/>
            <a:ext cx="762480" cy="361080"/>
          </a:xfrm>
          <a:prstGeom prst="bentConnector3">
            <a:avLst>
              <a:gd name="adj1" fmla="val 49976"/>
            </a:avLst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1" name="AutoShape 37"/>
          <p:cNvCxnSpPr>
            <a:stCxn id="147" idx="3"/>
          </p:cNvCxnSpPr>
          <p:nvPr/>
        </p:nvCxnSpPr>
        <p:spPr>
          <a:xfrm>
            <a:off x="2057040" y="2252520"/>
            <a:ext cx="3012120" cy="1905840"/>
          </a:xfrm>
          <a:prstGeom prst="curved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62" name="AutoShape 38"/>
          <p:cNvCxnSpPr>
            <a:endCxn id="148" idx="0"/>
          </p:cNvCxnSpPr>
          <p:nvPr/>
        </p:nvCxnSpPr>
        <p:spPr>
          <a:xfrm rot="5400000">
            <a:off x="3413160" y="3907800"/>
            <a:ext cx="984960" cy="2326320"/>
          </a:xfrm>
          <a:prstGeom prst="curvedConnector5">
            <a:avLst>
              <a:gd name="adj1" fmla="val 49981"/>
              <a:gd name="adj2" fmla="val 49992"/>
              <a:gd name="adj3" fmla="val 49981"/>
            </a:avLst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63" name="AutoShape 39"/>
          <p:cNvCxnSpPr>
            <a:stCxn id="146" idx="2"/>
          </p:cNvCxnSpPr>
          <p:nvPr/>
        </p:nvCxnSpPr>
        <p:spPr>
          <a:xfrm rot="5400000">
            <a:off x="4264920" y="3317760"/>
            <a:ext cx="1643760" cy="37440"/>
          </a:xfrm>
          <a:prstGeom prst="curvedConnector5">
            <a:avLst>
              <a:gd name="adj1" fmla="val 49945"/>
              <a:gd name="adj2" fmla="val 49514"/>
              <a:gd name="adj3" fmla="val 49945"/>
            </a:avLst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64" name="AutoShape 41"/>
          <p:cNvCxnSpPr>
            <a:endCxn id="149" idx="1"/>
          </p:cNvCxnSpPr>
          <p:nvPr/>
        </p:nvCxnSpPr>
        <p:spPr>
          <a:xfrm flipH="1" flipV="1" rot="5400000">
            <a:off x="5887080" y="2729160"/>
            <a:ext cx="610200" cy="2247120"/>
          </a:xfrm>
          <a:prstGeom prst="curvedConnector2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65" name="AutoShape 42"/>
          <p:cNvCxnSpPr>
            <a:stCxn id="150" idx="2"/>
          </p:cNvCxnSpPr>
          <p:nvPr/>
        </p:nvCxnSpPr>
        <p:spPr>
          <a:xfrm flipV="1" rot="16200000">
            <a:off x="6042240" y="3604320"/>
            <a:ext cx="70200" cy="2018160"/>
          </a:xfrm>
          <a:prstGeom prst="curvedConnector5">
            <a:avLst>
              <a:gd name="adj1" fmla="val -328865"/>
              <a:gd name="adj2" fmla="val 49991"/>
              <a:gd name="adj3" fmla="val -328865"/>
            </a:avLst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66" name="AutoShape 43"/>
          <p:cNvSpPr/>
          <p:nvPr/>
        </p:nvSpPr>
        <p:spPr>
          <a:xfrm>
            <a:off x="3886200" y="400536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0EFE-9543-4885-96D4-0A50D5433C0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mponenti di una ret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lient: una macchina che accede ai servizi di rete ma non ne erog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rver: una macchina che eroga servizi di ret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HUB: Punto di connessione comune per le periferiche in una rete. Viene generalmente utilizzato per connettere i segmenti di una rete locale (LAN, Local Area Network) ed è dotato di molteplici porte di connessione. Quando i dati arrivano su una porta, vengono copiati sulle altre porte in modo che tutti i segmenti della LAN siano in grado di vedere tutti i dati.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ccess point: luogo dove la rete viene connessa da un cli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D4C5-A6E2-468C-BC2B-EA8583988FC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nternet: struttur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rver: eroga servizi di rete geografica supportati da TCP/IP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rasferimento file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nvio posta elettronic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etodo di trasferimen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tocollo specific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TP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trasferimento diret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HTTP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trasferimento e interpretazione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come ipertes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285768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SMTP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trasferimento e interpretazione come</a:t>
            </a:r>
            <a:br>
              <a:rPr sz="2000"/>
            </a:b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messaggio di posta elettronic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8FF8-1169-48BE-AF5B-1303DEBF625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T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File Transfer Protocol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lemento del gruppo di protocolli TCP/IP utilizzato per copiare file tra due computer su Internet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ntrambi i computer devono supportare i rispettivi ruoli FTP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lient FTP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rver FTP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1E8E-AC19-4FC5-ABA9-EAA9888916E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HTT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Hypertext Transfer Protoco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otocollo utilizzato per il trasferimento di informazioni sul Web. Gli indirizzi HTTP, che rappresentano un tipo specifico di URL (Uniform Resource Locator), vengono indicati nel formato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http://www.sci.univr.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AD23-958C-4213-BAFB-2B453F47339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i informatich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N, WA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te telefonica e computer (PSDN, ISDN, ADSL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chitettura TCP/IP, Internet e posta elettron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1754-F789-4DA2-80DE-8C9A40435EA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UR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Uniform Resource Locator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dirizzo che identifica in modo univoco una posizione in Internet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'URL di un sito Web è preceduto da http://, come nell'indirizzo URL http://www.sci.univr.i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indirizzo URL può includere informazioni più dettagliate, ad esempio il nome di una pagina con contenuti ipertestuali, in genere identificata dall'estensione del nome di file html o htm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65A5-E155-4686-AB18-6D3B8BC78E4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MT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Elemento del gruppo di protocolli TCP/IP che effettua lo scambio di messaggi tra agenti di trasferimen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messaggio è trasferito in un pacchetto di tre parti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nformazioni sul mittente ed il destinatario, in particolare indirizzi di posta, data e orario della spedizione, indirizzo del destinatario (HEADER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l corpo del messaggio (BODY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a traccia del percorso che occorre per consegnare il messaggi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075F-5EA1-4360-8AFC-FF6AF2CDB5E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cccc"/>
                </a:solidFill>
                <a:latin typeface="Times New Roman"/>
              </a:rPr>
              <a:t>Caratteristiche di una rete con  server Web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rvizi di rete loc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HCP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NS (Domain Name Solver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rasforma un indirizzo simbolico in un indirizzo fisic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rver di appoggio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rver HTTP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rver FTP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rver SMTP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712C-602C-4FAD-B8C7-1BB2BE2C181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eti di calcolato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insieme di calcolatori si definiscono in rete se e solo se possono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cambiare informazion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tra loro mediante u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istema di comunica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e reti si distinguono in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tabili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ed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estemporane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6BD7-00E0-429F-8C6B-1AD3B5BCD2C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truttura di una ret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 definire una rete so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canale di comunicazion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metodo di accesso al canale da parte dei calcolator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 tecniche di scambio dei dati (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rotocolli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2DC4-7415-4443-B56E-E33107C1FD8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eti local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rete locale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Local Area Network – LAN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 è definita sulla base dell’esistenza di una connessione stabile o estemporanea di dimensioni modes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dimensione tipica è un edific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entro un singolo edificio si trovano anche molte re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B9B0-EBDB-440E-A250-F84692ED953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eti geografi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rete geografica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World Area Network - WAN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 è distribuita sul territor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differenza essenziale tra una LAN ed una WAN è nel metodo di accesso alla re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il metodo di accesso è diretto, ovvero se non si deve procedere alla connessione alla rete in forma indiretta, mediante servizio, la rete è loc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7EEB-EA59-41B5-9EB7-23A67BC3299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ccesso telefonico ad una W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todo di accesso mediante rete telefonica ordinaria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PSDN – Peer Service Digital Network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todo di accesso mediante rete integrata (ISDN –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Integrated Service Digital Network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todo di accesso mediante rete ad alta velocità (ADSL –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synchronous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Digital Subscriber Lin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0D53-8A0C-4444-A4AF-A22BD91850E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cc"/>
                </a:solidFill>
                <a:latin typeface="Times New Roman"/>
              </a:rPr>
              <a:t>ADSL: Caratteristiche tecnologiche</a:t>
            </a:r>
            <a:endParaRPr b="0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po di connessione Internet ad alta velocità che utilizza cavi telefonici standard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Questo tipo di connessione viene anche denominata connessione a banda larga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8F68-1194-487C-A52A-C9A33C83273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CP/IP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Transmission Control Protocol/Internet Protocol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sieme di protocolli di rete ampiamente utilizzato su Internet, che consente le comunicazioni tra reti interconnesse costituite da computer con architetture hardware e sistemi operativi di tipo diverso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CP/IP include gli standard di comunicazione tra computer e le convenzioni per la connessione di reti e traffico di routing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0:37:25Z</dcterms:created>
  <dc:creator> </dc:creator>
  <dc:description/>
  <dc:language>en-US</dc:language>
  <cp:lastModifiedBy>Matteo</cp:lastModifiedBy>
  <cp:lastPrinted>2000-02-27T18:44:12Z</cp:lastPrinted>
  <dcterms:modified xsi:type="dcterms:W3CDTF">2008-12-08T23:36:33Z</dcterms:modified>
  <cp:revision>24</cp:revision>
  <dc:subject/>
  <dc:title>Corso di Informatica  per Giurisprudenza Lezion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rofs.sci.univr.it/fummi</vt:lpwstr>
  </property>
  <property fmtid="{D5CDD505-2E9C-101B-9397-08002B2CF9AE}" pid="9" name="LinkColor">
    <vt:r8>16711782</vt:r8>
  </property>
  <property fmtid="{D5CDD505-2E9C-101B-9397-08002B2CF9AE}" pid="10" name="MailAddress">
    <vt:lpwstr>fummi@sci.univr.i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\Franco\SLIDES\VERONA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