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973888" cy="10112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73200" cy="101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3816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6720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8440" y="74268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3816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933F1A2-4200-452D-85A3-3C74098432F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B73B89A-0FA1-4AB2-8690-42F123DC623C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E99A237-EF61-4FCD-9CF4-141745DE971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EC80277-BDEB-49BA-B255-3549CB7FDACC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5A2286F-0F30-49FD-A745-6F6EAD4F28B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84727C1-4FED-436B-AC1F-49C8535A884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C6E2D09-CBD3-4839-8333-7034FEE49A9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60D76D2-FCCE-47A5-B76E-C2A047182A4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A550385-E75E-4E87-9B54-277D336BFF2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7BC9A58-F58A-410E-83B7-0E8C3A2F18E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DE786B2-5878-4F7D-A700-EABE6942B80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602AC1A-8CA0-4668-8236-82E87BECB4D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F56CA74-0EF9-4E5F-87A1-CD5307B8034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E7DE54F-F9EF-4560-98E2-8E3EDBB2946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8A92C7F-57B8-41D6-9432-4C2D7C8E351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929A121-3B41-4F0E-9059-2AFC58B5932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D2DE1C5-2344-4DE0-9C8D-0AE817A45D4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FFDF958-A701-41BC-976F-F55AB084569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4AC5317-3CE8-4788-ACEA-0B4BAA04F2E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A1E67A7-0D7F-43A5-BB71-4EFEEDD213F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7495085-C7E9-47EC-A708-87C15D77C0E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8A54CD3-14EF-4A15-9753-9E586CC9F33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B1BCBEF-F913-4AE0-9679-4285382CDBD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A5FD0C2-F5B4-42D7-9996-DA090602B1D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268377A-C8F1-443E-B7FF-FEFDF622E8C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4C8F376-C6C1-4624-8C02-078D7BE683E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3281BA1-B704-4B1F-A11A-677C31F0893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A4E5FD9-E022-45DB-B742-10DE59D175A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EF7570E-EABB-4BC3-84C6-4316251BF4D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6DCA3BB-604F-49F9-8C12-4A8ABAB894B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7DA5150-4AF7-4720-A099-67B3E21EFAA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FAEEEFC-4642-4F18-9FD1-1B81BC6B039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9D8FD85-0BEE-40BC-A7D2-D698DB93406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B43-3BE0-4727-B4F3-D6622918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5A05-2879-456C-AA68-2DDA7800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FF7D-AF45-41F7-8C0C-A03FF3F3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06B-5F19-4347-B053-E8460450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C4F8-0130-411C-A568-45BFEBC6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5C26-51F1-4718-B35F-C3C2608D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F780-8EE2-4307-BA9F-66F02EF1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FB48-3D89-47D0-9889-40D37FC6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EAE1-22B0-4695-8ED3-091477BC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148B-19A2-4437-B7FD-1FE7F4C3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E799-E4C8-4F2C-92F6-09FEAB26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A1C3-1B87-4726-A9FA-0B59385E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8BAD-D1DD-4051-A356-B075DFB8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B63E-233A-4AB2-85F5-E23F897E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A237-DBD5-4480-9EC6-09A9CC68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581A-3EFB-444B-921B-D6F187F1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E80D-4B80-409E-8869-3C47E827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79A9-610E-4FA6-B19D-0ABCC317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FAE1-C42E-44E9-B372-F20E2A41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F1A6-ADF6-41A6-AC4C-3ABE890F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5A8-D2AF-4EA6-8C3D-68697334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7A51-9AB7-4E8C-AD5B-5A625F3A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A26-90FC-4AB7-A53E-54C71E53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46D0-2F2A-4EA5-A39D-2E9E9BC6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12920"/>
            <a:ext cx="9131400" cy="968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92200"/>
            <a:ext cx="9131400" cy="316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4AE0-6CB6-4135-91BB-B333F39EC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6" descr="logouni"/>
          <p:cNvPicPr/>
          <p:nvPr/>
        </p:nvPicPr>
        <p:blipFill>
          <a:blip r:embed="rId2"/>
          <a:stretch/>
        </p:blipFill>
        <p:spPr>
          <a:xfrm>
            <a:off x="114480" y="336600"/>
            <a:ext cx="954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3327480"/>
            <a:ext cx="91314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3606840"/>
            <a:ext cx="9131400" cy="50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46" name="Picture 16" descr="logouni"/>
          <p:cNvPicPr/>
          <p:nvPr/>
        </p:nvPicPr>
        <p:blipFill>
          <a:blip r:embed="rId2"/>
          <a:stretch/>
        </p:blipFill>
        <p:spPr>
          <a:xfrm>
            <a:off x="0" y="1670040"/>
            <a:ext cx="1576440" cy="159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DC76-5D2B-43DA-8843-E9F2465ECAAE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4"/>
          <p:cNvSpPr/>
          <p:nvPr/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54B9-41AA-498A-9815-17992C57B92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6" name="Text Box 1027"/>
          <p:cNvSpPr/>
          <p:nvPr/>
        </p:nvSpPr>
        <p:spPr>
          <a:xfrm>
            <a:off x="2682360" y="3692880"/>
            <a:ext cx="419652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ff"/>
                </a:solidFill>
                <a:latin typeface="Times New Roman"/>
              </a:rPr>
              <a:t>Matteo Cristani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ipartimento di Informatica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Facoltà di Scienze MM. FF. NN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iversità degli Studi di Verona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http://www.sci.univr.it/~cristani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2680" y="1447920"/>
            <a:ext cx="7709040" cy="16761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rso di Informatica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9E46-8854-4ED9-A68F-1B19E715924C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Nozione di bi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misura minima è determinata da un sistema con due simboli, per cui l’informazione misura 1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’unità di misura è un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bi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5B1B-FF96-43D9-9D52-A9EA703F3A8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istemi simbolici e loro mis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’informazione trasportata da un sistema con 4 simboli è 2 bit, con 8 simboli 3 bit, con sedici simboli 4 bi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n generale, per sistemi simbolici con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it-IT" sz="32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simboli alfabetici la misura dell’informazione trasportata è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n bi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C640-39A8-456D-B266-9F3F5102732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Bit simbolic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 un alfabeto con due simboli ogni messaggio porta 1 bi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hiamiamo bit anche la codifica simbolica basata su due simbol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n altre parola chiamiamo bit una singola cifra binaria (origine effettiva del nome, acronimo di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binary digit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2E74-2A46-4E12-BA46-4D25FB922CD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cccc"/>
                </a:solidFill>
                <a:latin typeface="Times New Roman"/>
              </a:rPr>
              <a:t>Rappresentazione dell’informazione</a:t>
            </a:r>
            <a:endParaRPr b="0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 qualsiasi numero intero k sia n il più piccolo intero tale che 2</a:t>
            </a:r>
            <a:r>
              <a:rPr b="0" lang="it-IT" sz="3200" spc="-1" strike="noStrike" baseline="30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≥ k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Il numero di bit necessari per rappresentare un alfabeto di ordine k è 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Esemp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Per codificare 26 simboli occorrono 5 bit essendo 32=2</a:t>
            </a:r>
            <a:r>
              <a:rPr b="0" lang="it-IT" sz="2800" spc="-1" strike="noStrike" baseline="30000">
                <a:solidFill>
                  <a:srgbClr val="0000ff"/>
                </a:solidFill>
                <a:latin typeface="Times New Roman"/>
                <a:ea typeface="Arial Unicode MS"/>
              </a:rPr>
              <a:t>5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 la più piccola potenza del due maggiore o uguale a 26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D4BC-FDE7-4FCB-B240-5DEC054C534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isure di memori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dato memorizzato utilizza bit simbolic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gni sistema di memoria raggruppa i dati in token di 8 bit chiamat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by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insieme di 4, 6 o in alcuni sistemi evoluti 8 byte forma un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parola macchin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multipli dell’unità byte sono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Kilobyte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Kb) = 1024 byt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Megabyte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Mb) = 1024 Kb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Gigabyte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Gb) = 1024 Mb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8805-2E99-4D9A-ACEE-D55D24DA505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isure di cana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canale di comunicazione si misura in informazione trasportata al second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baud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(bs) è l’unità di misura della velocità di trasmissione dell’informazione di un cana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Multipli usati per la velocità del modem di cas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Kbs (standard 56 kbs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Multipli usati per la velocità di modem ad alta velocità o per le reti local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Mbs (standard 10 o 100 Mbs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09EF-D961-4297-9938-57355EEF72E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difiche simboliche standar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più diffuso codice simbolico è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ASCI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cronimo per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American Standard Code for Information Interchang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ntegrato con le due nuove codifich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ANSI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UNICOD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American National Standard Institu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United Nations International COD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89D8-9EDC-47A0-8712-A206C9F3F54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dice ASCI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codice ASCII utilizza 1 byte per ogni simbol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codice rappresenta sovrabbondantemente (2 volte)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 simboli alfabetici e numerici,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 simboli standard della codifica di macchina da scrivere come . , : 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 insieme di simboli speciali codificati come caratteri di controllo (del flusso di testo) per azioni di movimento come andare a capo, spaziare, scendere di una linea o di una pagin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95DC-7C9F-48B8-92DD-F6A471E8CBD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abella ASCII estesa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427880" cy="2800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0CA0-FC1B-4756-9607-6A27D4B1178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abella ASCII estesa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742788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8BAB-328D-4668-AF98-3D099113BAF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 codifica dell'informazion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mboli e messaggi;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sura dell'informazione;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zione di bi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dici digitali</a:t>
            </a:r>
            <a:r>
              <a:rPr b="0" lang="en-GB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dice ASCII/ANSI/UNICOD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pi di file e metodi di codific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le testo e binar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difica digitale dei da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itmetica in base 2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FDF7-03A3-4DFA-B469-6CD81017EC3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abella ASCII estesa (3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413480" cy="1428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CF50-6EFA-4B6B-82FF-C4FFC4CD498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file e metodi di codific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truttura dei fi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 file è una sequenza di da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Esistono due livelli di interpretazio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Livello della lettura (e trasmissione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Livello della strutturazione dei dat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 livello della lettura e trasmissio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Per byte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file di test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Per parola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file binar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 livello di strutturazione dei da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Per struttura dei record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file applicazion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Per relazione con il sistema 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operativo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file eseguibili e di support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6472-089D-45F6-A2F1-51157F7B48C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File di testo e binar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File di testo sono file che si leggono con applicazioni di text editing, cioè applicazioni che leggono byte per byte e trasformano ogni byte in un carattere secondo il codice ASCI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Quindi i file di testo si chiamano anche file ASCI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file binari possono essere letti solamente mediante applicazioni specifiche che conoscono la codifica per quel tipo di fi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 file WORD sono file leggibili solamente con WORD e applicazioni compatibil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 file EXCEL sono leggibili solamente con EXC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1A56-8710-49C4-9DB4-F3ED946AC4C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difiche ASCI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Esistono codifiche ASCII per tipi di file interpretabili come file non di tes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Esempio: PDF, PostScript, HTM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ali file sono file di testo, ma sono intelleggibili secondo il significato della codifica da interpreti che trasformano le codifiche ASCI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Vantagg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ndipendenza dalla piattafor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84CF-BD55-486C-ACF3-748252C3349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difica digitale dei dat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 numeri nel calcolatore ammettono interpretazione secondo il codice ASCII, come codifiche ASCII o come numeri in se stess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oiché un byte è formato da otto bit, le codifiche in base a potenza del due son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8 cifre binarie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base 2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4 cifre ottali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base 8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2 cifre esadecimali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base 16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EBBA-161B-4F99-A159-DEB01B4DDE7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ritmetica in base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difica semplice in base 2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omma binaria semplic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0 + 0 = 0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0 + 1 = 1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1 + 0 = 1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1 + 1 = 10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CA9F-C168-424C-A1DC-DEED534C280C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omma binaria in colonn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oiché la somma in colonna di due numeri comporta il riporto della massima cifra di riporto per la somma di due numeri di una cifra il massimo che possiamo trovare è 1 con il riporto di 1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e regole sono ovviamente le stesse della somma in colonna per numeri decimal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827D-B7D4-4C3D-A45F-6DB77C1EE7B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o di somma in colonn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905120"/>
                <a:tab algn="l" pos="2197080"/>
                <a:tab algn="r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905120"/>
                <a:tab algn="l" pos="2197080"/>
                <a:tab algn="r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 baseline="-25000">
                <a:solidFill>
                  <a:srgbClr val="0000ff"/>
                </a:solidFill>
                <a:latin typeface="Bookdings"/>
                <a:ea typeface="Bookdings"/>
              </a:rPr>
              <a:t>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it-IT" sz="3200" spc="-1" strike="noStrike" baseline="-25000">
                <a:solidFill>
                  <a:srgbClr val="0000ff"/>
                </a:solidFill>
                <a:latin typeface="Bookdings"/>
                <a:ea typeface="Bookdings"/>
              </a:rPr>
              <a:t>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905120"/>
                <a:tab algn="l" pos="2197080"/>
                <a:tab algn="r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110011 +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905120"/>
                <a:tab algn="l" pos="2197080"/>
                <a:tab algn="r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101010 =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905120"/>
                <a:tab algn="l" pos="2197080"/>
                <a:tab algn="r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--------------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905120"/>
                <a:tab algn="l" pos="2197080"/>
                <a:tab algn="r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1011101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905120"/>
                <a:tab algn="l" pos="2197080"/>
                <a:tab algn="r" pos="390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8E56-BB5D-4435-BAEC-61F773D4401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rodotto di numeri binar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on esistono tabelline in base 2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0 * 0 = 0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0 * 1 = 0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1 * 0 = 0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1 * 1 = 1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EE03-7624-4B87-BF3A-56F8A5D6B6DC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appresentazione posiziona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oiché la notazione di base è ovviamente posizionale una cifra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bas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di posizion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contando da destra vale come addendo per la cifra rappresentata moltiplicato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it-IT" sz="32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it-IT" sz="3200" spc="-1" strike="noStrike" baseline="30000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 baseline="30000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 baseline="30000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* b</a:t>
            </a:r>
            <a:r>
              <a:rPr b="0" lang="it-IT" sz="3200" spc="-1" strike="noStrike" baseline="30000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it-IT" sz="32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it-IT" sz="32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it-IT" sz="32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28BE-3C42-4D49-870E-B0B6361E2DB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municazio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ozione chiave: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canale di comunicazion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Sorgent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: un ente in grado di codificare messagg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Destinazion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: un ente in grado di decodificare messagg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765B-9CF8-4612-851A-D150E90070B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mbio di bas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nversione da 2 a 10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er un numero 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…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m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n base 2 si ha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…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= 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2</a:t>
            </a:r>
            <a:r>
              <a:rPr b="0" lang="it-IT" sz="2800" spc="-1" strike="noStrike" baseline="30000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2</a:t>
            </a:r>
            <a:r>
              <a:rPr b="0" lang="it-IT" sz="2800" spc="-1" strike="noStrike" baseline="30000">
                <a:solidFill>
                  <a:srgbClr val="0000ff"/>
                </a:solidFill>
                <a:latin typeface="Times New Roman"/>
              </a:rPr>
              <a:t>(m-1)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2</a:t>
            </a:r>
            <a:r>
              <a:rPr b="0" lang="it-IT" sz="28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EEB8-2DF1-4205-974B-C070A379D2B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versione da 10 a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ivisione successiva del numero in base 10 da convertire per du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resto di ogni divisione fornisce la cifra in ordine ultima, penultima, terzultima, eccete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F7D9-1C6F-4A64-A397-5D831E6B576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versione da 10 a 2 - esempi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r" pos="1905120"/>
                <a:tab algn="l" pos="2197080"/>
                <a:tab algn="l" pos="2565360"/>
                <a:tab algn="r" pos="4286160"/>
                <a:tab algn="l" pos="494676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  <a:tab algn="l" pos="8242200"/>
                <a:tab algn="l" pos="8616960"/>
                <a:tab algn="l" pos="8991720"/>
                <a:tab algn="l" pos="9366120"/>
                <a:tab algn="l" pos="9740880"/>
                <a:tab algn="l" pos="10115640"/>
                <a:tab algn="l" pos="10490040"/>
                <a:tab algn="l" pos="108648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Sia 2456 il numero da convertire</a:t>
            </a:r>
            <a:br>
              <a:rPr sz="20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456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1228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0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1228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614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0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614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307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0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307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153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1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153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76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1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76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38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0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38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19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0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19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1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1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0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0)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 =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r" pos="1905120"/>
                <a:tab algn="l" pos="2197080"/>
                <a:tab algn="l" pos="2565360"/>
                <a:tab algn="r" pos="4286160"/>
                <a:tab algn="l" pos="494676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  <a:tab algn="l" pos="8242200"/>
                <a:tab algn="l" pos="8616960"/>
                <a:tab algn="l" pos="8991720"/>
                <a:tab algn="l" pos="9366120"/>
                <a:tab algn="l" pos="9740880"/>
                <a:tab algn="l" pos="10115640"/>
                <a:tab algn="l" pos="10490040"/>
                <a:tab algn="l" pos="108648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Risultato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2456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 = 100110011000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0109-9286-4A50-B93D-4015DC01146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imboli e messagg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mbol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 codifica di un contenu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essagg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contenuto di una comunicazione simbolic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an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mezzo di trasmissione dell’informazion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161E-46E8-4ABD-ACEF-89C1E390E67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difica simbolic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ssociazione segno alfabetico-messagg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ncetto di codic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Tabella che associa un simbolo del codice sorgente ad un numer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Motivazione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sare codifiche elementar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 numeri sono universal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 numeri ammettono codifiche minim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EDC4-7162-45AC-8EFA-CA485E2DAAC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dice minim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ato un alfabeto la trasmissione di un simbolo comporta un attesa di messaggio da parte della destinazion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la destinazione ottiene il messaggio decodifica per un elemento tra quelli disponibili nel codice sorgen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5215-9221-4669-A886-F0036083675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Informazio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iù piccolo è il codice sorgente e meno informazione porta il singolo messaggi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’informazione significativa è minima quando disambigua tra due elementi (50% di possibilità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 disambiguazione di un singolo simbolo è 0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hiamiamo informazione portata da un messaggio il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numero di disambiguazioni binarie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necessarie per trasmettere il messaggio stess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44D3-AD5C-4434-9031-DF1DEECE947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isura di un cana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un canale porta informazione misurabile come disambiguazione tra n simboli chiamiamo informazione </a:t>
            </a: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I 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ortata dal canale il val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3149640" y="4527720"/>
                <a:ext cx="17398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6309-9D7B-4A97-B3D0-CEB092B63A9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isure bas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 ogni sistema simbolico, se un singolo simbolo costituisce il sistema ogni trasmissione è priva di informazion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nfatti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2971800" y="3809880"/>
                <a:ext cx="21463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0:37:25Z</dcterms:created>
  <dc:creator> </dc:creator>
  <dc:description/>
  <dc:language>en-US</dc:language>
  <cp:lastModifiedBy>Matteo</cp:lastModifiedBy>
  <cp:lastPrinted>2000-02-27T18:44:12Z</cp:lastPrinted>
  <dcterms:modified xsi:type="dcterms:W3CDTF">2008-12-08T23:38:01Z</dcterms:modified>
  <cp:revision>31</cp:revision>
  <dc:subject/>
  <dc:title>Corso di Informatica  per Giurisprudenza Lezion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rofs.sci.univr.it/fummi</vt:lpwstr>
  </property>
  <property fmtid="{D5CDD505-2E9C-101B-9397-08002B2CF9AE}" pid="9" name="LinkColor">
    <vt:r8>16711782</vt:r8>
  </property>
  <property fmtid="{D5CDD505-2E9C-101B-9397-08002B2CF9AE}" pid="10" name="MailAddress">
    <vt:lpwstr>fummi@sci.univr.i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\Franco\SLIDES\VERONA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