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973888" cy="10112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73200" cy="101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38160" y="29880"/>
            <a:ext cx="2967120" cy="4712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67200" y="29880"/>
            <a:ext cx="2967120" cy="4712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8440" y="742680"/>
            <a:ext cx="5111640" cy="38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3816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BF934C7-3589-496D-88A7-740983EE9BBF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F198FDF-5C88-4584-B595-8E0E865D0198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C80163C-F87E-45D2-857E-CE09245BB7AA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625FAFA-D629-4A5B-8B2B-8AC5D684635B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1E97AD1-C6EA-4603-A60D-15F8973F1B38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1567387-9101-4CA1-9BA2-C70FF81C5271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A333866-5CDD-45A6-BEDA-73EEFE9778D1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96DF501-97A2-4170-9E00-3B22E389C666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1FDB672-FB14-4FD3-8268-BF25072BD354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729E2E1-427E-45A6-BFE1-871C6763A6C9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2D64581-B23D-4008-AE65-17E967C47313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A9E222D-1023-4978-B800-3D04B07737A7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7DC7F8C-DCFA-478D-932C-0FB628D5A67F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DF948CA-6AA8-4213-9889-1E74F794081C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D182C52-B4F4-4AA4-B438-68771988B987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ECA4615-8E7F-4AE8-97A0-A7952013B6BB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778659F-395D-4980-A38B-2D3085BF1E32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215D3EE-CFB2-439E-B600-CE818E7F026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EC8BBD4-45A5-4F85-9D1C-E73C83227928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F68DE3B-2F78-423E-B60B-9932CB30EFFC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4DBEF01-EFF2-40C0-88AD-F845A142BCDE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F51659B-50ED-436F-B864-62FF346B51AB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4AA9914-E370-467A-9C2B-46BCF2682641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407C02A-B2EB-40EB-A68A-F60A38EAE99C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15B4FA7-DD92-49EF-B0F2-14DAA9F5B286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2B3B235-E0DD-4193-9478-376528BBB363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3F065E0-7017-4363-8F08-04EB4718378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943F8AF-5654-40BE-8D24-0F06B365C394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6D29889-5FC5-443E-AB32-961036A45E97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997D35F-FEB0-4644-AFC6-6AE4EB38882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E31B5E1-D2FE-4DC7-A57E-00AEAEDE2286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C3493E7-5D08-4C21-ABFE-C1B53336F7E1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B208CC5-FE1A-48E8-9E6C-531C4FCAC5C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B10E676-F17F-49A8-851D-E471D153D736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E4BB33F-DB44-405A-8FB6-D0966D588EB8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86D1108-1B82-4F0B-8135-FAE0E93DD8E8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2327E42-6FCE-4669-8082-6C9872147C16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BDC6CB5-FF1A-41FE-A25A-D8E5545C977B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FCC692B-FD67-4B9F-8956-97B1B76C6044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740E2C0-031E-4BFF-9383-95180AF36C2E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65E8CC2-861B-4D59-80D7-5AD14F30E8FA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320B781-5FF0-4064-AE94-8ED882190CC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E20C001-C85D-4FD3-843F-9CD10E6C02D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EBF823C-E4B6-4750-B20D-298FEE866F6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2C40861-0B92-4EB9-9DDE-97171D443976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80F9B23-10B2-432D-A308-76E24497132B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F2A0D9A-806C-4AA1-B1ED-110E82189D6C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07C0809-4F83-4529-AF9F-9964A1C484DF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56680FC-3B60-412B-BBC8-C2D561D8EEA4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5D5F1A9-E150-4DA9-AE3E-F0D5857F4200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59A1549-2A45-46BD-89B6-5F6E6038D1A0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211DEF5-EE03-481C-9E5F-D5CD5D18CA28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2043-B563-4D23-9214-63D8DE956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2977-797F-4E19-822F-88FABAAE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E555-7580-434A-83E7-BCC4E9655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1F2A-8C9F-4E58-AC03-055570AA3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84ED-10A6-4EA6-A9A5-E1D2FB22D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339F-3934-468A-9301-AD806843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3280-9672-4062-BDD0-C2DE91E1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6934-3EFE-4D89-9B46-C58B2C63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342E-6E05-4239-8FE5-36D2464F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94C4-4023-40CB-8F3E-FA4C0FC1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E9B0-EA0D-434B-A219-00FE9F69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1659-EACE-4F96-8180-D0DFB787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D265-D07E-42C2-A033-CE79A5B3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5F34-1FD1-490C-A5D0-5AA35F08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12EC-91CF-4BF4-ABC1-88B57C3D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E395-08A9-4F0B-B44E-DBEE82F43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4021-4E69-49EF-A5C3-189FB7306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787A-E342-4997-98B1-D8C6B7B5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23C4-D9DB-4845-B8EB-F1B6E408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9FF6-4728-4E9C-8BA4-3514A7CD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CC6C-3406-4E54-9346-3C543579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984A-EA36-481E-895B-9070AD71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1DC8-A2E5-4538-81C7-E0A33F2F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32AA-E383-4898-902B-32F8D56C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12920"/>
            <a:ext cx="9131400" cy="968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cccc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1492200"/>
            <a:ext cx="9131400" cy="316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9999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19C8-DF94-477B-9275-F12446DF5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6" descr="logouni"/>
          <p:cNvPicPr/>
          <p:nvPr/>
        </p:nvPicPr>
        <p:blipFill>
          <a:blip r:embed="rId2"/>
          <a:stretch/>
        </p:blipFill>
        <p:spPr>
          <a:xfrm>
            <a:off x="114480" y="336600"/>
            <a:ext cx="954000" cy="96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3327480"/>
            <a:ext cx="91314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cccc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3606840"/>
            <a:ext cx="9131400" cy="507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9999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pic>
        <p:nvPicPr>
          <p:cNvPr id="46" name="Picture 16" descr="logouni"/>
          <p:cNvPicPr/>
          <p:nvPr/>
        </p:nvPicPr>
        <p:blipFill>
          <a:blip r:embed="rId2"/>
          <a:stretch/>
        </p:blipFill>
        <p:spPr>
          <a:xfrm>
            <a:off x="0" y="1670040"/>
            <a:ext cx="1576440" cy="1590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D130-AD7F-45B8-8E54-C1AEC121B853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4"/>
          <p:cNvSpPr/>
          <p:nvPr/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28D5-8DA7-4949-AD73-ABA97C7B5C64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96" name="Text Box 1027"/>
          <p:cNvSpPr/>
          <p:nvPr/>
        </p:nvSpPr>
        <p:spPr>
          <a:xfrm>
            <a:off x="2682360" y="3692880"/>
            <a:ext cx="4196520" cy="28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ff"/>
                </a:solidFill>
                <a:latin typeface="Times New Roman"/>
              </a:rPr>
              <a:t>Matteo Cristani</a:t>
            </a:r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Dipartimento di Informatica</a:t>
            </a:r>
            <a:br>
              <a:rPr sz="2400"/>
            </a:b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Facoltà di Scienze MM. FF. NN.</a:t>
            </a:r>
            <a:endParaRPr b="0" lang="en-US" sz="2400" spc="-1" strike="noStrike">
              <a:solidFill>
                <a:srgbClr val="dddddd"/>
              </a:solidFill>
              <a:latin typeface="MS Mincho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Università degli Studi di Verona</a:t>
            </a:r>
            <a:endParaRPr b="0" lang="en-US" sz="2400" spc="-1" strike="noStrike">
              <a:solidFill>
                <a:srgbClr val="dddddd"/>
              </a:solidFill>
              <a:latin typeface="MS Mincho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ff"/>
                </a:solidFill>
                <a:latin typeface="Times New Roman"/>
              </a:rPr>
              <a:t>http://www.sci.univr.it/~cristani</a:t>
            </a:r>
            <a:endParaRPr b="0" lang="en-US" sz="18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82680" y="1447920"/>
            <a:ext cx="7709040" cy="167616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rso di Informatica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C08F-2594-4A52-95C2-BEB7808D0879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Problema genera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 tempi d’accesso 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Operazioni di CPU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Memoria central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Periferich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ono enormemente different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accesso a periferica si compie in tempi dell’ordine dei millisecond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accesso a memoria centrale in tempi dell’ordine dei microsecond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a operazione di CPU si compie in tempi dell’ordine dei picosecond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B1C5-8E04-472C-B865-E25360C35C6A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nseguenz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Nel tempo che un processo impiega a fare accesso a memoria centrale o addirittura ad una periferica la CPU è posseduta ma ferm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Meccanismo risolutor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i sottrae la CPU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i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INTRAPPOLA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il processo, cosicchè il monitor, quando riceve notizie dalla memoria o dalla periferica interessata che segnalano la terminazione dell’accesso toglie il processo dalla sua trappola e lo riammette in cod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D67B-CCD1-45D1-B164-77726D091A35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Resource manag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4930560" cy="43876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98BF-BD16-4F41-AF8F-AC8A68605223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rap e DMA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e la CPU viene sottratta ad un processo e questo processo deve accedere ad una risorsa, chi eseguirà i comandi di accesso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a tecnica implementata negli attuali H/W è la DMA (Direct Memory Access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Ogni banco di memoria centrale (RAM, ROM) ed ogni periferica posseggono un chip collaterale che esegue i comandi di accesso relativi alla memoria od alla specifica periferica: la DM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196A-4361-4822-8DEB-096EB2667B6A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rap e DMA (2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e intrappoliamo un processo e lo consegnamo alla DMA che eseguirà la sua richiesta di accesso alla risorsa controllata otteremo lo scopo prefissat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a CPU sarà liber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a coda non verrà interrott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FFB4-339D-45EB-94C0-00065BA3481F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Fatti storic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nche se la tecnica sulle DMA è posteriore alla concezione di algoritmi atti ad implementare una politica di scheduling ROUND-ROBIN esse sono molto motivanti per tale scelt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noltre, senza ROUND-ROBIN le DMA sono poco util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6854-BF44-42F3-8E52-3DFDCB4EE4E8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cccc"/>
                </a:solidFill>
                <a:latin typeface="Times New Roman"/>
              </a:rPr>
              <a:t>Funzioni generali di un sistema operativo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l sistema operativo deve svolgere le seguenti funzion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cc00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Processare le richieste di risorse non condivisibili stabilendo le modalità con cui i processi richiedenti accedono alle risorse stesse e l’ordine di accesso;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cc00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Processare le richieste di risorse condivisibili stabilendo l’ordine di access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D6F1-966C-483C-9A69-06C6108E2F8B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Accesso alla CPU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toricament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ccesso secondo richiesta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FIFO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ccesso secondo priority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PQ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ccesso secondo dimensioni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SJF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ccesso a rotazione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ROUND-ROBIN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772D-3DE8-44CE-919E-4CDD5AAD575C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Modello FIF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 processi che chiedono la CPU ne entrano in possesso quando tutti i processi che ne avevano fatto richiesta prima l’hanno impiegat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 processo in coda è sempre in attes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Non esistono processi sopi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B2D2-6F16-40A9-A4D8-546ED78E455B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Esempi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l tempo 0 chiede la CPU il processo p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, che la terrà occupata per 10 second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l tempo 3 chiede la CPU il processo p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che la terrà occupata per 12 second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l tempo 8 chiede la CPU il processo p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che la occuperà 3 second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l tempo 11 chiede la CPU il processo p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che la occupa 7 second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l tempo 17 chiede la CPU il processo p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che la occuperà per 4 second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08D6-576A-4BBC-ACEC-1AF3F3DF1ADF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ruttura di un sistema operativ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cessi, gestione memoria, file system;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ispositivi di input-output;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ackup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stemi operativi esisten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S, Windows, MAC OS, Linux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DDB2-0C36-49CE-A77A-48DCAA65B10F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Esempi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Pertanto: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Al tempo 0 il processo attivo è p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, nessun processo in cod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Al tempo 3 si accoda p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Al tempo 8  si accoda p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Al tempo 10 termina p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 e diviene attivo p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Al tempo 11 si accoda p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Al tempo 17 si accoda p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Al tempo 22 termina p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 e diviene attivo p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Al tempo 25 termina p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 e diviene attivo p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Al tempo 32 termina p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 e diviene attivo p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Al tempo 36 termina p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egnaposto numero diapositiva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B6AE-89BA-4F8F-9186-866736DFB0E7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chem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7" name="Line 3"/>
          <p:cNvSpPr/>
          <p:nvPr/>
        </p:nvSpPr>
        <p:spPr>
          <a:xfrm>
            <a:off x="1095480" y="5587920"/>
            <a:ext cx="711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129528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146376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60" name="Line 7"/>
          <p:cNvSpPr/>
          <p:nvPr/>
        </p:nvSpPr>
        <p:spPr>
          <a:xfrm>
            <a:off x="163188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61" name="Line 8"/>
          <p:cNvSpPr/>
          <p:nvPr/>
        </p:nvSpPr>
        <p:spPr>
          <a:xfrm>
            <a:off x="180036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62" name="Line 9"/>
          <p:cNvSpPr/>
          <p:nvPr/>
        </p:nvSpPr>
        <p:spPr>
          <a:xfrm>
            <a:off x="196848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213660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64" name="Line 11"/>
          <p:cNvSpPr/>
          <p:nvPr/>
        </p:nvSpPr>
        <p:spPr>
          <a:xfrm>
            <a:off x="230508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65" name="Line 12"/>
          <p:cNvSpPr/>
          <p:nvPr/>
        </p:nvSpPr>
        <p:spPr>
          <a:xfrm>
            <a:off x="247320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66" name="Line 13"/>
          <p:cNvSpPr/>
          <p:nvPr/>
        </p:nvSpPr>
        <p:spPr>
          <a:xfrm>
            <a:off x="264168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67" name="Line 14"/>
          <p:cNvSpPr/>
          <p:nvPr/>
        </p:nvSpPr>
        <p:spPr>
          <a:xfrm>
            <a:off x="280980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68" name="Line 15"/>
          <p:cNvSpPr/>
          <p:nvPr/>
        </p:nvSpPr>
        <p:spPr>
          <a:xfrm>
            <a:off x="297828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69" name="Line 16"/>
          <p:cNvSpPr/>
          <p:nvPr/>
        </p:nvSpPr>
        <p:spPr>
          <a:xfrm>
            <a:off x="314640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70" name="Line 17"/>
          <p:cNvSpPr/>
          <p:nvPr/>
        </p:nvSpPr>
        <p:spPr>
          <a:xfrm>
            <a:off x="331488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71" name="Line 18"/>
          <p:cNvSpPr/>
          <p:nvPr/>
        </p:nvSpPr>
        <p:spPr>
          <a:xfrm>
            <a:off x="348300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72" name="Line 19"/>
          <p:cNvSpPr/>
          <p:nvPr/>
        </p:nvSpPr>
        <p:spPr>
          <a:xfrm>
            <a:off x="365112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73" name="Line 20"/>
          <p:cNvSpPr/>
          <p:nvPr/>
        </p:nvSpPr>
        <p:spPr>
          <a:xfrm>
            <a:off x="381960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74" name="Line 21"/>
          <p:cNvSpPr/>
          <p:nvPr/>
        </p:nvSpPr>
        <p:spPr>
          <a:xfrm>
            <a:off x="398772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75" name="Line 22"/>
          <p:cNvSpPr/>
          <p:nvPr/>
        </p:nvSpPr>
        <p:spPr>
          <a:xfrm>
            <a:off x="415620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76" name="Line 23"/>
          <p:cNvSpPr/>
          <p:nvPr/>
        </p:nvSpPr>
        <p:spPr>
          <a:xfrm>
            <a:off x="432432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77" name="Line 24"/>
          <p:cNvSpPr/>
          <p:nvPr/>
        </p:nvSpPr>
        <p:spPr>
          <a:xfrm>
            <a:off x="449280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78" name="Line 25"/>
          <p:cNvSpPr/>
          <p:nvPr/>
        </p:nvSpPr>
        <p:spPr>
          <a:xfrm>
            <a:off x="466092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79" name="Line 26"/>
          <p:cNvSpPr/>
          <p:nvPr/>
        </p:nvSpPr>
        <p:spPr>
          <a:xfrm>
            <a:off x="482904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80" name="Line 27"/>
          <p:cNvSpPr/>
          <p:nvPr/>
        </p:nvSpPr>
        <p:spPr>
          <a:xfrm>
            <a:off x="499752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81" name="Line 28"/>
          <p:cNvSpPr/>
          <p:nvPr/>
        </p:nvSpPr>
        <p:spPr>
          <a:xfrm>
            <a:off x="516564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82" name="Line 29"/>
          <p:cNvSpPr/>
          <p:nvPr/>
        </p:nvSpPr>
        <p:spPr>
          <a:xfrm>
            <a:off x="533412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83" name="Line 30"/>
          <p:cNvSpPr/>
          <p:nvPr/>
        </p:nvSpPr>
        <p:spPr>
          <a:xfrm>
            <a:off x="550224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84" name="Line 31"/>
          <p:cNvSpPr/>
          <p:nvPr/>
        </p:nvSpPr>
        <p:spPr>
          <a:xfrm>
            <a:off x="567072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85" name="Line 32"/>
          <p:cNvSpPr/>
          <p:nvPr/>
        </p:nvSpPr>
        <p:spPr>
          <a:xfrm>
            <a:off x="583884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86" name="Line 33"/>
          <p:cNvSpPr/>
          <p:nvPr/>
        </p:nvSpPr>
        <p:spPr>
          <a:xfrm>
            <a:off x="600696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87" name="Line 34"/>
          <p:cNvSpPr/>
          <p:nvPr/>
        </p:nvSpPr>
        <p:spPr>
          <a:xfrm>
            <a:off x="617544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88" name="Line 35"/>
          <p:cNvSpPr/>
          <p:nvPr/>
        </p:nvSpPr>
        <p:spPr>
          <a:xfrm>
            <a:off x="634356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89" name="Line 36"/>
          <p:cNvSpPr/>
          <p:nvPr/>
        </p:nvSpPr>
        <p:spPr>
          <a:xfrm>
            <a:off x="651204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90" name="Line 37"/>
          <p:cNvSpPr/>
          <p:nvPr/>
        </p:nvSpPr>
        <p:spPr>
          <a:xfrm>
            <a:off x="668016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91" name="Line 38"/>
          <p:cNvSpPr/>
          <p:nvPr/>
        </p:nvSpPr>
        <p:spPr>
          <a:xfrm>
            <a:off x="684864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92" name="Line 39"/>
          <p:cNvSpPr/>
          <p:nvPr/>
        </p:nvSpPr>
        <p:spPr>
          <a:xfrm>
            <a:off x="701676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93" name="Line 40"/>
          <p:cNvSpPr/>
          <p:nvPr/>
        </p:nvSpPr>
        <p:spPr>
          <a:xfrm>
            <a:off x="718488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94" name="Line 41"/>
          <p:cNvSpPr/>
          <p:nvPr/>
        </p:nvSpPr>
        <p:spPr>
          <a:xfrm>
            <a:off x="735336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95" name="Line 42"/>
          <p:cNvSpPr/>
          <p:nvPr/>
        </p:nvSpPr>
        <p:spPr>
          <a:xfrm>
            <a:off x="752148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96" name="Line 43"/>
          <p:cNvSpPr/>
          <p:nvPr/>
        </p:nvSpPr>
        <p:spPr>
          <a:xfrm>
            <a:off x="768996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97" name="Line 44"/>
          <p:cNvSpPr/>
          <p:nvPr/>
        </p:nvSpPr>
        <p:spPr>
          <a:xfrm>
            <a:off x="785808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98" name="Text Box 46"/>
          <p:cNvSpPr/>
          <p:nvPr/>
        </p:nvSpPr>
        <p:spPr>
          <a:xfrm>
            <a:off x="564480" y="5842080"/>
            <a:ext cx="767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0000"/>
                </a:solidFill>
                <a:latin typeface="MS Mincho"/>
              </a:rPr>
              <a:t>0      3          8  10 11           17         22     25             32        36</a:t>
            </a:r>
            <a:endParaRPr b="0" lang="en-US" sz="12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99" name="Text Box 63"/>
          <p:cNvSpPr/>
          <p:nvPr/>
        </p:nvSpPr>
        <p:spPr>
          <a:xfrm>
            <a:off x="3769200" y="200196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f5f5f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5f5f5f"/>
                </a:solidFill>
                <a:latin typeface="MS Mincho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00" name="Text Box 48"/>
          <p:cNvSpPr/>
          <p:nvPr/>
        </p:nvSpPr>
        <p:spPr>
          <a:xfrm>
            <a:off x="1667520" y="330984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cc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cc00cc"/>
                </a:solidFill>
                <a:latin typeface="MS Mincho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01" name="Text Box 52"/>
          <p:cNvSpPr/>
          <p:nvPr/>
        </p:nvSpPr>
        <p:spPr>
          <a:xfrm>
            <a:off x="2549880" y="330984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cc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cc00cc"/>
                </a:solidFill>
                <a:latin typeface="MS Mincho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02" name="Text Box 55"/>
          <p:cNvSpPr/>
          <p:nvPr/>
        </p:nvSpPr>
        <p:spPr>
          <a:xfrm>
            <a:off x="2834280" y="330840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00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00ff00"/>
                </a:solidFill>
                <a:latin typeface="MS Mincho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03" name="Text Box 57"/>
          <p:cNvSpPr/>
          <p:nvPr/>
        </p:nvSpPr>
        <p:spPr>
          <a:xfrm>
            <a:off x="3034080" y="330984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00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00ff00"/>
                </a:solidFill>
                <a:latin typeface="MS Mincho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04" name="Text Box 60"/>
          <p:cNvSpPr/>
          <p:nvPr/>
        </p:nvSpPr>
        <p:spPr>
          <a:xfrm>
            <a:off x="3948480" y="330984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00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00ff00"/>
                </a:solidFill>
                <a:latin typeface="MS Mincho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05" name="Text Box 65"/>
          <p:cNvSpPr/>
          <p:nvPr/>
        </p:nvSpPr>
        <p:spPr>
          <a:xfrm>
            <a:off x="4756680" y="330984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ffff00"/>
                </a:solidFill>
                <a:latin typeface="MS Mincho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06" name="Text Box 49"/>
          <p:cNvSpPr/>
          <p:nvPr/>
        </p:nvSpPr>
        <p:spPr>
          <a:xfrm>
            <a:off x="2549880" y="265428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00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00ff00"/>
                </a:solidFill>
                <a:latin typeface="MS Mincho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07" name="Text Box 59"/>
          <p:cNvSpPr/>
          <p:nvPr/>
        </p:nvSpPr>
        <p:spPr>
          <a:xfrm>
            <a:off x="3003840" y="265428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ffff00"/>
                </a:solidFill>
                <a:latin typeface="MS Mincho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08" name="Text Box 62"/>
          <p:cNvSpPr/>
          <p:nvPr/>
        </p:nvSpPr>
        <p:spPr>
          <a:xfrm>
            <a:off x="3918240" y="265428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ffff00"/>
                </a:solidFill>
                <a:latin typeface="MS Mincho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09" name="Text Box 66"/>
          <p:cNvSpPr/>
          <p:nvPr/>
        </p:nvSpPr>
        <p:spPr>
          <a:xfrm>
            <a:off x="4750200" y="265428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f5f5f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5f5f5f"/>
                </a:solidFill>
                <a:latin typeface="MS Mincho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10" name="Text Box 47"/>
          <p:cNvSpPr/>
          <p:nvPr/>
        </p:nvSpPr>
        <p:spPr>
          <a:xfrm>
            <a:off x="1170360" y="396396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MS Mincho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11" name="Text Box 53"/>
          <p:cNvSpPr/>
          <p:nvPr/>
        </p:nvSpPr>
        <p:spPr>
          <a:xfrm>
            <a:off x="1667520" y="396396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MS Mincho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12" name="Text Box 54"/>
          <p:cNvSpPr/>
          <p:nvPr/>
        </p:nvSpPr>
        <p:spPr>
          <a:xfrm>
            <a:off x="2549880" y="396396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MS Mincho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13" name="Text Box 56"/>
          <p:cNvSpPr/>
          <p:nvPr/>
        </p:nvSpPr>
        <p:spPr>
          <a:xfrm>
            <a:off x="2834280" y="396396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cc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cc00cc"/>
                </a:solidFill>
                <a:latin typeface="MS Mincho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14" name="Text Box 58"/>
          <p:cNvSpPr/>
          <p:nvPr/>
        </p:nvSpPr>
        <p:spPr>
          <a:xfrm>
            <a:off x="3034080" y="396396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cc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cc00cc"/>
                </a:solidFill>
                <a:latin typeface="MS Mincho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15" name="Text Box 61"/>
          <p:cNvSpPr/>
          <p:nvPr/>
        </p:nvSpPr>
        <p:spPr>
          <a:xfrm>
            <a:off x="3948480" y="396396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cc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cc00cc"/>
                </a:solidFill>
                <a:latin typeface="MS Mincho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16" name="Text Box 64"/>
          <p:cNvSpPr/>
          <p:nvPr/>
        </p:nvSpPr>
        <p:spPr>
          <a:xfrm>
            <a:off x="4786920" y="396396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00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00ff00"/>
                </a:solidFill>
                <a:latin typeface="MS Mincho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17" name="Text Box 67"/>
          <p:cNvSpPr/>
          <p:nvPr/>
        </p:nvSpPr>
        <p:spPr>
          <a:xfrm>
            <a:off x="5335920" y="396396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ffff00"/>
                </a:solidFill>
                <a:latin typeface="MS Mincho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18" name="Text Box 68"/>
          <p:cNvSpPr/>
          <p:nvPr/>
        </p:nvSpPr>
        <p:spPr>
          <a:xfrm>
            <a:off x="6380640" y="396396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f5f5f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5f5f5f"/>
                </a:solidFill>
                <a:latin typeface="MS Mincho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19" name="Text Box 72"/>
          <p:cNvSpPr/>
          <p:nvPr/>
        </p:nvSpPr>
        <p:spPr>
          <a:xfrm>
            <a:off x="7605000" y="3927600"/>
            <a:ext cx="1540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ff"/>
                </a:solidFill>
                <a:latin typeface="Arial"/>
              </a:rPr>
              <a:t>}</a:t>
            </a:r>
            <a:r>
              <a:rPr b="0" lang="it-IT" sz="3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processo </a:t>
            </a:r>
            <a:br>
              <a:rPr sz="2000"/>
            </a:b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    attivo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20" name="Rectangle 74"/>
          <p:cNvSpPr/>
          <p:nvPr/>
        </p:nvSpPr>
        <p:spPr>
          <a:xfrm>
            <a:off x="1287360" y="4762440"/>
            <a:ext cx="1689120" cy="3571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21" name="Rectangle 75"/>
          <p:cNvSpPr/>
          <p:nvPr/>
        </p:nvSpPr>
        <p:spPr>
          <a:xfrm>
            <a:off x="2995560" y="4762440"/>
            <a:ext cx="1984320" cy="357120"/>
          </a:xfrm>
          <a:prstGeom prst="rect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22" name="Rectangle 76"/>
          <p:cNvSpPr/>
          <p:nvPr/>
        </p:nvSpPr>
        <p:spPr>
          <a:xfrm>
            <a:off x="4994280" y="4761000"/>
            <a:ext cx="512640" cy="357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23" name="Rectangle 77"/>
          <p:cNvSpPr/>
          <p:nvPr/>
        </p:nvSpPr>
        <p:spPr>
          <a:xfrm>
            <a:off x="5522760" y="4761000"/>
            <a:ext cx="114948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24" name="Rectangle 78"/>
          <p:cNvSpPr/>
          <p:nvPr/>
        </p:nvSpPr>
        <p:spPr>
          <a:xfrm>
            <a:off x="6691320" y="4764240"/>
            <a:ext cx="792000" cy="3571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egnaposto numero diapositiva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4701-3CE4-4EF4-9D9F-33D510869ACC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aratteristiche di FIF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Vantagg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Ordine di precedenza rispettat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Certezza dell’esecuzion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Completamento di un singolo processo in tempo pari al tempo di esecuzione dopo l’accesso alla risors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vantagg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Tempo di attesa in coda variabil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Impossibilità di gestire le urgenz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Processi molto lunghi possono tenere in coda processi molto cort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0F46-00C0-4434-BD7F-4BB0F344216B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Priority queue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 processi che chiedono la CPU ne entrano in possesso quando tutti i processi che ne avevano fatto richiesta prima avendo priorità maggiore o uguale al processo richiedente l’hanno impiegat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 processo in coda è sempre in attes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Non esistono processi sopi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551C-432F-44AA-A284-FFC7720ED7CE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Implementazioni di PQ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 coda singol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 processi vengono monitorati solo all’ingresso in coda e la risalgono fino a quando il processo che le precede ha la stessa priorità, o priorità maggiore o hanno raggiunto la cima della cod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1791-E338-4035-BC42-C6B89C359440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Implementazioni di PQ (2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 coda multipl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Ogni priorità ha la sua cod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 processi di una coda vengono eseguiti in ordine FIF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e code vengono monitorate in ordine diretto dalla priorità più alta a quella più bass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egnaposto numero diapositiva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5381-74F1-4701-BD41-2F6028EA4BA2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aratteristiche di PQ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Vantagg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Garanzia di priorità per processi urgent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Tempo di attesa in coda dipende dalla priorità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vantagg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Processi a bassa priorità possono restare in coda potenzialmente all’infinit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Difficile attribuire le priorità in modo automatic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egnaposto numero diapositiva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B0CF-86D3-43DF-90ED-05FD6DB264AB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aratteristiche di PQ (2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Vantagg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Garanzia di priorità per processi urgent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Tempo di attesa in coda dipende dalla priorità e in parte dall’ordine di richiest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I processi, anche a bassa priorità vengono sempre eseguit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vantagg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Difficile attribuire le priorità in modo automatic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Processi ad alta priorità possono attendere a lungo in ogni caso, essendo in coda alle richiest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7FF9-4BA7-474E-BA75-B432C655D792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hortest Job Firs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Viene eseguito per primo il processo più breve tra quelli in cod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 processo in coda è sempre in attes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Non esistono processi sopi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egnaposto numero diapositiva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2BDA-6983-4B2D-9B43-BA00A0946B2E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aratteristiche di SJF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Vantagg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Tempo medio di attesa in coda è minimizzat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vantagg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Processi lunghi possono restare in coda potenzialmente all’infinit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Nessuna priorità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1185-4C59-42AE-8C56-D9FAA1CCB8BF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cccc"/>
                </a:solidFill>
                <a:latin typeface="Times New Roman"/>
              </a:rPr>
              <a:t>Schema generale di un sistema operativo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4746600" cy="45115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AE3E-2D10-49DF-8751-F1B778064E68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Round-Robi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Ogni processo è ripartito in fette di tempo (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time-slice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) di durata massima predefinit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Quando una time-slice è terminata la CPU viene attribuita al processo successivo in cod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 processi in coda sono sia in attesa che sopi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8511-C2B1-40F8-8450-A271BAA207E7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Round-Robin e DM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e un processo fa solo operazioni CPU durante il suo Time-Slice, allora, dato che non verrà intrappolato continuerà a possedere la CPU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e un processo accede a memoria o periferiche finirà intrappolato e il monitor gli sottrarrà la CPU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erciò, in presenza di un trap, la durata di una time-slice sarà inferior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egnaposto numero diapositiva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B6F4-3920-43E6-BF97-B167D05FA588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aratteristiche del Round-Robi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Vantagg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Certezza dell’esecuzion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Minimizzazione del tempo di attesa in cod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fruttamento completo delle risors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vantagg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La maggior complicazione dell’algoritmo di scheduling richiede grande attenzione alla sua implementazion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FAF9-6C82-41B9-AEF6-3336E5C5CAA8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chemi del Job Schedu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513480" cy="43225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4292-02DB-4C48-8FF9-F7442BB323F2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ncorrenz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rocessi eseguiti in coda su macchine sequenziali monitorate da un sistema operativo con Job Scheduler a politica Round-Robin si dicono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concorren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a concorrenza non è parallelism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98B2-1522-4B59-8977-0A0DD1D21ADC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ipi di sistema operativo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Rispetto all’esecuzione di applicazioni un sistema operativo può concepire applicazioni in tre sta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Con il Focu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ttiv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ccessibil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5D44-A52E-464B-BA49-3F3E8F91B71F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ipi di sistema operativo (2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e un sistema operativo ammette più applicazioni con il focus e il Job Scheduling è Round-Robin, allora due utenti potrebbero eseguire applicazioni diverse in concorrenz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e ciò avviene diremo che il sistema operativo con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time-sharing competitiv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B5EA-20B5-4228-AEAD-19546B10554E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ipi di sistema operativo (3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Nel caso opposto, cioè quando una applicazione cede il focus solo spontaneamente, diremo che il time-sharing è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 cooperativ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Windows95 e Mac OS fino alla versione 4 sono sistemi definiti cooperativ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Da Windows98 in poi e da Mac OS 5 si parla di sistemi competitiv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2ACD-47FD-4B58-A588-14CE25EF5731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File system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i chiama File System l’organizzazione strutturale dei dati di memoria di massa gestita da un sistema operativ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Questa funzione è fondamentale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A677-6D97-4294-A6E1-CAA1979DC837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Organizzazione del file system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spett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È un alber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Navigabile bidirezionalment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 nodi si chiamano Directory, e i legami parenthood link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8621-01F3-4839-B7E3-94AE9CDC0224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ncetto di process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 processo è un programma in esecuzion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istemi operativi diversi modellano diversamente le relazioni temporali tra process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TTENZIONE: Un’applicazione non è necessariamente un programm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Molte applicazioni sono implementate da un insieme di programmi e quindi quando sono in esecuzione vi sono molti process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2528-2B55-4764-BDCF-FC153EB01526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Organizzazione dei dat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 file vengono collocati nel disco dove possibil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er sfruttare al meglio lo spazio i file possono essere spezzati in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blocch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a cancellazione di un file o la sua modifica comporta la modifica (e potenzialemte) l’eliminazione dei blocchi che lo compongon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3C98-76DB-4F4C-9C76-8BE6B73447D6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Metod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Occorre quindi progettare tecniche di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Allocazione dei Blocchi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che consentano di evitare sprechi e garantire la conservazione dell’integrità dei dati stess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e politiche di allocazione sono uno delle più significative scelte strategiche nella definizione di un sistema operativ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46E9-CC82-44D6-B79D-BE8BB4CCA24F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ecniche di allocazione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e tecniche di allocazione dei blocchi sono costruite sui seguenti assun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 blocchi hanno tutti le stesse dimension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l numero di blocchi di un file è variabil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7691-7C5F-498B-85E4-9DF73F095041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Best-Fi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Trova le zone libere del disco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Ripartisci il file in segmenti di blocchi adiacenti in modo da garantire che ogni segmento occupi una zona libera del disco con il minimo spreco di memori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92F1-8BF4-4DB9-B0E0-D2CFCF372F34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aratteristiche di Best-Fi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Potenzialmente difficile il problema di trovare le aree per l’allocazion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e residuano piccole porzioni del disco esse saranno certamente sprecat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Esempi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Windows95, Windows98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Implementava una FAT (File Allocation Table) dove registrava le informazioni di allocazione e disallocazion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Dopo un periodo di uso intenso occorreva operare una deframmentazione per compattare e quindi riutilizzare le aree del disco inutilizzat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351C-A28E-464A-9B40-165451523235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Worst-Fi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Trova le zone libere del disco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Ripartisci il file in blocchi in modo da garantire che ogni segmento occupi una zona libera del disco con il massimo spreco di memori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4680-0180-4F67-8E12-7F312BB5689B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aratteristiche di Worst-Fi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Minor sprec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È più probabile che se un file è piccolo si allochi subit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E1FA-682A-478A-8B89-1F4DBAD4A7F4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Backup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 causa dei crash elettrici, degli errori umani e dei problemi con software con bachi è possibile che dati recentemente scaricati sul computer siano illeggibil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er prudenza, quindi, si fa copia del contenuto del disco (o talvolta di una sua parte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Tale copia si chiama backup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54D2-572B-4CD4-92CA-49C2F5AE52A1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Backup (2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l backup, per sistemi di grandi dimensioni, può risultare voluminoso e lungo da fare a man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i ricorre quindi a tecniche di Backup periodico (ogni giorno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BFAE-C363-4D7A-A063-5C7937864043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istemi operativi esistent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a grande famiglia UNIX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ix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inux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NetBSD, FreeBSD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Windows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Windows 95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Windows 98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Windows 2000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Windows XP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808E-7FD8-44C9-8193-B92428775229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tato di un process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 processo, in un sistema operativo, può trovarsi in una delle seguenti situazion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ttivo: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l processo è in esecuzione, e </a:t>
            </a:r>
            <a:br>
              <a:rPr sz="2800"/>
            </a:b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controlla le risorse;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n attesa: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l processo è in esecuzione, ma</a:t>
            </a:r>
            <a:br>
              <a:rPr sz="2800"/>
            </a:b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non controlla le risorse;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opito: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l processo non è in esecuzione,</a:t>
            </a:r>
            <a:br>
              <a:rPr sz="2800"/>
            </a:b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ma attende di essere richiamat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2367-881F-4F46-A139-676CDDFF2914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DOS e Window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DOS (Disk Operating System) fu una idea di interesse sviluppata con lo scopo di rendere semplice l’accesso a risorse di un computer da parte di utenti inesper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ttualmente esso è una componente di Windows (il Prompt dei Comandi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31AC-B068-4A66-903D-F24B1AED266D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Mac O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a Apple ha sempre prodotto il software di gestione delle proprie macchine in modo totalmente autonomo rispetto alle pressioni del mercat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l sistema operativo, molto simile come ambiente operativo a Windows, gestisce la memoria e le altre risorse in modo prioritari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E2A0-A7B1-4C1E-AE4E-D2FDFCBD1C98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Gestione delle risors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e risorse a disposizione di un processo sono fondamentalmente tre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l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tempo di CPU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, ovvero il controllo dell’esecuzione su macchine sequenziali, il possesso di una delle risorse di calcolo parallele su macchine non sequenzial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a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memoria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central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e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periferich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3CC1-76B2-4A32-8D2A-5DC32C465E86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ndivisibilità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a risorsa si dice condivisibile se il fatto che un processo vi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acceda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non significa che la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controll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processo accede ad una risorsa quando può farne uso, ovvero quando i comandi che invia a quella risorsa sono eseguit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processo controlla una risorsa quando ogni richiesta di accesso da parte di altri processi effettuata mentre il processo stesso vi accede viene respint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2658-C0DE-459B-B79E-AEE2CE182D22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Monito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 pezzo essenziale del kernel di un sistema operativo è il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monitor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resiede al coordinamento ed al controllo delle funzioni del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Resource Manager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che gestisc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Job Scheduling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CPU Time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Memory assignemen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Periferich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91E4-A4FA-4745-834D-0C0D0793D533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Funzioni del monito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l monitor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tabilisce l’accesso alla CPU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Gestisce l’accesso a memoria e periferich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Coordina le funzioni di access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0:37:25Z</dcterms:created>
  <dc:creator> </dc:creator>
  <dc:description/>
  <dc:language>en-US</dc:language>
  <cp:lastModifiedBy>Matteo</cp:lastModifiedBy>
  <cp:lastPrinted>2000-02-27T18:44:12Z</cp:lastPrinted>
  <dcterms:modified xsi:type="dcterms:W3CDTF">2008-12-08T23:36:51Z</dcterms:modified>
  <cp:revision>38</cp:revision>
  <dc:subject/>
  <dc:title>Corso di Informatica  per Giurisprudenza Lezion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profs.sci.univr.it/fummi</vt:lpwstr>
  </property>
  <property fmtid="{D5CDD505-2E9C-101B-9397-08002B2CF9AE}" pid="9" name="LinkColor">
    <vt:r8>16711782</vt:r8>
  </property>
  <property fmtid="{D5CDD505-2E9C-101B-9397-08002B2CF9AE}" pid="10" name="MailAddress">
    <vt:lpwstr>fummi@sci.univr.it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\Franco\SLIDES\VERONA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