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3816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720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268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816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E28F916-98CC-4B60-8802-1ED6EF4C8C4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34E0509-7269-4615-A636-DB011023054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D8C3DB8-4178-4456-A4C1-E55C2D4DC63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2243D7C-8C06-45F3-B02A-879270F5369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0309156-985E-4618-A936-55A0E18110B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909E27F-A107-4BC9-8EE6-6FC098E9700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3502FBB-BDF8-4D5F-85B4-4C3A6FF6AAE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7FA884C-A2AD-4A62-9699-A6C1CD1E2B8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00EA6E2-32A5-4031-98A8-1A7AACB9238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9C9E7CC-87AD-4404-8288-F5AEF6715C4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46995AA-E53C-4D30-AEBD-BEBBA9FBFCA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F73CA53-A3D6-4F39-8D92-2DF984F00B5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5F08BD8-F4ED-465B-BFB3-863E96DAD50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2BD82D7-DA88-4B86-ADDF-E38A6D45E48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B3D8FF9-77AA-44DE-8AC2-361C4D8790A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C7B4356-6377-4063-A728-FF11A1BB178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AD03974-1EBE-496B-8382-08C4776562A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70239C8-70E2-43E0-8B6D-397D9B714FE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8752EA1-364F-43FE-A294-D309BF64B3B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E32B0B7-6B73-4668-8393-2C506B1C281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6D38D6D-0F20-45B9-906F-4E70A07A723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8101694-985C-4C0E-9ABF-8F841E73598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F8B3C62-12C0-4A11-A34E-260808F8FF9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7B1F8C6-61B5-4912-8753-7679C73941C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BA10F3C-2B0A-4B77-930A-E96CAEB580F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AFCC02D-4B6F-4F2F-8FD2-218804BD218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E73-EFF7-4886-98B1-9AD9731E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8A2-F6EB-4D8E-935B-29715ACC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57D-F5C9-40C3-84A3-0A5AE1F4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8AC-A50E-42EC-ABF5-12AA306C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7B04-D7A0-404C-98AC-E8DA0E1C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DAD5-4DA7-4489-AB26-E7AB5D9A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408F-B955-4A58-8AF1-7119AA5C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CB64-FCB5-4132-8387-37DCBC81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5AD9-F043-49D8-91B6-091039F7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D749-5F74-416A-B493-BB8F4592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708C-38E2-4847-B5F2-C161156C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D07-041A-4008-8B10-BA961FBC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6481-7996-4A65-9EE8-69B5CA9C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E8BE-CF5C-4E6A-A9C6-46971132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0A18-727F-4466-A1FD-97261D0E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84D4-F351-4B58-AB15-F0D1C1FF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8BFF-A889-47E9-B8A7-F6398237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A7D-CC4F-44D1-AAE6-81BE0DED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355-F4D9-4407-A2F3-3BFD79CE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FA4-853C-432F-B651-17479056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247-C735-4F97-99FD-E034B47F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069-3F72-4148-BF77-27A454A2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6BC-6B56-4C64-BE46-5DFDF361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463-EB7B-4A41-8EBB-A6FABAD7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12920"/>
            <a:ext cx="9131400" cy="9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92200"/>
            <a:ext cx="913140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64F5-5EBD-43B7-BCF1-55A4765AA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6" descr="logouni"/>
          <p:cNvPicPr/>
          <p:nvPr/>
        </p:nvPicPr>
        <p:blipFill>
          <a:blip r:embed="rId2"/>
          <a:stretch/>
        </p:blipFill>
        <p:spPr>
          <a:xfrm>
            <a:off x="114480" y="336600"/>
            <a:ext cx="954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327480"/>
            <a:ext cx="91314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606840"/>
            <a:ext cx="9131400" cy="50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46" name="Picture 16" descr="logouni"/>
          <p:cNvPicPr/>
          <p:nvPr/>
        </p:nvPicPr>
        <p:blipFill>
          <a:blip r:embed="rId2"/>
          <a:stretch/>
        </p:blipFill>
        <p:spPr>
          <a:xfrm>
            <a:off x="0" y="1670040"/>
            <a:ext cx="157644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260F-A29C-425A-A6CC-A90D738307D2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EB95-5A7E-4559-B9CD-8ECC630EC8B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Text Box 1027"/>
          <p:cNvSpPr/>
          <p:nvPr/>
        </p:nvSpPr>
        <p:spPr>
          <a:xfrm>
            <a:off x="2682360" y="3692880"/>
            <a:ext cx="41965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Times New Roman"/>
              </a:rPr>
              <a:t>Matteo Cristani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partimento di Informatic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Facoltà di Scienze MM. FF. NN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iversità degli Studi di Verona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http://www.sci.univr.it/~cristani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2680" y="1447920"/>
            <a:ext cx="7709040" cy="16761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rso di Informatica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2900-310C-4A48-8BEE-7BE910C9107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oftware applicativ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nome applicazione deriva dal fatto che tale software è utilizzato per ottenere certi scop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pplicazioni di lettura e scrittura di dati o applicazioni di sola lettu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pplicazioni general-purpose o specifiche, dipendenti o indipendenti dal sistema operativo, dipendenti o indipendenti dalla piattaform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57AF-242C-4385-A175-0C661806C46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asi di sviluppo del softwa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i fondamenta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fiche dei requisi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fiche funzion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fiche di disegn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fiche di architettur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fiche dei tes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ilupp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es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anutenzion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EE7D-6E46-4D40-8DD8-0E9B665C2C9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cccc"/>
                </a:solidFill>
                <a:latin typeface="Times New Roman"/>
              </a:rPr>
              <a:t>Tipi di software dal punto di vista dello sviluppo</a:t>
            </a:r>
            <a:endParaRPr b="0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ftware commerci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essun committ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equisiti tagliati su committenti virtu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ftware su commess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ichiesto da un cliente o ut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ftware di ricerc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ftware sviluppato per operare con problemi al limit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DEC2-0B90-4186-976B-AB114D51FA4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pecifiche dei requisi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cooperativ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il committen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committente descrive ciò che desidera per il software richies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il software non su commessa la fase di specifiche dei requisiti è sostituita da un brainstorming (in alcuni casi anche da discussioni strutturate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C5E1-691C-43DA-B77D-043EDB78614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pecifiche funzional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cooperativ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lo 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o sviluppatore descrive le funzioni ipotizzate per il software al committ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iceve conferma dal committ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il software non su commessa la fase di specifiche funzionale è sostituita da discussioni struttura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674B-B34B-4F54-90D1-0FC404BB799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pecifiche di disegn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decision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lo 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 decide come implementare le funzioni dal punto di vista delle loro relazion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Disegno di un Software è il documento di riferimento per migrazioni del software in altri linguaggi di programmazione, su altri sistemi operativi o piattaforme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porting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807C-8E74-4C85-83C2-DC74E817A0F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pecifiche di architettur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decision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lo 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 decide come implementare le funzioni definendo le scelte di architettur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inguaggi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istema operativ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iattaform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ecniche e metodologia di svilupp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rumenti CASE (Computer Aided Software dEvelopment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5C35-6E6C-48C3-A545-D1760251152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pecifiche dei tes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operativ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lo 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engono scritti i test che saranno impiegati per validare il softwa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delicatissima perché test poco efficaci provvederanno sistemi con fault, mentre test troppo raffinati rallenteranno la consegn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3CED-2275-4145-83DB-03653186B43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vilupp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operativ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lo 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ivisa i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mplementa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ssemblaggi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2DF1-5F5B-43C7-8F5B-FCF786D2524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esting</a:t>
            </a: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di prova delle funzion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trollo della correttezza ed operatività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trollo della risposta al sovraccaric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trollo della risposta all’eccesso di richies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A5C9-A7CB-4612-9BC1-422E64100DD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oftwa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pi di softwa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stema operativ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oftware applicativ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si di sviluppo del softwa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F2FD-2AC7-4237-A47A-FC973CB0495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anuten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rrezione dei bach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tegrazione delle funzion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iglioramento delle rispos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ggiunte funzionali ed operativ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847D-6E88-4AC0-855A-35731A43EBE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cccc"/>
                </a:solidFill>
                <a:latin typeface="Times New Roman"/>
              </a:rPr>
              <a:t>Distribuzione temporale delle fasi (auspicabile)</a:t>
            </a:r>
            <a:endParaRPr b="0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609480" y="1981080"/>
          <a:ext cx="77565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7565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AEB9-B5BA-427B-A1EF-7013CBB08EA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cccc"/>
                </a:solidFill>
                <a:latin typeface="Times New Roman"/>
              </a:rPr>
              <a:t>Distribuzione temporale delle fasi (effettiva)</a:t>
            </a:r>
            <a:endParaRPr b="0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609480" y="1981080"/>
          <a:ext cx="77565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7565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F3D7-71DA-4116-9252-73B8AA69BA3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ello svilupp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todologia TOP-DOW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perazioni in sequenz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trollo della funzionalità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rogressività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iuso di codi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odularità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dipendenza funzion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arattere operativo del softwa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A726-0F55-4389-B27D-C1D90B67E8A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cc"/>
                </a:solidFill>
                <a:latin typeface="Times New Roman"/>
              </a:rPr>
              <a:t>Figure professionali dell’informatica</a:t>
            </a:r>
            <a:endParaRPr b="0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Erede sincretico 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nalist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nalista-Programmato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grammato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stemis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alista di architet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alista di re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1345-496A-4C01-94FD-AD37E95A480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Operatori dell’informatic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ftware hous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sulenti indipend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egozi specializzati (sic!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ovider interne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31B7-2E10-4D99-BF9A-7F34773094F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softwa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lassificazione gener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ftware orizzont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eneral-purpose softwa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inguaggi di programma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tilità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duttività individua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ftware vertic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pplicazioni specifich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inguaggi special-purpos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BBD5-DDD6-41DC-96C0-1CECEFCA584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oftware di uso gener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stemi opera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mbienti opera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F946-904B-44E7-A50B-62AC5CF0E32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Linguaggi di programma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mpilatori ed interpre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ibrerie riusabi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mbienti di svilupp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Verificatori (semi)automatic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pplicazioni di Project Managemen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B5D4-1EF7-44E9-8644-40B510B2E3E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Utilità di sistem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nettività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onnection Management System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ssion Management Syste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Web Browser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lient Posta Elettronic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estione mode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one periferich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estione stampan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estione dischi e fi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estione periferiche specia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irus/worm/intrusion detection syste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419720" y="1676520"/>
            <a:ext cx="38862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F9C5-8A83-4A15-ADCB-99356B22B1C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duttività individu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Word processo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esktop Publish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cientific Desktop Publishing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preadshee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esentation Management System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abase Management System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dea Processo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5BFC-137D-443F-B34F-11538EAC1D9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oftware speci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pplicazioni vertica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tabilità e finanz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utomazione industri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WorkFlow Management Syste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inguaggi Special-Purpos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inguaggi specifici di risors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inguaggi orientati alla modellazione di sistemi fisic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D58C-125B-4539-AD95-542BF7C0664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istema operativ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unzion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one memori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one dispositivi e periferich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one rete locale e geograf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one applicazion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aratteristich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Possibilmente) platform-independ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0:37:25Z</dcterms:created>
  <dc:creator> </dc:creator>
  <dc:description/>
  <dc:language>en-US</dc:language>
  <cp:lastModifiedBy>Matteo</cp:lastModifiedBy>
  <cp:lastPrinted>2000-02-27T18:44:12Z</cp:lastPrinted>
  <dcterms:modified xsi:type="dcterms:W3CDTF">2008-12-08T23:36:04Z</dcterms:modified>
  <cp:revision>13</cp:revision>
  <dc:subject/>
  <dc:title>Corso di Informatica  per Giurisprudenza Lezion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rofs.sci.univr.it/fummi</vt:lpwstr>
  </property>
  <property fmtid="{D5CDD505-2E9C-101B-9397-08002B2CF9AE}" pid="9" name="LinkColor">
    <vt:r8>16711782</vt:r8>
  </property>
  <property fmtid="{D5CDD505-2E9C-101B-9397-08002B2CF9AE}" pid="10" name="MailAddress">
    <vt:lpwstr>fummi@sci.univr.i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\Franco\SLIDES\VERONA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