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2B4371-EC59-411A-8C2C-4DDA9BF671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8BD093-DB50-41BF-8CCC-7296846174A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BAC3B11-7CAE-4E41-876F-A3CEA083D7C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FC7B8D-2ABF-4736-8D2D-01A67C6A4EB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E750F3-9AB9-498E-9AA3-67D5420DB89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AAADD1-CD5C-4A7E-9C2D-BDF509AD809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C3FDD30-C67E-49B2-B919-69BA7924DBD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E2666B-BE26-4300-B938-691AD0C8315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66652FC-CF95-4D99-81F5-4CB6F910C69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02AA99-7ABD-4029-A02C-DA527E77BFE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0FB6315-2FAD-49BF-A289-756F1CC6C34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39813A-3D2F-4588-B002-EEF237DF4ED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D8EA60-FC0B-496C-A509-8AF846F79B3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D5B0729-69E0-4C3F-8DA8-8693137C74D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ED646D-A7F0-4BCA-A750-0AAE88DE6A1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AFEC2B-C403-4A6E-9D98-A92AB9F6877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BB0A497-A8FE-4A78-B8FC-4DECE5B7AD3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4CDD4C-E39C-482C-8F59-504852D5720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5212AE-164A-4906-A8D4-7541DC031FC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18A3B4-799B-4019-ABEB-673AEC388FB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595F6F8-1F52-4726-BA9B-060874E271A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574DD7-3993-441F-A663-3FD90452BB4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A4E1D31-6EEC-4B19-AF14-B294E3AC52A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34C-C078-4D12-BE03-6D1BCB5E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35A-B28D-4039-9AA9-46C9287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41E-802E-4BBA-BF35-2C2374B2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7C0-44AC-427A-9A80-6EC202EF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4576-9673-4761-A56B-0BAEB3B7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9993-D95B-4C2C-AEC1-FDFF913C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3FA2-6E66-4854-8BCE-AB2605D5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1C08-3D7B-471E-9DAF-3DB6D286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ADA8-5ADB-4C74-9AE2-9966BF98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218-122A-4D9F-95F9-516C01E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C8B3-68AA-43F5-A4EF-9998DF9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30D-247A-4F02-9EAC-F5C7F7DF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FCEF-20CC-4A89-A597-AE624A8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7A4E-FC06-4A06-96C8-B101483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8A9-2967-4C3F-AA1F-FD82D9B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F49E-473E-4CAD-8714-4352A550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DC49-8377-463F-B935-E1FE266B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AC8-7CDB-49EA-BFD2-B48B371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1CD-D575-4DBD-8A21-4C780A4C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2A3-4408-40BC-A45D-3173FF90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757-30F7-4059-A55C-E6AF3B27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98A-2B81-4476-90D1-1A7E476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E56-B538-41D6-A430-38BF5B01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71D-6D35-4B19-9CD5-7F49B37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0653-B1CB-4B7C-9F11-F53E606AB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AE3D-09EE-42E5-816C-667B549A559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D1CD-F7AB-4777-9275-9B35D0292B9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F5C-8DBB-4D41-BDB0-C5C0700DA41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ting, pacchetti e ho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outing: Processo di inoltro di un pacchetto attraverso reti interconnesse, da un host di origine a un host di destinazione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Host: Computer che esegue un programma o servizio server utilizzato da client di rete o remoti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acchetto: Unità di trasmissione del livello di rete OSI (Open Systems Interconnection) costituito da informazioni binarie che rappresentano sia i dati che un'intestazione contenente un numero di identificazione, indirizzi di origine e destinazione e dati di controllo degli errori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154C-C42D-4390-8C5B-7B40B2B4A13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chitettura di TCP/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tocollo TCP/IP (Transmission Control Protocol/Internet Protocol) è il protocollo di rete più diffuso ed è alla base di tutte le comunicazioni Internet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funzioni di instradamento di TCP/IP garantiscono la massima flessibilità in una ret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una rete TCP/IP è necessario fornire gli indirizzi IP ai client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7A9-5B14-4439-A30F-F90932F5BF8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dirizzi 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rizzo a 32 bit utilizzato per identificare un nodo in un sistema di reti interconnesse I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ogni nodo nella reti interconnesse IP deve essere assegnato un indirizzo IP univoco, composto dall'ID di rete e dall'ID univoco dell'host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Questo tipo di indirizzo è in genere rappresentato dal valore decimale di ogni ottetto separato da un punto, ad esempio 157.27.192.1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È possibile configurare l'indirizzo IP in modo statico o dinamico tramite DHC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D22A-DB7E-411C-B96C-7DDA2C57FC5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DHC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tocollo di servizio TCP/IP che consente la configurazione dinamica degli indirizzi IP host e la distribuzione di altri parametri di configurazione ai client appropriati sulla ret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tocollo DHCP utilizza un modello client/server nel quale il server DHCP gestisce in modo centralizzato gli indirizzi IP utilizzati nella rete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client che supportano il protocollo DHCP possono quindi richiedere e ottenere il lease per un indirizzo IP dal server DHCP durante il processo di avvio in ret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27FE-EB62-4841-BFE9-873EEF4D8AE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opologie di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opologie per architetture distribui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d anell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line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opologie per architetture centralizzate (client-server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stell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1434-23AC-4EA1-8B82-CB706204BA8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architettura C/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9" name="Picture 4" descr="BD06908_"/>
          <p:cNvPicPr/>
          <p:nvPr/>
        </p:nvPicPr>
        <p:blipFill>
          <a:blip r:embed="rId1"/>
          <a:stretch/>
        </p:blipFill>
        <p:spPr>
          <a:xfrm>
            <a:off x="1447920" y="5867280"/>
            <a:ext cx="506160" cy="56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D06908_"/>
          <p:cNvPicPr/>
          <p:nvPr/>
        </p:nvPicPr>
        <p:blipFill>
          <a:blip r:embed="rId2"/>
          <a:stretch/>
        </p:blipFill>
        <p:spPr>
          <a:xfrm>
            <a:off x="7924680" y="4648320"/>
            <a:ext cx="507960" cy="56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BD06908_"/>
          <p:cNvPicPr/>
          <p:nvPr/>
        </p:nvPicPr>
        <p:blipFill>
          <a:blip r:embed="rId3"/>
          <a:stretch/>
        </p:blipFill>
        <p:spPr>
          <a:xfrm>
            <a:off x="533520" y="2819520"/>
            <a:ext cx="507960" cy="565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BD06908_"/>
          <p:cNvPicPr/>
          <p:nvPr/>
        </p:nvPicPr>
        <p:blipFill>
          <a:blip r:embed="rId4"/>
          <a:stretch/>
        </p:blipFill>
        <p:spPr>
          <a:xfrm>
            <a:off x="7620120" y="2481120"/>
            <a:ext cx="507960" cy="56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BD06908_"/>
          <p:cNvPicPr/>
          <p:nvPr/>
        </p:nvPicPr>
        <p:blipFill>
          <a:blip r:embed="rId5"/>
          <a:stretch/>
        </p:blipFill>
        <p:spPr>
          <a:xfrm>
            <a:off x="5867280" y="1600200"/>
            <a:ext cx="507960" cy="56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BD06740_"/>
          <p:cNvPicPr/>
          <p:nvPr/>
        </p:nvPicPr>
        <p:blipFill>
          <a:blip r:embed="rId6"/>
          <a:stretch/>
        </p:blipFill>
        <p:spPr>
          <a:xfrm>
            <a:off x="4648320" y="4157640"/>
            <a:ext cx="841320" cy="4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HH02126_"/>
          <p:cNvPicPr/>
          <p:nvPr/>
        </p:nvPicPr>
        <p:blipFill>
          <a:blip r:embed="rId7"/>
          <a:stretch/>
        </p:blipFill>
        <p:spPr>
          <a:xfrm>
            <a:off x="2362320" y="3624120"/>
            <a:ext cx="1207800" cy="1233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5029200" y="23623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1905120" y="217656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2666880" y="55627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7315200" y="347184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7010280" y="4495680"/>
            <a:ext cx="15264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151" name="AutoShape 23"/>
          <p:cNvCxnSpPr>
            <a:stCxn id="147" idx="3"/>
            <a:endCxn id="146" idx="1"/>
          </p:cNvCxnSpPr>
          <p:nvPr/>
        </p:nvCxnSpPr>
        <p:spPr>
          <a:xfrm>
            <a:off x="2057040" y="2252520"/>
            <a:ext cx="2972520" cy="186480"/>
          </a:xfrm>
          <a:prstGeom prst="curvedConnector5">
            <a:avLst>
              <a:gd name="adj1" fmla="val 50000"/>
              <a:gd name="adj2" fmla="val 4990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2" name="AutoShape 24"/>
          <p:cNvCxnSpPr>
            <a:stCxn id="147" idx="2"/>
            <a:endCxn id="148" idx="1"/>
          </p:cNvCxnSpPr>
          <p:nvPr/>
        </p:nvCxnSpPr>
        <p:spPr>
          <a:xfrm flipH="1" rot="16200000">
            <a:off x="668160" y="3640680"/>
            <a:ext cx="33105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AutoShape 25"/>
          <p:cNvCxnSpPr>
            <a:stCxn id="148" idx="3"/>
            <a:endCxn id="150" idx="2"/>
          </p:cNvCxnSpPr>
          <p:nvPr/>
        </p:nvCxnSpPr>
        <p:spPr>
          <a:xfrm flipV="1">
            <a:off x="2819160" y="4647600"/>
            <a:ext cx="4267800" cy="99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AutoShape 26"/>
          <p:cNvCxnSpPr>
            <a:stCxn id="150" idx="1"/>
            <a:endCxn id="149" idx="2"/>
          </p:cNvCxnSpPr>
          <p:nvPr/>
        </p:nvCxnSpPr>
        <p:spPr>
          <a:xfrm flipH="1" rot="10800000">
            <a:off x="7009200" y="3623400"/>
            <a:ext cx="381960" cy="948600"/>
          </a:xfrm>
          <a:prstGeom prst="curvedConnector5">
            <a:avLst>
              <a:gd name="adj1" fmla="val -60000"/>
              <a:gd name="adj2" fmla="val 26955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AutoShape 27"/>
          <p:cNvCxnSpPr>
            <a:stCxn id="149" idx="0"/>
            <a:endCxn id="146" idx="3"/>
          </p:cNvCxnSpPr>
          <p:nvPr/>
        </p:nvCxnSpPr>
        <p:spPr>
          <a:xfrm flipV="1" rot="16200000">
            <a:off x="5769360" y="1849320"/>
            <a:ext cx="1033920" cy="22107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32"/>
          <p:cNvCxnSpPr>
            <a:endCxn id="147" idx="1"/>
          </p:cNvCxnSpPr>
          <p:nvPr/>
        </p:nvCxnSpPr>
        <p:spPr>
          <a:xfrm flipV="1">
            <a:off x="1041120" y="2252160"/>
            <a:ext cx="864360" cy="850320"/>
          </a:xfrm>
          <a:prstGeom prst="bentConnector3">
            <a:avLst>
              <a:gd name="adj1" fmla="val 5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7" name="AutoShape 33"/>
          <p:cNvCxnSpPr>
            <a:endCxn id="148" idx="2"/>
          </p:cNvCxnSpPr>
          <p:nvPr/>
        </p:nvCxnSpPr>
        <p:spPr>
          <a:xfrm flipV="1">
            <a:off x="1954080" y="5714280"/>
            <a:ext cx="789840" cy="43740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34"/>
          <p:cNvCxnSpPr>
            <a:endCxn id="146" idx="0"/>
          </p:cNvCxnSpPr>
          <p:nvPr/>
        </p:nvCxnSpPr>
        <p:spPr>
          <a:xfrm flipV="1" rot="10800000">
            <a:off x="5104800" y="1883880"/>
            <a:ext cx="762480" cy="47880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AutoShape 35"/>
          <p:cNvCxnSpPr>
            <a:endCxn id="149" idx="3"/>
          </p:cNvCxnSpPr>
          <p:nvPr/>
        </p:nvCxnSpPr>
        <p:spPr>
          <a:xfrm rot="5400000">
            <a:off x="7419960" y="3094560"/>
            <a:ext cx="500760" cy="40716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AutoShape 36"/>
          <p:cNvCxnSpPr>
            <a:endCxn id="150" idx="3"/>
          </p:cNvCxnSpPr>
          <p:nvPr/>
        </p:nvCxnSpPr>
        <p:spPr>
          <a:xfrm rot="10800000">
            <a:off x="7162200" y="4571280"/>
            <a:ext cx="762480" cy="361080"/>
          </a:xfrm>
          <a:prstGeom prst="bentConnector3">
            <a:avLst>
              <a:gd name="adj1" fmla="val 49976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1" name="AutoShape 37"/>
          <p:cNvCxnSpPr>
            <a:stCxn id="147" idx="3"/>
          </p:cNvCxnSpPr>
          <p:nvPr/>
        </p:nvCxnSpPr>
        <p:spPr>
          <a:xfrm>
            <a:off x="2057040" y="2252520"/>
            <a:ext cx="3012120" cy="190584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62" name="AutoShape 38"/>
          <p:cNvCxnSpPr>
            <a:endCxn id="148" idx="0"/>
          </p:cNvCxnSpPr>
          <p:nvPr/>
        </p:nvCxnSpPr>
        <p:spPr>
          <a:xfrm rot="5400000">
            <a:off x="3413160" y="3907800"/>
            <a:ext cx="984960" cy="2326320"/>
          </a:xfrm>
          <a:prstGeom prst="curvedConnector5">
            <a:avLst>
              <a:gd name="adj1" fmla="val 49981"/>
              <a:gd name="adj2" fmla="val 49992"/>
              <a:gd name="adj3" fmla="val 49981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3" name="AutoShape 39"/>
          <p:cNvCxnSpPr>
            <a:stCxn id="146" idx="2"/>
          </p:cNvCxnSpPr>
          <p:nvPr/>
        </p:nvCxnSpPr>
        <p:spPr>
          <a:xfrm rot="5400000">
            <a:off x="4264920" y="3317760"/>
            <a:ext cx="1643760" cy="37440"/>
          </a:xfrm>
          <a:prstGeom prst="curvedConnector5">
            <a:avLst>
              <a:gd name="adj1" fmla="val 49945"/>
              <a:gd name="adj2" fmla="val 49514"/>
              <a:gd name="adj3" fmla="val 49945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4" name="AutoShape 41"/>
          <p:cNvCxnSpPr>
            <a:endCxn id="149" idx="1"/>
          </p:cNvCxnSpPr>
          <p:nvPr/>
        </p:nvCxnSpPr>
        <p:spPr>
          <a:xfrm flipH="1" flipV="1" rot="5400000">
            <a:off x="5887080" y="2729160"/>
            <a:ext cx="610200" cy="224712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5" name="AutoShape 42"/>
          <p:cNvCxnSpPr>
            <a:stCxn id="150" idx="2"/>
          </p:cNvCxnSpPr>
          <p:nvPr/>
        </p:nvCxnSpPr>
        <p:spPr>
          <a:xfrm flipV="1" rot="16200000">
            <a:off x="6042240" y="3604320"/>
            <a:ext cx="70200" cy="2018160"/>
          </a:xfrm>
          <a:prstGeom prst="curvedConnector5">
            <a:avLst>
              <a:gd name="adj1" fmla="val -328865"/>
              <a:gd name="adj2" fmla="val 49991"/>
              <a:gd name="adj3" fmla="val -328865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66" name="AutoShape 43"/>
          <p:cNvSpPr/>
          <p:nvPr/>
        </p:nvSpPr>
        <p:spPr>
          <a:xfrm>
            <a:off x="3886200" y="400536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758B-CEAC-422E-8063-00076A4A633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mponenti di una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lient: una macchina che accede ai servizi di rete ma non ne erog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: una macchina che eroga servizi di re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HUB: Punto di connessione comune per le periferiche in una rete. Viene generalmente utilizzato per connettere i segmenti di una rete locale (LAN, Local Area Network) ed è dotato di molteplici porte di connessione. Quando i dati arrivano su una porta, vengono copiati sulle altre porte in modo che tutti i segmenti della LAN siano in grado di vedere tutti i dati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ccess point: luogo dove la rete viene connessa da un cli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FE2-B1FC-404F-8360-BE40013A3AB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ternet: struttur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: eroga servizi di rete geografica supportati da TCP/I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rasferimento file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vio posta elettron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etodo di trasfer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tocollo specif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TP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diret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HTTP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e interpretazione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come ipertes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MTP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e interpretazione come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messaggio di posta elettron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BEFD-1206-4D23-88E2-DF3922D5B3C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File Transfer Protocol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lemento del gruppo di protocolli TCP/IP utilizzato per copiare file tra due computer su Internet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ntrambi i computer devono supportare i rispettivi ruoli FT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lient FTP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 FT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3EE3-48BB-489C-8770-D7AD646899A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HT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Hypertext Transfer Protoco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tocollo utilizzato per il trasferimento di informazioni sul Web. Gli indirizzi HTTP, che rappresentano un tipo specifico di URL (Uniform Resource Locator), vengono indicati nel formato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http://www.sci.univr.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C51-1116-4506-922E-45673F6C400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i informa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N, WA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e telefonica e computer (PSDN, ISDN, ADSL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chitettura TCP/IP, Internet e posta elettron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4E0-6833-4644-BE86-5A0236037B5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R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Uniform Resource Locator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rizzo che identifica in modo univoco una posizione in Internet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'URL di un sito Web è preceduto da http://, come nell'indirizzo URL http://www.sci.univr.i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dirizzo URL può includere informazioni più dettagliate, ad esempio il nome di una pagina con contenuti ipertestuali, in genere identificata dall'estensione del nome di file html o htm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EC05-41D7-4A1B-A170-C463810F3ED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M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lemento del gruppo di protocolli TCP/IP che effettua lo scambio di messaggi tra agenti di trasfer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messaggio è trasferito in un pacchetto di tre parti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formazioni sul mittente ed il destinatario, in particolare indirizzi di posta, data e orario della spedizione, indirizzo del destinatario (HEADER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corpo del messaggio (BOD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traccia del percorso che occorre per consegnare il mess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65B-D268-4993-9103-4DA9AE1E3E0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cc"/>
                </a:solidFill>
                <a:latin typeface="Times New Roman"/>
              </a:rPr>
              <a:t>Caratteristiche di una rete con  server Web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rvizi di rete lo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HC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NS (Domain Name Solver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rasforma un indirizzo simbolico in un indirizzo fis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 di appogg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HT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F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SM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5AFE-16A6-4916-828F-88EBA04CF26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di calcolato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insieme di calcolatori si definiscono in rete se e solo se pos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cambiare informa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tra loro mediante u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istema di comunic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eti si distinguono i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tabil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d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estemporane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3999-EF28-4163-A360-39CB8ABDE15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ruttura di una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definire una rete s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anale di comunic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metodo di accesso al canale da parte dei calcolato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tecniche di scambio dei dati (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rotocol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FE8-14B2-443B-8102-E44080C8C8A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loc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rete locale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Local Area Network – LA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è definita sulla base dell’esistenza di una connessione stabile o estemporanea di dimensioni mode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dimensione tipica è un edific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entro un singolo edificio si trovano anche molte re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CBF5-F43E-4875-B597-42E24CD9E80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geografi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rete geografic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World Area Network - WA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è distribuita sul territo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differenza essenziale tra una LAN ed una WAN è nel metodo di accesso alla re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il metodo di accesso è diretto, ovvero se non si deve procedere alla connessione alla rete in forma indiretta, mediante servizio, la rete è lo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5A05-A181-41DA-AA02-B199013E941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telefonico ad una W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telefonica ordinari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SDN – Peer Service Digital Networ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integrata (ISDN –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ntegrated Service Digital Networ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ad alta velocità (ADSL –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synchronous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igital Subscriber Li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B20-AD21-43F9-A3EE-DED8DEA5925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ADSL: Caratteristiche tecnologiche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o di connessione Internet ad alta velocità che utilizza cavi telefonici standard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esto tipo di connessione viene anche denominata connessione a banda larga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C3DE-5B9F-4B8F-90F4-1E908CFB283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Transmission Control Protocol/Internet Protocol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sieme di protocolli di rete ampiamente utilizzato su Internet, che consente le comunicazioni tra reti interconnesse costituite da computer con architetture hardware e sistemi operativi di tipo diverso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CP/IP include gli standard di comunicazione tra computer e le convenzioni per la connessione di reti e traffico di routin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33Z</dcterms:modified>
  <cp:revision>24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