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59BE7BF-576C-4494-B276-3D3F681A1C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DDF063-F2E5-4596-B361-4D9C8659860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F4A9FF-B8FA-4C2A-9CAB-43AE4CDE95C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690E8F1-C61F-4649-AA7B-1F562268827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9805282-019D-4334-9D39-21F1511E6D5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F3273FB-FA08-49B6-9F5F-939B550D665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4832344-0990-4867-8076-02E497D0108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DADDB52-3CB7-44F1-933A-12FE7CD3AF2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685BA31-91DA-4A93-BF66-6D34F118B1E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8D71E0-F59D-4BD5-8FFA-0D1949C6D19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0F51C3-DDA1-42E7-8D91-9FA56254198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627C8F-A0BE-47FB-A5C6-5858AB2C2CB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8D43A6B-F984-489E-9AE3-A9697380614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31449B-9765-43EE-909D-800283BEF38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2A612BC-99DC-4CF1-9AC4-A1F94993324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D564904-7D2B-4262-A350-564CD54108B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CC73E96-7B23-481B-8D42-8A5FD2AF83D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B1D8A0-7642-4DBE-970F-B3B39AEA717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75B8F1-44C5-4E0E-B84D-548D557763D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912CB63-51A8-43AE-B2F2-FABAADBB9C3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DDDF6D6-FE57-4D75-8E7D-C76C4404505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82C131-AE1B-493F-80B6-CBB742E931E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86EFF8E-2C9F-4381-811E-D08FBDDDC75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2760D41-CE0A-490E-9542-8159ECF4304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5AFF4FA-022E-4B7C-BCDB-64748C04FD3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2E7D55-D343-46CF-A824-248016AF7C3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3CA9A58-B3D4-4348-A3E9-9BC0C95E71F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7BCCB5-B00C-4565-8FAD-F960B1D6425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C7786D-CF5A-4778-9FAA-DDEB884DFFC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EEACB93-B4AB-4C3C-A0EF-F4CCA2B02AE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25D818F-1B0C-4903-8B79-ADF2DF28455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602A431-1285-459C-B398-B64F2F4281A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D154B7A-0B51-453D-AFFE-892EC756CFA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9DC-3124-47B9-BB49-0E6D71A5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AEE-D6E7-4511-ABC6-6B6FD503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987-1884-4A6F-8DE8-199A072D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B29-F73D-4242-91A2-B3E1053C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BA35-E964-4A71-A41F-A56A47B0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7A86-A4CD-4BD9-B8D0-7847D19A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16E5-C674-43E2-98FC-17AEB4A7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4BE-D804-4572-AA81-D22ED197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987F-69E2-497C-A07A-377526E7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A337-B968-42F9-B4DD-25D163DC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F20F-044C-49E2-8844-20FC73E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2B4-F069-4483-BF6F-1E68596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8D54-2EED-45D0-912A-94B7E7D5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526F-D984-4859-AC2F-391995AF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3835-4E71-4012-901F-8E764DDB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4FEF-BC11-4D7D-9B99-F8414A32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E05B-269C-49EC-95A3-EDAB0DCC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87F-83F2-4287-8705-9701F8DD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2BF-6687-4EA5-B4CD-B9FD3CDE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CCC-7C2A-4981-94B1-7EF52BD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F78-E9A6-4EF3-8FEB-63DEEB0F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28A-88B6-43FD-A397-BA59AAA1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ABC-84C2-4FEE-8BF2-10FDA2B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617-1A3D-475B-9341-B4CE34B3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EEC5-6780-4EA7-A940-00B5E3A92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518D-96DA-4DA6-8677-3CEAB3911AA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A580-593B-4B43-B072-71DEEB4AC57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EFA8-C2DF-4D09-96E4-F2BC8038B82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Nozione di b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misura minima è determinata da un sistema con due simboli, per cui l’informazione misura 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’unità di misura è u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F2C-898F-42D5-B908-7CEFB33399F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i simbolici e loro mis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’informazione trasportata da un sistema con 4 simboli è 2 bit, con 8 simboli 3 bit, con sedici simboli 4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generale, per sistemi simbolici co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mboli alfabetici la misura dell’informazione trasportata è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n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21E1-7297-44F7-8BA8-05F73359335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it simbol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un alfabeto con due simboli ogni messaggio porta 1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hiamiamo bit anche la codifica simbolica basata su due simbo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altre parola chiamiamo bit una singola cifra binaria (origine effettiva del nome, acronimo d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inary digit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5D2-1BA2-4481-9FBC-376F5408B80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Rappresentazione dell’informazione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qualsiasi numero intero k sia n il più piccolo intero tale che 2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≥ k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Il numero di bit necessari per rappresentare un alfabeto di ordine k è 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Esemp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Per codificare 26 simboli occorrono 5 bit essendo 32=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5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la più piccola potenza del due maggiore o uguale a 26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F5B6-19EC-47C4-A101-358F1418FE2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di memori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dato memorizzato utilizza bit simbolic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sistema di memoria raggruppa i dati in token di 8 bit chiamat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y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di 4, 6 o in alcuni sistemi evoluti 8 byte forma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arola macchin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multipli dell’unità byte sono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Kilobyte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Kb) = 1024 by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egabyt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Mb) = 1024 Kb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igabyt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Gb) = 1024 Mb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039D-D0CA-45AD-B0C8-B89D130FFF8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di ca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canale di comunicazione si misura in informazione trasportata al second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aud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(bs) è l’unità di misura della velocità di trasmissione dell’informazione di un can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ultipli usati per la velocità del modem di ca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Kbs (standard 56 kbs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ultipli usati per la velocità di modem ad alta velocità o per le reti loc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Mbs (standard 10 o 100 Mbs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B1E6-D178-4086-9DD4-B9705DCD288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he simboliche standar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iù diffuso codice simbolico è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SCI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cronimo per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merican Standard Code for Information Interchang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tegrato con le due nuove codifich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NS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UNICOD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merican National Standard Institu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United Nations International COD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C23-80CE-453D-82D4-5727B8DCE1C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ce ASCI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dice ASCII utilizza 1 byte per ogni simbol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dice rappresenta sovrabbondantemente (2 volte)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simboli alfabetici e numerici,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simboli standard della codifica di macchina da scrivere come . , : 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insieme di simboli speciali codificati come caratteri di controllo (del flusso di testo) per azioni di movimento come andare a capo, spaziare, scendere di una linea o di una pagin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2DBC-2A58-4041-8350-2D2BA09C0AE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27880" cy="280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03A5-6C81-4DCF-8065-36CBC70E27B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4278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A212-A285-4440-BC95-F86EB5D18D6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 codifica dell'inform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mboli e messaggi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ura dell'informazion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zione di b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ci digitali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ce ASCII/ANSI/UNICOD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pi di file e metodi di codif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 testo e binar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fica digitale de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itmetica in base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7C7C-9D60-4D07-A77A-996714611B0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41348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382A-5165-486C-9233-C53515AC693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file e metodi di codif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ruttura dei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file è una sequenza d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Esistono due livelli di interpre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ivello della lettura (e trasmissione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ivello della strutturazione dei dat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 livello della lettura e trasmiss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byte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di tes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parola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binar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 livello di strutturazione de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struttura dei record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applic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relazione con il sistema 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operativo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eseguibili e di suppor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ED68-01DE-40BC-B29A-90A13325866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 di testo e bin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ile di testo sono file che si leggono con applicazioni di text editing, cioè applicazioni che leggono byte per byte e trasformano ogni byte in un carattere secondo il codice ASCI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Quindi i file di testo si chiamano anche file ASCI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file binari possono essere letti solamente mediante applicazioni specifiche che conoscono la codifica per quel tipo di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file WORD sono file leggibili solamente con WORD e applicazioni compatibi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file EXCEL sono leggibili solamente con EXC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7360-A623-4683-B637-2A67A988E57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he ASCI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istono codifiche ASCII per tipi di file interpretabili come file non di tes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: PDF, PostScript, HTM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ali file sono file di testo, ma sono intelleggibili secondo il significato della codifica da interpreti che trasformano le codifiche ASCI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ant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pendenza dalla piattafor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CDEE-007C-484A-8C90-59A0956158D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a digitale de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numeri nel calcolatore ammettono interpretazione secondo il codice ASCII, come codifiche ASCII o come numeri in se st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un byte è formato da otto bit, le codifiche in base a potenza del due s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8 cifre binari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2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4 cifre otta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8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2 cifre esadecima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16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DAB2-3622-4D42-A83E-CDB1AF44356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itmetica in base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difica semplice in base 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mma binaria sempl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+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+ 1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+ 0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+ 1 = 1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1ABE-2AB8-48FC-84C5-3B9133E59AB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mma binaria in colonn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la somma in colonna di due numeri comporta il riporto della massima cifra di riporto per la somma di due numeri di una cifra il massimo che possiamo trovare è 1 con il riporto di 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egole sono ovviamente le stesse della somma in colonna per numeri decim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B746-4328-47CA-9BE8-861D05BE92E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somma in colonn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Bookdings"/>
                <a:ea typeface="Bookdings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Bookdings"/>
                <a:ea typeface="Bookdings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10011 +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01010 =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--------------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011101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5B96-04A6-4E53-95E9-D66A21FF14D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dotto di numeri bin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tabelline in base 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*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* 1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*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* 1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466E-702D-4808-B780-9BD3198D556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appresentazione posizio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la notazione di base è ovviamente posizionale una cifr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bas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i posizion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ontando da destra vale come addendo per la cifra rappresentata moltiplicat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* b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3F5-98D0-4BEB-A1BB-CE6960A13A1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munic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zione chiave: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anale di comunic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orgent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un ente in grado di codificare messagg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estina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un ente in grado di decodificare messagg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FA21-9633-4E8F-BF1C-F3672DA6BC0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mbio di b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versione da 2 a 10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 numero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…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 base 2 si ha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…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= 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(m-1)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5D02-DBEB-4C07-88E0-DF91A984929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versione da 10 a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ivisione successiva del numero in base 10 da convertire per du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resto di ogni divisione fornisce la cifra in ordine ultima, penultima, terzultima, eccete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79AE-3787-4684-B6EB-7E333C8F93C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versione da 10 a 2 - 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r" pos="1905120"/>
                <a:tab algn="l" pos="2197080"/>
                <a:tab algn="l" pos="2565360"/>
                <a:tab algn="r" pos="4286160"/>
                <a:tab algn="l" pos="494676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  <a:tab algn="l" pos="8242200"/>
                <a:tab algn="l" pos="8616960"/>
                <a:tab algn="l" pos="8991720"/>
                <a:tab algn="l" pos="9366120"/>
                <a:tab algn="l" pos="9740880"/>
                <a:tab algn="l" pos="10115640"/>
                <a:tab algn="l" pos="10490040"/>
                <a:tab algn="l" pos="108648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ia 2456 il numero da convertire</a:t>
            </a:r>
            <a:br>
              <a:rPr sz="20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45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22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22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1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1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07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07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5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5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7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7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r" pos="1905120"/>
                <a:tab algn="l" pos="2197080"/>
                <a:tab algn="l" pos="2565360"/>
                <a:tab algn="r" pos="4286160"/>
                <a:tab algn="l" pos="494676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  <a:tab algn="l" pos="8242200"/>
                <a:tab algn="l" pos="8616960"/>
                <a:tab algn="l" pos="8991720"/>
                <a:tab algn="l" pos="9366120"/>
                <a:tab algn="l" pos="9740880"/>
                <a:tab algn="l" pos="10115640"/>
                <a:tab algn="l" pos="10490040"/>
                <a:tab algn="l" pos="108648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isultato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456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= 100110011000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2F0-2EFF-4A36-AF67-5249357666C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mboli e messagg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mb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codifica di un contenu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ss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ntenuto di una comunicazione simbol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mezzo di trasmissione dell’inform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B13-872B-4C73-9BDA-4471DB17950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a simbol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sociazione segno alfabetico-mess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cetto di cod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abella che associa un simbolo del codice sorgente ad un numer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otivazione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sare codifiche elementar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numeri sono univers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numeri ammettono codifiche min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24BD-C3D7-4C67-A2E7-937B5469701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ce minim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alfabeto la trasmissione di un simbolo comporta un attesa di messaggio da parte della destin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la destinazione ottiene il messaggio decodifica per un elemento tra quelli disponibili nel codice sorg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BE85-6CC4-4850-B01C-2629DB30E52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for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iù piccolo è il codice sorgente e meno informazione porta il singolo messagg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formazione significativa è minima quando disambigua tra due elementi (50% di possibilità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disambiguazione di un singolo simbolo è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hiamiamo informazione portata da un messaggio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umero di disambiguazioni binari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cessarie per trasmettere il messaggio st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43D3-9FE3-4ABD-858B-3740C65E557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a di un ca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canale porta informazione misurabile come disambiguazione tra n simboli chiamiamo informazione </a:t>
            </a: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rtata dal canale il val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149640" y="4527720"/>
                <a:ext cx="17398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8C72-B442-4DE5-862E-CDBCA738679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b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ogni sistema simbolico, se un singolo simbolo costituisce il sistema ogni trasmissione è priva di inform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fatt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971800" y="3809880"/>
                <a:ext cx="2146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8:01Z</dcterms:modified>
  <cp:revision>31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