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73200" cy="101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3816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720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8440" y="74268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3816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E58443B-2755-4CB6-92FA-7DE27A6A959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D699731-C266-48ED-9162-BED352C2BBF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17A1731-2A2A-47F9-B922-691FF769937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C891CD7-CAAF-4BA5-86A9-6CDD0F62FD2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6E14444-D48D-4305-8F5D-0C6AAA169D2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E86F257-F043-466A-A079-B83D65C27EF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C8C49B7-397C-4B18-B9AA-0182132641F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2921B42-1847-4D01-80A2-7856A37B56D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D9D266C-88AF-4FC3-9BF7-3FEC6BA43DA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DFEDFE5-DDA3-47D7-B17E-4CCB916AB09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867A558-139D-4EA2-8634-A9ACB5E88A4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A6D1818-E32E-4100-9ABB-037F431EAE9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07EDD6C-E39C-46C7-9455-C262437FD8C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00B35F4-AC53-4A98-BF5E-1D2B8096369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70F2AED-6793-476A-848B-7797B9C634A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7333D20-DF46-41BD-9A8D-B0BF5B4BC20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A3ABF26-2616-46BA-A3C5-2BF3C6B1EF0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D11DEC8-B667-456E-801E-FAD59460F51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6555CDA-C585-4389-BC3C-3A6924E6088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33A68EE-7333-44B7-BC59-523FE263667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20033F2-5396-40ED-9D51-CF9BED42D20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39839F5-C612-47D9-97C0-3D89099F44A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10B88D5-BC5D-4A1C-AE51-6DF6BA8D8C7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11B5AD7-86D3-4A7A-AB24-E1CED6CBB22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613EE61-FF8B-4887-B958-F88201E3E19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C2F26EE-AEC6-43D1-892C-5D440888109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5BF526F-2A39-466B-B23B-9688A404A99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87491C9-AF22-4BD1-8FAD-87A487E8835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7158A91-E1F7-4E73-BFEF-207927201A8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8BBD7DD-676C-4265-B20C-80676F49781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ECCB8FD-5205-4CB7-BFBC-0C0BD88E10A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1626B89-451F-4C40-8EA2-FB03B1797EB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E028931-B0B3-432C-9B2D-464BCEBC766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31B2C45-5290-449F-ABEE-F4AF1932B6B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11906B5-EAA5-4CC7-80C7-32F18DC8461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32C8F94-050F-48D4-AF9D-B4024875871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7C7923B-3F28-4AB7-B49C-389780AD2DD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02D32AC-3B60-485D-89E5-CA62869189F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32882D2-E852-4E6E-919F-A01CF9DB402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14E761C-7C34-4235-B1B9-6C0681C5944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0666887-2D00-419D-9871-73CE6EFC3E5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CD61591-0FFC-46F6-9E29-D49CE95F493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AC90CC0-E701-4C4C-81F8-E61C6749688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5861E7C-7CE5-4ED1-8E4C-CD23616627E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3DAFE67-B53C-4347-BC92-630A9EEA5D2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B8968A4-7F32-4C85-B365-16BEBD4B401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E8DABD7-34EF-413A-8882-04B589CB766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B9C8652-BFBE-4920-B5F5-C8B89C91895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4E24413-1945-4CC0-9EFD-38034528A7D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A5D452D-8816-4A78-AA86-FAF9B5843F8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BFC012F-F59E-4548-9EEF-3E93125B5C0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BC990D7-0224-4B4F-8289-93FFE1830E6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7897F1D-2C2A-40D9-84D7-18CDA1FB2F6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85EF920-25DE-4ADF-BB98-2627D8ED425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AE07FCD-FC4F-446A-A619-14941F27D5B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7922B9F-FA80-46B6-9DAB-0BDDB77789B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765540F-7944-4957-82B0-10A255190F1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37C0506-725C-4CDF-8D74-CD7F60DD638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6811552-C057-4BEA-88C0-C1D0F62301D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9CCF-BE49-4873-A984-DCE33AE7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C95-6FCC-40A2-BDE8-D463C69A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DE7E-B118-44A1-9430-926893E9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1640-BAC4-4940-93B4-2BA49CE9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2F97-C944-4D05-B1AB-209773AF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3DA1-AFC5-49A4-9546-CBC184E9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9987-366A-461B-B4D5-255B24A9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D5B5-DDE2-4BF2-BE05-858B9C13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BFFE-EDC5-4404-8197-E47FAC6B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9A65-8659-4DB6-8E69-AEF34E82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F7C7-FDCF-4D95-85F7-19743A2F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8185-6742-4B83-B398-58EC0615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679F-C644-4CA4-9DA1-581CD96A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2C58-80EE-4EC7-9A09-E260293E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0F3C-51C0-448A-A99F-929E66F1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2D50-2970-4B73-874A-5E0C5687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738F-2540-4697-9EE5-36034F13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8FDE-C263-4441-9020-8FBD8362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BBA-4756-48C2-A956-42CEDA52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41FA-37E8-4389-82DA-2E3DA3DD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8AD-D987-4B24-A3C0-28CF0090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EC9-FD0B-4E26-A4A6-F40DD0EF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BAE5-F79F-4F5C-B350-DF7F8F28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A4A-718D-4945-BFB0-D09C34B0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12920"/>
            <a:ext cx="9131400" cy="968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92200"/>
            <a:ext cx="9131400" cy="31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635C-3890-4FAC-8161-64F974E59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6" descr="logouni"/>
          <p:cNvPicPr/>
          <p:nvPr/>
        </p:nvPicPr>
        <p:blipFill>
          <a:blip r:embed="rId2"/>
          <a:stretch/>
        </p:blipFill>
        <p:spPr>
          <a:xfrm>
            <a:off x="114480" y="336600"/>
            <a:ext cx="954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3327480"/>
            <a:ext cx="91314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3606840"/>
            <a:ext cx="9131400" cy="50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46" name="Picture 16" descr="logouni"/>
          <p:cNvPicPr/>
          <p:nvPr/>
        </p:nvPicPr>
        <p:blipFill>
          <a:blip r:embed="rId2"/>
          <a:stretch/>
        </p:blipFill>
        <p:spPr>
          <a:xfrm>
            <a:off x="0" y="1670040"/>
            <a:ext cx="1576440" cy="159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A813-F79F-4306-A022-35E8683C2CB7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4"/>
          <p:cNvSpPr/>
          <p:nvPr/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8DD9-8E6B-4655-89D3-C9276BB1AE8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682360" y="3692880"/>
            <a:ext cx="419652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Times New Roman"/>
              </a:rPr>
              <a:t>Matteo Cristani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partimento di Informatica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Facoltà di Scienze MM. FF. NN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iversità degli Studi di Verona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http://www.sci.univr.it/~cristani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2680" y="1447920"/>
            <a:ext cx="7709040" cy="16761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rso di Informatica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8E6A-D42A-4691-A408-7BDC0E1596A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Il concetto di linguaggio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a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un alfabeto,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 denota l’insieme delle stringhe su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 baseline="30000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denota l’insieme delle stringhe su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tranne la stringa vuot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 baseline="30000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 - {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Linguagg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ottoinsieme delle stringhe su di un alfabe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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7188-5D1D-4EA1-B322-5ABC9EB4A85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Un esempi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= {a,b,c}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* = {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, a, b, c, aa, ab, ac, ba, bb, bc, ca, cb, cc, aaa, aab, aac, …}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linguagg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 = {a, aa, aaa, aaaa, aaaaa, …}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520E-D5BF-49A8-9AC3-C9DF7A664C0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rammatiche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Dato un alfabeto 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detto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alfabeto terminale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alfabeto 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detto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alfabeto nonterminale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elemento s dell’alfabeto nonterminale detto simbolo distinto,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insieme P di regole di produzione che trasformano stringhe di (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T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∪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)* in stringhe nonvuote su 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T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∪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quadrupla &lt; 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s,P&gt; è detta un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grammatic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6560-F44F-4E77-8449-0D423D9E002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rammatiche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te due stringhe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e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di (V</a:t>
            </a:r>
            <a:r>
              <a:rPr b="0" lang="it-IT" sz="3200" spc="-1" strike="noStrike" baseline="-25000">
                <a:solidFill>
                  <a:srgbClr val="0000ff"/>
                </a:solidFill>
                <a:latin typeface="Times New Roman"/>
              </a:rPr>
              <a:t>T 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∪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V</a:t>
            </a:r>
            <a:r>
              <a:rPr b="0" lang="it-IT" sz="32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* diremo che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deriva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⇒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se e solo se scrives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= x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y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= x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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n x, y,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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in (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T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∪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)*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’è una regola di produzione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→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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22BA-F544-4CF7-A501-3AF85BC3C39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rammatiche (3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stringa è derivata indirettamente da un’altra quando si può compiere una sequenza di passi di derivazione che conduce dalla prima alla seconda string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linguaggio generato da una grammatic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è costituito dall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stringhe terminali derivate indirettamente dal simbolo distin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stringa del linguaggio generato da una grammatica si dic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sinttaticamente corretta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 la grammatica stess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72B3-F1AE-428A-857D-00DA0CBFD3B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rammatiche (4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linguaggio generato da una grammatica si dice grammatic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MPORTANTISSIMO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linguaggio è grammaticale se e solo se è riconoscibile da una macchina a sta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6A1D-B9CC-4408-B0BA-5FD3B428B26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Osservazioni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onostante gli alfabeti siano insiemi finiti i linguaggi possono essere infiniti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stringa vuota è uguale per qualsiasi alfabe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79C7-1CFD-4FFB-9F86-D683F359067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Osservazioni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e lettere dell’Italiano sono simboli di un alfabe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ossiamo vedere come linguaggio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l lessico (radici e desinenze delle parole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l vocabolario (l’insieme delle parole italiane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e strutture frasali (sintagmi) italiane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Il giovane biologo veronese”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L’arguto giurista in erba scaligero”;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L’interessante corso di Informatica”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e frasi ed i periodi Italiani: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La lezione si fece stimolante”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La pausa per il caffè era peraltro cogente”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645A-4605-4E5A-A3FB-2BE10DD8898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roblemi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hiamiamo 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ROBLEMA DI RICONOSCIMENTO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i un linguaggio L su di un alfabeto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, il problema di stabilire se una data stringa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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in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* sia in L o n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Ogni stringa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si dice una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istanza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del problem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8923-C7F9-4247-BDA2-E77323FAB57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eneralità sulle funzioni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iano A e B due insiemi, diciamo</a:t>
            </a:r>
            <a:br>
              <a:rPr sz="2800"/>
            </a:b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Prodotto Cartesiano A</a:t>
            </a:r>
            <a:r>
              <a:rPr b="1" lang="it-IT" sz="20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╳</a:t>
            </a: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’insieme delle coppie ordinate di elementi </a:t>
            </a: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di A e B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hiamiamo relazione tra A e B un sottoinsieme del prodotto cartesiano di A e B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 una relazione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definita tra A e B definiamo A il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dominio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di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 e B il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codominio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di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5CB3-0EEB-4513-8307-8E7418A0A0E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cetto di algoritmo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goritmi e programm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cchina a stat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nguaggi e calcolabilità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nguaggi di Programmazion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45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mantica operazional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45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unzioni e denotazion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quivalenza funzionale e computazional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difica dei da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Tipi elementar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Strutture di dat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9E9C-6652-47AF-99A6-4325561338B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eneralità sulle funzioni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funzione è una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relazione univoca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, cioè una relazione che ad ogni elemento del dominio associa al più un elemento del codomin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funzione che associa sempre ad un elemento del dominio un elemento del codominio si dic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tot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E499-01AA-4962-B7B5-33143F856F3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eneralità sulle funzioni (3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to un elemento x del dominio l’elemento in relazione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con x nel codominio si indica con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(x) e si dice l’immagine di x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to un elemento y nel codominio, se vale y =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(x), allora si dice che x è la controimmagine di y secondo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9C15-AE71-4122-9997-418262187A1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eneralità sulle funzioni (4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funzione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si dic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iniettiv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se ad elementi distinti del dominio associa elementi distinti del codominio:</a:t>
            </a: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≠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y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→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x)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≠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y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funzione si dic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suriettiv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se ogni elemento del codominio ha controimmagine</a:t>
            </a: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∀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∃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[y =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x)]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funzione sia iniettiva che suriettiva si dic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biiettiv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o biunivoc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5446-9D17-46F7-805D-64D14F3357C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={0,1}; B={a,b}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A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╳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B = {(0,a);(0,b);(1,a);(1,b)}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Relazione determinata da 1 va con b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R={(0,a);(0,b);(1,b)}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27A6-8DE7-49BF-8B86-D273785F101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ia A=naturali (</a:t>
            </a:r>
            <a:r>
              <a:rPr b="1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ℕ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) e B=natura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Funzione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=n</a:t>
            </a:r>
            <a:r>
              <a:rPr b="0" lang="it-IT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prietà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Iniettiv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Non suriettiv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Funzione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 = maxdiv(n) [che trova il massimo divisore di n strettamente minore di n]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prietà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Non iniettiv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Suriettiv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A88C-CFB7-4D90-B509-73FF7A5D857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roblemi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a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una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funzion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dai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numeri naturali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in se stessi (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: </a:t>
            </a:r>
            <a:r>
              <a:rPr b="1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ℕ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ℕ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Dato un numero naturale n chiamiamo </a:t>
            </a: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PROBLEMA DI CALCOL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Trovare f(n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ti due numeri naturali m ed n chiamiamo </a:t>
            </a: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PROBLEMA DI DECIS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Stabilire se vale f(n) = 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C1E8-98F4-45A8-AF19-C1062B45F45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cetto di calcolabilità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funzione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si dic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calcolabil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se e solo se esiste una macchina a stati che è in grado di leggere n in input e scrivere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(n) in output in un tempo fini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funzione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totale e calcolabile si dic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totalmente calcolabi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BE46-BBB7-49CC-9307-1BA11E94BBA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quivalenza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Ogni problema di decisione può essere risolto se so risolvere il corrispondente problema di calcol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 decidere se m=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 calcolo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 e stabilisco se vale l’uguaglianz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eno ovviamente vale anche il contrar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 so stabilire quando m=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 per calcolare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 enumero da 1 in avanti e risolvo 1=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, 2=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,… fino a quando il risultato è vero. Il valore stabilito è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DE43-4FB0-4AA5-AFF9-910D7FA56F0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quivalenza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problema di decisione corrisponde ad un problema di riconoscimento e vicevers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 stabilire che questo è vero è sufficiente ricordare che l’insieme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 è ovviament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numerabile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(anche detto di cardinalità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ℵ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  <a:ea typeface="Arial Unicode MS"/>
              </a:rPr>
              <a:t>0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)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vvero corrispondente biunivocamente ad </a:t>
            </a:r>
            <a:r>
              <a:rPr b="1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ℕ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tramite una funzione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h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Una volta enumerato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 il problema di riconoscimento per una stringa corrisponde a stabilire se vale per una funzione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))=1 (inteso come codifica per il vero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63D1-8953-4D07-BBCD-7394F9A319F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quivalenza (2) - continu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 un problema di decisione ogni istanza del problema può definirsi come una istanza di un problema di riconoscimen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Enumeriamo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ℕ</a:t>
            </a:r>
            <a:r>
              <a:rPr b="0" lang="it-IT" sz="2400" spc="-1" strike="noStrike" baseline="30000">
                <a:solidFill>
                  <a:srgbClr val="0000ff"/>
                </a:solidFill>
                <a:latin typeface="Times New Roman"/>
                <a:ea typeface="Arial Unicode MS"/>
              </a:rPr>
              <a:t>2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. Enumeriamo 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* per un dato alfabeto 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e costruiamo la corrispondenza biunivoca composta da 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* all’enumerazione di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ℕ</a:t>
            </a:r>
            <a:r>
              <a:rPr b="0" lang="it-IT" sz="2400" spc="-1" strike="noStrike" baseline="30000">
                <a:solidFill>
                  <a:srgbClr val="0000ff"/>
                </a:solidFill>
                <a:latin typeface="Times New Roman"/>
                <a:ea typeface="Arial Unicode MS"/>
              </a:rPr>
              <a:t>2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Ogni coppia di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ℕ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corrisponde ora ad una stringa in 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*. Sia L il linguaggio delle stringhe che corrispondono ad una coppia (m,n) tale che </a:t>
            </a:r>
            <a:r>
              <a:rPr b="1" i="1" lang="it-IT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n)=m. Riconoscere L corrisponde a risolvere il problema di decisione per </a:t>
            </a:r>
            <a:r>
              <a:rPr b="1" i="1" lang="it-IT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D015-AAB3-4296-8BF3-B5BC1F7C575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acchina a stati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ormalizzazione del concetto di calcol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Operazioni base di una macchina a stati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ettura dell’inpu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crittura dell’outpu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Transizione di sta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Memorizzazione da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AF33-F651-41E6-9807-A7D331C9CFE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roblemi paradigmatic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te le equivalenze sopradette, i problemi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paradigmatici 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ono quelli di riconoscimen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calcolabilità è definita mediante macchine a sta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Quindi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: l’obiettivo dell’informatica teorica è definire tecniche per risolvere problemi di riconoscimento mediante macchine a sta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C7C2-A5F0-4D03-BBD7-73A8D59BF86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Linguaggi di programmazio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linguaggio di programmazione è un linguaggio grammaticale il cui scopo è descrivere tecniche di risoluzione di problemi in modo che attraverso un meccanismo automatico si possa fare applicare tali tecniche su di una macchina a sta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token di un linguaggio di programmazione (simboli dell’alfabeto su cui è costruito) si chiamano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istruzion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4774-F4C1-441E-8E87-C8F98FD34D6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Linguaggi di programmazio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stringa sintatticamente corretta di un linguaggio di programmazione si dice un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rogram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 semantica operazionale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di un linguaggio di programmazione corrisponde ad un insieme di regole che trasformano programmi in macchine a sta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 semantica denotazionale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di un linguaggio di programmazione corrisponde ad un insieme di regole che trasformano un programma nella funzione da esso calcolat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BC95-7025-4906-B32E-7E3135A1334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linguaggio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le istruzioni di un linguaggio di programmazione vengono tradotte in comandi eseguibili dalla macchina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istruzioni macchina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 una per volta il linguaggio di programmazione si dic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interpreta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programma che effettua la traduzione si dice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 interpre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F1D1-0779-4187-A2BF-B9869A1F931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linguaggio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ogni programma di un linguaggio di programmazione viene tradotto in una sequenza di istruzioni macchina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codice eseguibil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 il linguaggio di programmazione si dic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compila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programma che effettua la traduzione si dice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 compila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8E59-C5D2-427E-83A1-E83A64492C2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linguaggio (3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programma eseguibile può essere in realtà strutturato in comandi eseguibili direttamente dalla macchina ma anche in comandi eseguibili d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macchine virtua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macchina virtuale è un programma che conosce un codice intermedio tra quello ad alto livello del linguaggio di programmazione e quello della macchina fisic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Tale codice prende il nome d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-cod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FC2E-1C6A-4AF5-8BC5-515B3CFCE9A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rchitettura dei linguagg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ntassi del linguaggio e sua analis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ARSER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mantica del linguagg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TERPRE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MPILATO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Esecuzione di programm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Run-Time Suppor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7E17-5ECF-4E9E-AE1A-51421913241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aradigmi di programmazione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paradigma di programmazione è un modo di vedere la macchina che esegue i programm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Esecuzione di p-code come semantica operazion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A590-5F74-43C0-ACA3-8B1F9C9F2FB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aradigmi di programmazione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inguaggi imperativ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computazione è modellata come l’esecuzione di ordini da parte di un “servo”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inguaggi dichiarativ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a computazione è modellata come un calcolo strutturato d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Funzioni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paradigma funzionale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Condizioni logiche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paradigma logico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BE6E-1A7F-4F53-A15A-569B3B07ECF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quivalenza di programm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ue programmi che computano la stessa funzione possono farlo in modo profondamente divers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due programmi computano la stessa funzione si dice che sono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funzionalmente equivalen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due programmi che computano la stessa funzione lo fanno nello stesso modo si dice che sono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lgoritmicamente equivalen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E420-5C69-4BDA-9F42-12EFE6F32F1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acchina a stati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alcolo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tato inizia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quenza di caratteri di inpu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quenza di stati ed azioni di trasformazione dell’inpu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quenza di scritture dell’outpu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tati fina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3841-BDAB-446C-9575-0AFA58AABCC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lgoritm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ciò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Algoritmo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è la forma astratta di un programma, essendo due programmi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implementazioni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ello stesso algoritmo se computano la stessa funzione nello stesso mod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Necessità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 modo semplice e generale di descrivere gli algoritm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seudolinguaggi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a forma non implementata di linguaggio di programmazione che contenga le strutture base dei linguaggi di programmazione (imperativi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016D-89B8-4FD6-88DF-13A6A0AC79B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trutture fondamental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unzioni bas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ntrollo di fluss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ettura di da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crittura di da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ssegnamento di valori 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variabi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8660-1F08-427E-94A0-80BC0609356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trollo di flusso: sequenz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truttura di controllo per fare eseguire due istruzioni una dopo l’altr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rappresentazione normalmente adottata è di utilizzare un separatore di linea esplicito /il punto e virgola) o implicito (a capo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5410080" y="2819520"/>
            <a:ext cx="266724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Istruzione 1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5410080" y="4038480"/>
            <a:ext cx="266724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Istruzione 2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cxnSp>
        <p:nvCxnSpPr>
          <p:cNvPr id="255" name="AutoShape 8"/>
          <p:cNvCxnSpPr>
            <a:stCxn id="253" idx="2"/>
            <a:endCxn id="254" idx="0"/>
          </p:cNvCxnSpPr>
          <p:nvPr/>
        </p:nvCxnSpPr>
        <p:spPr>
          <a:xfrm>
            <a:off x="6743520" y="335232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p:transition>
    <p:wipe dir="l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4818-7CC4-40B0-9909-E0FE2195B86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trollo di flusso: selezio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429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truttura di controllo per fare eseguire una istruzione se vale una condizione ed un’altra altrimen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a struttura generalmente si rappresenta mediante la codifica</a:t>
            </a:r>
            <a:br>
              <a:rPr sz="2400"/>
            </a:b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se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condizion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allora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istr. 1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altrimenti 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istr. 2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5105520" y="4038480"/>
            <a:ext cx="121896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Istr. 1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5029200" y="2514600"/>
            <a:ext cx="3048120" cy="838080"/>
          </a:xfrm>
          <a:prstGeom prst="flowChartDecision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condizione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858000" y="4038480"/>
            <a:ext cx="121932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Istr. 2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grpSp>
        <p:nvGrpSpPr>
          <p:cNvPr id="262" name="Group 16"/>
          <p:cNvGrpSpPr/>
          <p:nvPr/>
        </p:nvGrpSpPr>
        <p:grpSpPr>
          <a:xfrm>
            <a:off x="5714640" y="3352320"/>
            <a:ext cx="838440" cy="686160"/>
            <a:chOff x="5714640" y="3352320"/>
            <a:chExt cx="838440" cy="686160"/>
          </a:xfrm>
        </p:grpSpPr>
        <p:cxnSp>
          <p:nvCxnSpPr>
            <p:cNvPr id="263" name="AutoShape 10"/>
            <p:cNvCxnSpPr>
              <a:stCxn id="260" idx="2"/>
              <a:endCxn id="259" idx="0"/>
            </p:cNvCxnSpPr>
            <p:nvPr/>
          </p:nvCxnSpPr>
          <p:spPr>
            <a:xfrm rot="5400000">
              <a:off x="5790600" y="3276360"/>
              <a:ext cx="686520" cy="838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4" name="Text Box 12"/>
            <p:cNvSpPr/>
            <p:nvPr/>
          </p:nvSpPr>
          <p:spPr>
            <a:xfrm>
              <a:off x="5717160" y="335268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0000"/>
                  </a:solidFill>
                  <a:latin typeface="Arial"/>
                </a:rPr>
                <a:t>vero</a:t>
              </a:r>
              <a:endParaRPr b="0" lang="en-US" sz="16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grpSp>
        <p:nvGrpSpPr>
          <p:cNvPr id="265" name="Group 15"/>
          <p:cNvGrpSpPr/>
          <p:nvPr/>
        </p:nvGrpSpPr>
        <p:grpSpPr>
          <a:xfrm>
            <a:off x="6553080" y="3352320"/>
            <a:ext cx="977040" cy="686160"/>
            <a:chOff x="6553080" y="3352320"/>
            <a:chExt cx="977040" cy="686160"/>
          </a:xfrm>
        </p:grpSpPr>
        <p:cxnSp>
          <p:nvCxnSpPr>
            <p:cNvPr id="266" name="AutoShape 11"/>
            <p:cNvCxnSpPr>
              <a:stCxn id="260" idx="2"/>
              <a:endCxn id="261" idx="0"/>
            </p:cNvCxnSpPr>
            <p:nvPr/>
          </p:nvCxnSpPr>
          <p:spPr>
            <a:xfrm flipH="1" rot="16200000">
              <a:off x="6667200" y="3237840"/>
              <a:ext cx="686520" cy="915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Text Box 14"/>
            <p:cNvSpPr/>
            <p:nvPr/>
          </p:nvSpPr>
          <p:spPr>
            <a:xfrm>
              <a:off x="6919560" y="335268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0000"/>
                  </a:solidFill>
                  <a:latin typeface="Arial"/>
                </a:rPr>
                <a:t>falso</a:t>
              </a:r>
              <a:endParaRPr b="0" lang="en-US" sz="16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</p:spTree>
  </p:cSld>
  <p:transition>
    <p:wipe dir="l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5419-9EB9-48C1-AE77-9075EBBD00B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trollo di flusso: cicl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429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truttura di controllo per fare eseguire ripetutamente una istruzione se vale una condizione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a struttura generalmente si rappresenta mediante la codifica</a:t>
            </a:r>
            <a:br>
              <a:rPr sz="2400"/>
            </a:b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fintantoché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condizion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istruz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5943600" y="4114800"/>
            <a:ext cx="121932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Istr. 1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5029200" y="2514600"/>
            <a:ext cx="3048120" cy="838080"/>
          </a:xfrm>
          <a:prstGeom prst="flowChartDecision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condizione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019920" y="5334120"/>
            <a:ext cx="121896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Istr. 2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cxnSp>
        <p:nvCxnSpPr>
          <p:cNvPr id="274" name="AutoShape 13"/>
          <p:cNvCxnSpPr>
            <a:stCxn id="271" idx="2"/>
            <a:endCxn id="272" idx="1"/>
          </p:cNvCxnSpPr>
          <p:nvPr/>
        </p:nvCxnSpPr>
        <p:spPr>
          <a:xfrm flipV="1" rot="16200000">
            <a:off x="4933080" y="3028320"/>
            <a:ext cx="1715400" cy="1524600"/>
          </a:xfrm>
          <a:prstGeom prst="bentConnector4">
            <a:avLst>
              <a:gd name="adj1" fmla="val -13329"/>
              <a:gd name="adj2" fmla="val 1149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75" name="Group 16"/>
          <p:cNvGrpSpPr/>
          <p:nvPr/>
        </p:nvGrpSpPr>
        <p:grpSpPr>
          <a:xfrm>
            <a:off x="5945760" y="3352320"/>
            <a:ext cx="607320" cy="762480"/>
            <a:chOff x="5945760" y="3352320"/>
            <a:chExt cx="607320" cy="762480"/>
          </a:xfrm>
        </p:grpSpPr>
        <p:sp>
          <p:nvSpPr>
            <p:cNvPr id="276" name="Text Box 9"/>
            <p:cNvSpPr/>
            <p:nvPr/>
          </p:nvSpPr>
          <p:spPr>
            <a:xfrm flipH="1">
              <a:off x="5945760" y="350532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0000"/>
                  </a:solidFill>
                  <a:latin typeface="Arial"/>
                </a:rPr>
                <a:t>vero</a:t>
              </a:r>
              <a:endParaRPr b="0" lang="en-US" sz="1600" spc="-1" strike="noStrike">
                <a:solidFill>
                  <a:srgbClr val="dddddd"/>
                </a:solidFill>
                <a:latin typeface="Arial"/>
              </a:endParaRPr>
            </a:p>
          </p:txBody>
        </p:sp>
        <p:cxnSp>
          <p:nvCxnSpPr>
            <p:cNvPr id="277" name="AutoShape 14"/>
            <p:cNvCxnSpPr>
              <a:stCxn id="272" idx="2"/>
              <a:endCxn id="271" idx="0"/>
            </p:cNvCxnSpPr>
            <p:nvPr/>
          </p:nvCxnSpPr>
          <p:spPr>
            <a:xfrm flipH="1">
              <a:off x="6552360" y="3352320"/>
              <a:ext cx="10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8" name="Group 17"/>
          <p:cNvGrpSpPr/>
          <p:nvPr/>
        </p:nvGrpSpPr>
        <p:grpSpPr>
          <a:xfrm>
            <a:off x="7238160" y="2933280"/>
            <a:ext cx="1069560" cy="2667600"/>
            <a:chOff x="7238160" y="2933280"/>
            <a:chExt cx="1069560" cy="2667600"/>
          </a:xfrm>
        </p:grpSpPr>
        <p:sp>
          <p:nvSpPr>
            <p:cNvPr id="279" name="Text Box 12"/>
            <p:cNvSpPr/>
            <p:nvPr/>
          </p:nvSpPr>
          <p:spPr>
            <a:xfrm>
              <a:off x="7697160" y="388620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0000"/>
                  </a:solidFill>
                  <a:latin typeface="Arial"/>
                </a:rPr>
                <a:t>falso</a:t>
              </a:r>
              <a:endParaRPr b="0" lang="en-US" sz="1600" spc="-1" strike="noStrike">
                <a:solidFill>
                  <a:srgbClr val="dddddd"/>
                </a:solidFill>
                <a:latin typeface="Arial"/>
              </a:endParaRPr>
            </a:p>
          </p:txBody>
        </p:sp>
        <p:cxnSp>
          <p:nvCxnSpPr>
            <p:cNvPr id="280" name="AutoShape 15"/>
            <p:cNvCxnSpPr>
              <a:stCxn id="272" idx="3"/>
              <a:endCxn id="273" idx="3"/>
            </p:cNvCxnSpPr>
            <p:nvPr/>
          </p:nvCxnSpPr>
          <p:spPr>
            <a:xfrm flipH="1">
              <a:off x="7238160" y="2933280"/>
              <a:ext cx="839160" cy="2667960"/>
            </a:xfrm>
            <a:prstGeom prst="bentConnector3">
              <a:avLst>
                <a:gd name="adj1" fmla="val -2725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wipe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A18D-8D9D-4E4F-887D-0FB3822C343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Nozione di variabi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ariabi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Nom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ip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Valo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nome di variabile è valido, generalmente se è alfanumerico con limiti all’impiego di operatori aritmetici e se inizia con una letter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ccorrono costrutti per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efinire tip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ttribuire tipi alle variabil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29FD-00A2-40B5-B679-B9DC85B6F32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ltre istruzioni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ssegnamen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← v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Sottocaso: incremen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← x + 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Lettu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read(x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Scrittu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write(x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90FD-5B32-45D2-B555-E76606AB89A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dat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pi elementari/struttura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pi predefiniti/uten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strutti di definizione di tip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strutti di binding (assegnamento di tipo alle variabili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Regole di compatibilità tra tip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BCFB-8D6F-47FD-9A82-0089B412D87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elementar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Tipi elementari predefini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nteri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numeri relativi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Short/long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Rang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Reali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numeri con la virgola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Float/Doubl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Range e precision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aratter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caratteri alfanumerici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tringh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sequenze di caratteri alfanumerici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ogico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vero o falso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FA14-6312-4286-A40B-493CE3BFEBF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enumerativ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 tipi enumerativi sono tipi utente elementari costituiti da un elenco di tutti e soli i possibili valori del tipo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Esempio: colori dell’arcobalen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{rosso, arancione, giallo, verde, blu, indaco, violetto}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0910-BA30-43DE-B6CD-07154F0BD1F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08" name="Object 5"/>
          <p:cNvGraphicFramePr/>
          <p:nvPr/>
        </p:nvGraphicFramePr>
        <p:xfrm>
          <a:off x="685800" y="1676520"/>
          <a:ext cx="77724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appresentazione a graf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B0FF-BC2E-43E4-A88C-67E007FDFC2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strutturat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trutture statich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Recor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trutture dinamich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is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lber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Fi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28EF-6EA3-43E8-A449-7BE60C44AE9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ccesso agli element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trutture ad accesso diretto o casuale sono quelle che permettono di leggere e scrivere elementi della struttura senza aver prima scandito altri elemen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trutture ad accesso sequenziale sono quelle che invece richiedono che la lettura di un elemento segua la lettura di altri elementi che precedono l’elemento detto nell’ordine di scansione della struttu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C9A3-F8A3-4482-B0F0-99BEE0E30BD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rr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array è un oggetto formato da un insieme accessibile direttamente di oggetti tutti dello stesso tip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Gli indici di accesso sono un tipo enumerativo ovvero numeri inter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array è definito dalla sua dimensione strutturale (un array di dimensioni strutturale 1è un vettore, uno di dimensione strutturale 2 è una matrice) e dalle dimensioni relative (un vettore di dieci elementi è di dimensione relative 10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DA60-ACC4-48A5-8DD7-20D18F4A8D4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rr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Esempio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rray di dimensione strutturale 1 e dimensione relativa 7 di numeri interi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3657600" y="4572000"/>
                <a:ext cx="133344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  <m:m>
                          <m:mr>
                            <m:e/>
                            <m:e/>
                          </m:mr>
                        </m:m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5"/>
              <p:cNvSpPr txBox="1"/>
              <p:nvPr/>
            </p:nvSpPr>
            <p:spPr>
              <a:xfrm>
                <a:off x="3657600" y="3200400"/>
                <a:ext cx="1879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4,5,2,3,5,11,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Text Box 6"/>
          <p:cNvSpPr/>
          <p:nvPr/>
        </p:nvSpPr>
        <p:spPr>
          <a:xfrm>
            <a:off x="762120" y="3581280"/>
            <a:ext cx="940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rray di dimensione strutturale 2 e dimensioni 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  relative 2 e 4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1188-696F-4082-98DC-30DC6BF33E5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ecor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record è un oggetto formato da un insieme accessibile direttamente di oggetti di tipi diversi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Gli indici di accesso sono nomi validi di variabi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40C6-5F7A-4EF3-BD56-FD15DCC0305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List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lista si costruisce aggiungendo un elemento in coda ad una lista esistente, che può essere vuo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leggere una lista abbiamo due operatori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o per ritornare il valore della posizione corre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o per spostare la posizione corrente in avan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1417-77B7-4666-93A9-31D920C257F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raf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grafo (diretto) è una coppia &lt;V,E&gt; in cui E è un insieme di coppie di V, gli elementi di V si chiamano vertici, gli elementi di E arch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sequenza di vertici di un grafo è un percorso se e solo se ogni coppia di vertici in sequenza è un arc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grafo si dice aciclico se  e solo se non contiene percorsi circolari (cioè che iniziano e terminano con lo stesso vertice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994D-F1D7-4D7B-998A-00219466D88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lber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albero è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grafo diretto aciclico dov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vertice è puntato da al più un altro vertic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’insieme dei vertici non puntati è un singolet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lista è un albero i cui elementi puntano al più un altro elemen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3FF0-CBEA-49E2-8669-37FF673CF08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Fi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 file sono sequenze accessibili anche mediante indici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 differenziano dalle liste per avere potenzialmente molti punti d’access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09DC-792A-4C0D-B41A-D7CD9D63870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o di macchina a stati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apparecchio telefonico può essere riguardato come una macchina a sta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tato iniziale: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gnale assente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s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tati intermedi: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gn. di linea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s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gn. di libero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s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gn. di occupato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s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gn. di assenza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 linea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s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tato finale: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onversazione 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onclusa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s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inguaggio riconosciuto: Attivazione di una conversazione telefonic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180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E506-8DDC-43CC-8C28-870F1C69902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o di macchina a stati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odello di funzionamen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tato iniziale: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gnale asse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quenza: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Accesso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a)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 linea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Componi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c)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 libero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Conversazion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p) altrimenti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 occupato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Concludi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e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B062-DC23-4222-A42C-80B8905D516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o di macchina a stati (3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19" name="Group 1066"/>
          <p:cNvGrpSpPr/>
          <p:nvPr/>
        </p:nvGrpSpPr>
        <p:grpSpPr>
          <a:xfrm>
            <a:off x="1371600" y="1676520"/>
            <a:ext cx="6553440" cy="4419360"/>
            <a:chOff x="1371600" y="1676520"/>
            <a:chExt cx="6553440" cy="4419360"/>
          </a:xfrm>
        </p:grpSpPr>
        <p:sp>
          <p:nvSpPr>
            <p:cNvPr id="120" name="Text Box 1061"/>
            <p:cNvSpPr/>
            <p:nvPr/>
          </p:nvSpPr>
          <p:spPr>
            <a:xfrm>
              <a:off x="5945400" y="1676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121" name="Group 1065"/>
            <p:cNvGrpSpPr/>
            <p:nvPr/>
          </p:nvGrpSpPr>
          <p:grpSpPr>
            <a:xfrm>
              <a:off x="1371600" y="1781280"/>
              <a:ext cx="6553440" cy="4314600"/>
              <a:chOff x="1371600" y="1781280"/>
              <a:chExt cx="6553440" cy="4314600"/>
            </a:xfrm>
          </p:grpSpPr>
          <p:sp>
            <p:nvSpPr>
              <p:cNvPr id="122" name="Oval 1029"/>
              <p:cNvSpPr/>
              <p:nvPr/>
            </p:nvSpPr>
            <p:spPr>
              <a:xfrm>
                <a:off x="1371600" y="4114800"/>
                <a:ext cx="762120" cy="76212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23" name="Oval 1030"/>
              <p:cNvSpPr/>
              <p:nvPr/>
            </p:nvSpPr>
            <p:spPr>
              <a:xfrm>
                <a:off x="2971800" y="2895480"/>
                <a:ext cx="762120" cy="76212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24" name="Oval 1031"/>
              <p:cNvSpPr/>
              <p:nvPr/>
            </p:nvSpPr>
            <p:spPr>
              <a:xfrm>
                <a:off x="2895480" y="5334120"/>
                <a:ext cx="762120" cy="76176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25" name="Oval 1032"/>
              <p:cNvSpPr/>
              <p:nvPr/>
            </p:nvSpPr>
            <p:spPr>
              <a:xfrm>
                <a:off x="5334120" y="2133720"/>
                <a:ext cx="761760" cy="76176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26" name="Oval 1033"/>
              <p:cNvSpPr/>
              <p:nvPr/>
            </p:nvSpPr>
            <p:spPr>
              <a:xfrm>
                <a:off x="5334120" y="3657600"/>
                <a:ext cx="761760" cy="76212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cxnSp>
            <p:nvCxnSpPr>
              <p:cNvPr id="127" name="AutoShape 1034"/>
              <p:cNvCxnSpPr>
                <a:stCxn id="122" idx="0"/>
                <a:endCxn id="123" idx="2"/>
              </p:cNvCxnSpPr>
              <p:nvPr/>
            </p:nvCxnSpPr>
            <p:spPr>
              <a:xfrm flipH="1" flipV="1" rot="5400000">
                <a:off x="1942560" y="3085560"/>
                <a:ext cx="838800" cy="12200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8" name="AutoShape 1035"/>
              <p:cNvCxnSpPr>
                <a:stCxn id="122" idx="4"/>
                <a:endCxn id="124" idx="2"/>
              </p:cNvCxnSpPr>
              <p:nvPr/>
            </p:nvCxnSpPr>
            <p:spPr>
              <a:xfrm flipH="1" rot="16200000">
                <a:off x="1904040" y="4724280"/>
                <a:ext cx="838800" cy="1143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9" name="AutoShape 1036"/>
              <p:cNvCxnSpPr>
                <a:stCxn id="123" idx="0"/>
                <a:endCxn id="125" idx="2"/>
              </p:cNvCxnSpPr>
              <p:nvPr/>
            </p:nvCxnSpPr>
            <p:spPr>
              <a:xfrm flipH="1" flipV="1" rot="5400000">
                <a:off x="4152600" y="1713960"/>
                <a:ext cx="381600" cy="198216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0" name="AutoShape 1037"/>
              <p:cNvCxnSpPr>
                <a:stCxn id="123" idx="4"/>
                <a:endCxn id="126" idx="2"/>
              </p:cNvCxnSpPr>
              <p:nvPr/>
            </p:nvCxnSpPr>
            <p:spPr>
              <a:xfrm flipH="1" rot="16200000">
                <a:off x="4152960" y="2856960"/>
                <a:ext cx="381600" cy="198216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31" name="Oval 1040"/>
              <p:cNvSpPr/>
              <p:nvPr/>
            </p:nvSpPr>
            <p:spPr>
              <a:xfrm>
                <a:off x="1447920" y="4191120"/>
                <a:ext cx="609480" cy="60948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2" name="Text Box 1041"/>
              <p:cNvSpPr/>
              <p:nvPr/>
            </p:nvSpPr>
            <p:spPr>
              <a:xfrm>
                <a:off x="1605600" y="426708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ff"/>
                    </a:solidFill>
                    <a:latin typeface="Arial"/>
                  </a:rPr>
                  <a:t>s</a:t>
                </a:r>
                <a:r>
                  <a:rPr b="0" lang="it-IT" sz="1800" spc="-1" strike="noStrike" baseline="-25000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3" name="Text Box 1042"/>
              <p:cNvSpPr/>
              <p:nvPr/>
            </p:nvSpPr>
            <p:spPr>
              <a:xfrm>
                <a:off x="3131280" y="312408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ff"/>
                    </a:solidFill>
                    <a:latin typeface="Arial"/>
                  </a:rPr>
                  <a:t>s</a:t>
                </a:r>
                <a:r>
                  <a:rPr b="0" lang="it-IT" sz="1800" spc="-1" strike="noStrike" baseline="-25000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4" name="Text Box 1043"/>
              <p:cNvSpPr/>
              <p:nvPr/>
            </p:nvSpPr>
            <p:spPr>
              <a:xfrm>
                <a:off x="3129840" y="550080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ff"/>
                    </a:solidFill>
                    <a:latin typeface="Arial"/>
                  </a:rPr>
                  <a:t>s</a:t>
                </a:r>
                <a:r>
                  <a:rPr b="0" lang="it-IT" sz="1800" spc="-1" strike="noStrike" baseline="-25000">
                    <a:solidFill>
                      <a:srgbClr val="0000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5" name="Text Box 1044"/>
              <p:cNvSpPr/>
              <p:nvPr/>
            </p:nvSpPr>
            <p:spPr>
              <a:xfrm>
                <a:off x="5493600" y="23623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ff"/>
                    </a:solidFill>
                    <a:latin typeface="Arial"/>
                  </a:rPr>
                  <a:t>s</a:t>
                </a:r>
                <a:r>
                  <a:rPr b="0" lang="it-IT" sz="18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6" name="Text Box 1045"/>
              <p:cNvSpPr/>
              <p:nvPr/>
            </p:nvSpPr>
            <p:spPr>
              <a:xfrm>
                <a:off x="5493600" y="388620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ff"/>
                    </a:solidFill>
                    <a:latin typeface="Arial"/>
                  </a:rPr>
                  <a:t>s</a:t>
                </a:r>
                <a:r>
                  <a:rPr b="0" lang="it-IT" sz="1800" spc="-1" strike="noStrike" baseline="-25000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7" name="Oval 1046"/>
              <p:cNvSpPr/>
              <p:nvPr/>
            </p:nvSpPr>
            <p:spPr>
              <a:xfrm>
                <a:off x="6934320" y="2819520"/>
                <a:ext cx="761760" cy="76176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8" name="Line 1047"/>
              <p:cNvSpPr/>
              <p:nvPr/>
            </p:nvSpPr>
            <p:spPr>
              <a:xfrm>
                <a:off x="7238880" y="2819520"/>
                <a:ext cx="4572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9" name="Text Box 1048"/>
              <p:cNvSpPr/>
              <p:nvPr/>
            </p:nvSpPr>
            <p:spPr>
              <a:xfrm>
                <a:off x="7093800" y="30481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ff"/>
                    </a:solidFill>
                    <a:latin typeface="Arial"/>
                  </a:rPr>
                  <a:t>s</a:t>
                </a:r>
                <a:r>
                  <a:rPr b="0" lang="it-IT" sz="1800" spc="-1" strike="noStrike" baseline="-25000">
                    <a:solidFill>
                      <a:srgbClr val="0000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40" name="Text Box 1049"/>
              <p:cNvSpPr/>
              <p:nvPr/>
            </p:nvSpPr>
            <p:spPr>
              <a:xfrm>
                <a:off x="1830600" y="32004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41" name="Text Box 1053"/>
              <p:cNvSpPr/>
              <p:nvPr/>
            </p:nvSpPr>
            <p:spPr>
              <a:xfrm>
                <a:off x="1906920" y="5562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cxnSp>
            <p:nvCxnSpPr>
              <p:cNvPr id="142" name="AutoShape 1054"/>
              <p:cNvCxnSpPr>
                <a:stCxn id="124" idx="6"/>
                <a:endCxn id="137" idx="6"/>
              </p:cNvCxnSpPr>
              <p:nvPr/>
            </p:nvCxnSpPr>
            <p:spPr>
              <a:xfrm flipV="1">
                <a:off x="3657600" y="3199680"/>
                <a:ext cx="4039200" cy="2515320"/>
              </a:xfrm>
              <a:prstGeom prst="curvedConnector5">
                <a:avLst>
                  <a:gd name="adj1" fmla="val 105660"/>
                  <a:gd name="adj2" fmla="val 50000"/>
                  <a:gd name="adj3" fmla="val 10566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3" name="AutoShape 1055"/>
              <p:cNvCxnSpPr>
                <a:stCxn id="125" idx="6"/>
                <a:endCxn id="138" idx="0"/>
              </p:cNvCxnSpPr>
              <p:nvPr/>
            </p:nvCxnSpPr>
            <p:spPr>
              <a:xfrm>
                <a:off x="6095520" y="2514240"/>
                <a:ext cx="1143720" cy="3056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4" name="AutoShape 1057"/>
              <p:cNvCxnSpPr>
                <a:stCxn id="126" idx="6"/>
                <a:endCxn id="137" idx="2"/>
              </p:cNvCxnSpPr>
              <p:nvPr/>
            </p:nvCxnSpPr>
            <p:spPr>
              <a:xfrm flipV="1">
                <a:off x="6095520" y="3200040"/>
                <a:ext cx="839160" cy="838800"/>
              </a:xfrm>
              <a:prstGeom prst="curvedConnector5">
                <a:avLst>
                  <a:gd name="adj1" fmla="val 50000"/>
                  <a:gd name="adj2" fmla="val 49978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45" name="Text Box 1058"/>
              <p:cNvSpPr/>
              <p:nvPr/>
            </p:nvSpPr>
            <p:spPr>
              <a:xfrm>
                <a:off x="4122720" y="22096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46" name="Text Box 1059"/>
              <p:cNvSpPr/>
              <p:nvPr/>
            </p:nvSpPr>
            <p:spPr>
              <a:xfrm>
                <a:off x="4122720" y="40384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cxnSp>
            <p:nvCxnSpPr>
              <p:cNvPr id="147" name="AutoShape 1060"/>
              <p:cNvCxnSpPr>
                <a:stCxn id="125" idx="1"/>
                <a:endCxn id="125" idx="7"/>
              </p:cNvCxnSpPr>
              <p:nvPr/>
            </p:nvCxnSpPr>
            <p:spPr>
              <a:xfrm flipH="1" rot="16200000">
                <a:off x="5713920" y="1974240"/>
                <a:ext cx="2520" cy="540720"/>
              </a:xfrm>
              <a:prstGeom prst="curvedConnector5">
                <a:avLst>
                  <a:gd name="adj1" fmla="val -21400000"/>
                  <a:gd name="adj2" fmla="val 49966"/>
                  <a:gd name="adj3" fmla="val -214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48" name="Text Box 1062"/>
              <p:cNvSpPr/>
              <p:nvPr/>
            </p:nvSpPr>
            <p:spPr>
              <a:xfrm>
                <a:off x="5640840" y="5638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49" name="Text Box 1063"/>
              <p:cNvSpPr/>
              <p:nvPr/>
            </p:nvSpPr>
            <p:spPr>
              <a:xfrm>
                <a:off x="6478920" y="3809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50" name="Text Box 1064"/>
              <p:cNvSpPr/>
              <p:nvPr/>
            </p:nvSpPr>
            <p:spPr>
              <a:xfrm>
                <a:off x="6478920" y="2666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</p:grpSp>
    </p:spTree>
  </p:cSld>
  <p:transition>
    <p:wipe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BE97-4C26-4A1E-AFB7-9878FD24B19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Il concetto di linguaggio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Alfabe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insieme finito e non vuoto i cui elementi sono detti SIMBO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String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sequenza di lunghezza qualsiasi di simboli di un alfabe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Stringa vuo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sequenza di lunghezza zero su un qualsiasi alfabeto (è denotata con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0:37:25Z</dcterms:created>
  <dc:creator> </dc:creator>
  <dc:description/>
  <dc:language>en-US</dc:language>
  <cp:lastModifiedBy>Matteo</cp:lastModifiedBy>
  <cp:lastPrinted>2000-02-27T18:44:12Z</cp:lastPrinted>
  <dcterms:modified xsi:type="dcterms:W3CDTF">2008-12-08T23:35:33Z</dcterms:modified>
  <cp:revision>57</cp:revision>
  <dc:subject/>
  <dc:title>Corso di Informatica  per Giurisprudenza Lezion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rofs.sci.univr.it/fummi</vt:lpwstr>
  </property>
  <property fmtid="{D5CDD505-2E9C-101B-9397-08002B2CF9AE}" pid="9" name="LinkColor">
    <vt:r8>16711782</vt:r8>
  </property>
  <property fmtid="{D5CDD505-2E9C-101B-9397-08002B2CF9AE}" pid="10" name="MailAddress">
    <vt:lpwstr>fummi@sci.univr.i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\Franco\SLIDES\VERONA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